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27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3" name="PlaceHolder 2"/>
          <p:cNvSpPr>
            <a:spLocks noGrp="1"/>
          </p:cNvSpPr>
          <p:nvPr>
            <p:ph type="dt" idx="1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7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7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76" name="PlaceHolder 5"/>
          <p:cNvSpPr>
            <a:spLocks noGrp="1"/>
          </p:cNvSpPr>
          <p:nvPr>
            <p:ph type="ftr" idx="20"/>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77" name="PlaceHolder 6"/>
          <p:cNvSpPr>
            <a:spLocks noGrp="1"/>
          </p:cNvSpPr>
          <p:nvPr>
            <p:ph type="sldNum" idx="21"/>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6A99D-C066-4EC6-93EF-06D4A719BCE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D423-0D3B-4517-B05F-42D70BC01C7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ing to a template for the processes involved in facilitating a supervision group will increase the likelihood of good outcomes, without denying the group an opportunity to negotiate their preferred modus operandi.</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B441-0215-4F86-A006-BCC00D7AE9A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for you to know what triggered your client to join a treatment program. Is it because the spouse has left? Has he recently been arrested by the police? Is he scared about the probability of losing his job? Is he being driven out of home by the parents? Or is it because of the death of a close friend by overdose? All these are common reasons evoked by substance users to join a treatment prog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young substance abusers, particularly those who are being forced into treatment, naturally may tend to deny or dismiss the harms caused by their substance use. The client may claim that everything is al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otivated is the client to recover from their substance abuse and related difficul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ir expectations of your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you may seize the opportunity to ask about priorities. Some addicts may say they want their spouse to return home. Other substance users could tell you they are stressed because of their debts or because they have been suspended from work. Their priority is to pay back their debts or they must get their job bac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a sense of their commitment and capability for treatment engagement by asking about their willingness to change and their confidence to chang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6697E-DFED-4B8F-8156-53D0194F5D3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25360" y="68436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certainly have their advantages for case conferencing, but as indicated in the following slide, there is potential for problems associated with such an approach which need to be anticipated and prevented. Small group discussions are an optimal way to integrate in to the routine clinical practice the process of case conferencing. Ideally a small team of four to eight members should spend no more than one and a half to two hours discussing cases that are presented by individual councilors. This will allow three to four cases to be presented in a typical session. An experienced and confident facilitator is necessary to run effective case conferencing gro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hard to define a meeting in a clinical context as a group if it has less than 4 members; more than 8 members will lead to somewhat unwieldy dynamics in such an intensive context (although one cannot be too prescriptive, as a well bonded group of 8 -12 members may work adequately together). One hour is unlikely to be sufficient to cover pressing issues; more than two hours of intensive work may be too taxing. However experienced teams can manage up to three hours duration. Each case should be limited to a discussion of no more than 3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benefits to this process. Importantly counselors learn from each other</a:t>
            </a:r>
            <a:r>
              <a:rPr b="0" lang="ja-JP" sz="1200" spc="-1" strike="noStrike">
                <a:solidFill>
                  <a:srgbClr val="000000"/>
                </a:solidFill>
                <a:latin typeface="Times New Roman"/>
              </a:rPr>
              <a:t>’</a:t>
            </a:r>
            <a:r>
              <a:rPr b="0" lang="en-US" sz="1200" spc="-1" strike="noStrike">
                <a:solidFill>
                  <a:srgbClr val="000000"/>
                </a:solidFill>
                <a:latin typeface="Times New Roman"/>
              </a:rPr>
              <a:t>s capacity and experience and it is a very cost-effective mechanism for providing good support and evaluation. Also counselors who are having difficulties in managing complex cases can be supported by colleagues who may have had similar experienc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8CD4-99B9-4985-80DA-B4D6D5F39C0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hering to a template for the processes involved in facilitating a supervision group will increase the likelihood of good outcomes, without denying the group an opportunity to negotiate their preferred modus operand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10B1A-EEB1-4982-B348-55683EC9B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1B08E-83C5-49A4-BF20-8B2204974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214D4-DE71-47E1-9EE4-535880AAEB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B0D19-9D1B-453C-8B58-FEEA9DAD3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37986-2295-4E89-867A-0DEAEEE05C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54C93-EDE9-433B-9E3F-33B2D355B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B3E42-A362-4CDD-90C4-F7EF48E70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70CEC-B6F4-4A19-99F1-E98A3CADB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E5E0F-2E6F-4F93-9C0B-73C455FBB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9F8C8-456C-49C4-9851-2A5BEEABF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9AE258-93E1-44DD-9EC3-DB166BB72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B173B-DF3B-4604-986C-3E435F777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323C8-6D67-40F4-B780-7B3A75138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55F42-EE47-4AE6-9032-08796D238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006229-E3D7-42FB-8DD4-755E9C356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723A2-8499-40B9-8BEE-63C91DF566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3757C6-FE47-4420-ACB7-7C33F04476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2D4001-2146-4CCC-92AD-C3B51AB9CB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FE07A-47BA-4BAE-B11F-44C3047901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7665FF-CD0D-412F-A15E-58BA27A90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CF29E2-6452-42B1-8D5A-32DE2B2AF9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1FA44D-7347-4AA9-8F53-0E26D6A2C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1A1E9-3A80-41E4-B7FE-1744AE7A8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6B699F-7CD8-447D-95D5-B2736BFF0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9BFA4E-EB68-43EB-AF9C-ACD62D2F4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72847D-AF3A-4AF9-A676-2467C9E81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226D8E-56FF-4CCB-8B23-2375076B3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3D5343-4BA9-4820-B24F-51508A1FFF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9F6BE5-52F0-4E31-8753-0A9CF51141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0EB60E-DC83-4562-81EF-9D8B5908B3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83D1F5-1896-4C01-AA55-5FBC3DE1F5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26568-F6D8-4D95-8987-DCA6A7C246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C3AE3B-0CDA-41D0-BF6F-4FD9C25C84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73E7E7-65B4-490E-9155-75E3F42FD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33C3E-7743-4B90-8B7E-F8491472F1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FE26F9-6483-4FF8-A5A2-8163661E29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F741CE-9E77-4102-8540-0462A1FD59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3FFC2D-8B34-4FF8-9D6A-F77F0971F4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05E7DE-23A7-499B-A1EE-EFC56F6D2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51B5BC-3314-4165-98BA-2E5A72E621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F00AF6-289D-4D2E-A96A-98AE59C314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310E24-FB70-472C-AAE4-B3A1C49B46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1011FB-7B97-4B3F-B076-D9B45663BB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695B36-A6A3-4082-B9D2-7F804E6A1F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95BDAE-4D14-49B0-AD0F-F4FCFF7A2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C00D48-13D6-495F-B699-2516B3512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AB7EE-FFB4-465F-A3CB-106F942390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5752EE-1FB6-46FB-8065-83BDFD0BD0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7AA5A6-865A-4B25-A3B1-C1E55A1E5D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1D79B5-9081-4D64-BA59-CA7D7B5D2F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313F9-2827-4AEB-8D92-8FBA3782EC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31AB6E-45DE-4497-9ECF-FAB1977CD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03C8B8-3847-4DD1-AAB8-9EC712ADD8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B755AC-062B-4668-9D7B-B5E28E24E8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0C8191-E81B-4186-B94B-269520D1D1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1A9F8-48B3-4D29-BF7C-866D4873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DA0FF3-E3B0-4F14-8871-8BACEF2CAD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488EDC-0F21-4A1B-865F-543F074FEC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B72948-68FB-40C2-8492-B0846E901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A2EFE6-7A55-4232-B965-C8AF86F55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A653FE-71D1-4D7C-86A6-5780141019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430A2C-3027-4B03-B925-FB476C93C3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26FE17-B3FA-45BD-AF19-645603DDF7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8F7FFF-94D8-47EA-B781-4B08B389EB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84E932-D118-4662-B425-CA6F05832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54F01A-5B99-4F13-B6E2-25FF10BD82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E9671-6BBC-4079-AAE4-7B2645685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A6F3EE-5544-4BF1-940E-B39B74509C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A23DAB-644D-47E8-8200-9A2E09C337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BAEB7F-45C4-477E-A10D-452F2BF3DA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CFB8-5012-4CA6-89F7-76E66EC3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284F-2759-4813-8354-F2370F663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11.jpe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7.jpeg"/><Relationship Id="rId3" Type="http://schemas.openxmlformats.org/officeDocument/2006/relationships/image" Target="../media/image5.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6DD17-FD78-4B2C-8C6B-95212E939C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A727F-8931-4689-ADE5-B612BF726D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
          <p:cNvPicPr/>
          <p:nvPr/>
        </p:nvPicPr>
        <p:blipFill>
          <a:blip r:embed="rId2"/>
          <a:stretch/>
        </p:blipFill>
        <p:spPr>
          <a:xfrm>
            <a:off x="0" y="958680"/>
            <a:ext cx="9144000" cy="2727360"/>
          </a:xfrm>
          <a:prstGeom prst="rect">
            <a:avLst/>
          </a:prstGeom>
          <a:ln w="0">
            <a:noFill/>
          </a:ln>
        </p:spPr>
      </p:pic>
      <p:pic>
        <p:nvPicPr>
          <p:cNvPr id="83" name="Picture 7" descr=""/>
          <p:cNvPicPr/>
          <p:nvPr/>
        </p:nvPicPr>
        <p:blipFill>
          <a:blip r:embed="rId3"/>
          <a:stretch/>
        </p:blipFill>
        <p:spPr>
          <a:xfrm>
            <a:off x="5477040" y="398520"/>
            <a:ext cx="685800" cy="291960"/>
          </a:xfrm>
          <a:prstGeom prst="rect">
            <a:avLst/>
          </a:prstGeom>
          <a:ln w="0">
            <a:noFill/>
          </a:ln>
        </p:spPr>
      </p:pic>
      <p:pic>
        <p:nvPicPr>
          <p:cNvPr id="84" name="Picture 8" descr=""/>
          <p:cNvPicPr/>
          <p:nvPr/>
        </p:nvPicPr>
        <p:blipFill>
          <a:blip r:embed="rId4"/>
          <a:stretch/>
        </p:blipFill>
        <p:spPr>
          <a:xfrm>
            <a:off x="3032280" y="366840"/>
            <a:ext cx="1238040" cy="366480"/>
          </a:xfrm>
          <a:prstGeom prst="rect">
            <a:avLst/>
          </a:prstGeom>
          <a:ln w="0">
            <a:noFill/>
          </a:ln>
        </p:spPr>
      </p:pic>
      <p:pic>
        <p:nvPicPr>
          <p:cNvPr id="85" name="Picture 9" descr=""/>
          <p:cNvPicPr/>
          <p:nvPr/>
        </p:nvPicPr>
        <p:blipFill>
          <a:blip r:embed="rId5"/>
          <a:stretch/>
        </p:blipFill>
        <p:spPr>
          <a:xfrm>
            <a:off x="330120" y="958680"/>
            <a:ext cx="3371760" cy="2729160"/>
          </a:xfrm>
          <a:prstGeom prst="rect">
            <a:avLst/>
          </a:prstGeom>
          <a:ln w="0">
            <a:noFill/>
          </a:ln>
        </p:spPr>
      </p:pic>
      <p:pic>
        <p:nvPicPr>
          <p:cNvPr id="86" name="Picture 10" descr=""/>
          <p:cNvPicPr/>
          <p:nvPr/>
        </p:nvPicPr>
        <p:blipFill>
          <a:blip r:embed="rId6"/>
          <a:stretch/>
        </p:blipFill>
        <p:spPr>
          <a:xfrm>
            <a:off x="0" y="6105600"/>
            <a:ext cx="9144000" cy="295200"/>
          </a:xfrm>
          <a:prstGeom prst="rect">
            <a:avLst/>
          </a:prstGeom>
          <a:ln w="0">
            <a:noFill/>
          </a:ln>
        </p:spPr>
      </p:pic>
      <p:pic>
        <p:nvPicPr>
          <p:cNvPr id="87" name="Picture 11" descr=""/>
          <p:cNvPicPr/>
          <p:nvPr/>
        </p:nvPicPr>
        <p:blipFill>
          <a:blip r:embed="rId7"/>
          <a:stretch/>
        </p:blipFill>
        <p:spPr>
          <a:xfrm>
            <a:off x="4659480" y="297000"/>
            <a:ext cx="447480" cy="4251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 name="PlaceHolder 3"/>
          <p:cNvSpPr>
            <a:spLocks noGrp="1"/>
          </p:cNvSpPr>
          <p:nvPr>
            <p:ph type="dt" idx="7"/>
          </p:nvPr>
        </p:nvSpPr>
        <p:spPr>
          <a:xfrm>
            <a:off x="456840" y="62643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457200" y="6264360"/>
            <a:ext cx="8229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PlaceHolder 5"/>
          <p:cNvSpPr>
            <a:spLocks noGrp="1"/>
          </p:cNvSpPr>
          <p:nvPr>
            <p:ph type="sldNum" idx="9"/>
          </p:nvPr>
        </p:nvSpPr>
        <p:spPr>
          <a:xfrm>
            <a:off x="6552720" y="6264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473AB-CE98-4D84-AEDF-1901C479205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6" descr=""/>
          <p:cNvPicPr/>
          <p:nvPr/>
        </p:nvPicPr>
        <p:blipFill>
          <a:blip r:embed="rId2"/>
          <a:stretch/>
        </p:blipFill>
        <p:spPr>
          <a:xfrm>
            <a:off x="-34920" y="874800"/>
            <a:ext cx="9144000" cy="39600"/>
          </a:xfrm>
          <a:prstGeom prst="rect">
            <a:avLst/>
          </a:prstGeom>
          <a:ln w="0">
            <a:noFill/>
          </a:ln>
        </p:spPr>
      </p:pic>
      <p:pic>
        <p:nvPicPr>
          <p:cNvPr id="130" name="Picture 7" descr=""/>
          <p:cNvPicPr/>
          <p:nvPr/>
        </p:nvPicPr>
        <p:blipFill>
          <a:blip r:embed="rId3"/>
          <a:stretch/>
        </p:blipFill>
        <p:spPr>
          <a:xfrm>
            <a:off x="0" y="6095880"/>
            <a:ext cx="9144000" cy="295560"/>
          </a:xfrm>
          <a:prstGeom prst="rect">
            <a:avLst/>
          </a:prstGeom>
          <a:ln w="0">
            <a:noFill/>
          </a:ln>
        </p:spPr>
      </p:pic>
      <p:pic>
        <p:nvPicPr>
          <p:cNvPr id="131" name="Picture 8" descr=""/>
          <p:cNvPicPr/>
          <p:nvPr/>
        </p:nvPicPr>
        <p:blipFill>
          <a:blip r:embed="rId4"/>
          <a:stretch/>
        </p:blipFill>
        <p:spPr>
          <a:xfrm>
            <a:off x="2011320" y="6451560"/>
            <a:ext cx="541440" cy="230400"/>
          </a:xfrm>
          <a:prstGeom prst="rect">
            <a:avLst/>
          </a:prstGeom>
          <a:ln w="0">
            <a:noFill/>
          </a:ln>
        </p:spPr>
      </p:pic>
      <p:pic>
        <p:nvPicPr>
          <p:cNvPr id="132" name="Picture 9" descr=""/>
          <p:cNvPicPr/>
          <p:nvPr/>
        </p:nvPicPr>
        <p:blipFill>
          <a:blip r:embed="rId5"/>
          <a:stretch/>
        </p:blipFill>
        <p:spPr>
          <a:xfrm>
            <a:off x="2773440" y="6418440"/>
            <a:ext cx="341280" cy="299880"/>
          </a:xfrm>
          <a:prstGeom prst="rect">
            <a:avLst/>
          </a:prstGeom>
          <a:ln w="0">
            <a:noFill/>
          </a:ln>
        </p:spPr>
      </p:pic>
      <p:pic>
        <p:nvPicPr>
          <p:cNvPr id="133" name="Picture 10" descr=""/>
          <p:cNvPicPr/>
          <p:nvPr/>
        </p:nvPicPr>
        <p:blipFill>
          <a:blip r:embed="rId6"/>
          <a:stretch/>
        </p:blipFill>
        <p:spPr>
          <a:xfrm>
            <a:off x="961920" y="6467400"/>
            <a:ext cx="820800" cy="244440"/>
          </a:xfrm>
          <a:prstGeom prst="rect">
            <a:avLst/>
          </a:prstGeom>
          <a:ln w="0">
            <a:noFill/>
          </a:ln>
        </p:spPr>
      </p:pic>
      <p:pic>
        <p:nvPicPr>
          <p:cNvPr id="134" name="Picture 11" descr=""/>
          <p:cNvPicPr/>
          <p:nvPr/>
        </p:nvPicPr>
        <p:blipFill>
          <a:blip r:embed="rId7"/>
          <a:stretch/>
        </p:blipFill>
        <p:spPr>
          <a:xfrm>
            <a:off x="380880" y="6404040"/>
            <a:ext cx="363600" cy="372960"/>
          </a:xfrm>
          <a:prstGeom prst="rect">
            <a:avLst/>
          </a:prstGeom>
          <a:ln w="0">
            <a:noFill/>
          </a:ln>
        </p:spPr>
      </p:pic>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7"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8"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41AE2-08CC-4FAC-8E6F-7AB4B18695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Picture 6" descr=""/>
          <p:cNvPicPr/>
          <p:nvPr/>
        </p:nvPicPr>
        <p:blipFill>
          <a:blip r:embed="rId2"/>
          <a:stretch/>
        </p:blipFill>
        <p:spPr>
          <a:xfrm>
            <a:off x="0" y="958680"/>
            <a:ext cx="9144000" cy="2727360"/>
          </a:xfrm>
          <a:prstGeom prst="rect">
            <a:avLst/>
          </a:prstGeom>
          <a:ln w="0">
            <a:noFill/>
          </a:ln>
        </p:spPr>
      </p:pic>
      <p:sp>
        <p:nvSpPr>
          <p:cNvPr id="177" name="TextBox 7"/>
          <p:cNvSpPr/>
          <p:nvPr/>
        </p:nvSpPr>
        <p:spPr>
          <a:xfrm>
            <a:off x="330120" y="76320"/>
            <a:ext cx="826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7f7f"/>
                </a:solidFill>
                <a:latin typeface="Calibri"/>
              </a:rPr>
              <a:t>USAID/Sustainable Management of the HIV/AIDS Response and Transition to TA Project (SMART TA)</a:t>
            </a:r>
            <a:endParaRPr b="0" lang="en-US" sz="2400" spc="-1" strike="noStrike">
              <a:solidFill>
                <a:srgbClr val="000000"/>
              </a:solidFill>
              <a:latin typeface="Times New Roman"/>
            </a:endParaRPr>
          </a:p>
        </p:txBody>
      </p:sp>
      <p:pic>
        <p:nvPicPr>
          <p:cNvPr id="178" name="Picture 8" descr=""/>
          <p:cNvPicPr/>
          <p:nvPr/>
        </p:nvPicPr>
        <p:blipFill>
          <a:blip r:embed="rId3"/>
          <a:stretch/>
        </p:blipFill>
        <p:spPr>
          <a:xfrm>
            <a:off x="7659720" y="5667480"/>
            <a:ext cx="541440" cy="231840"/>
          </a:xfrm>
          <a:prstGeom prst="rect">
            <a:avLst/>
          </a:prstGeom>
          <a:ln w="0">
            <a:noFill/>
          </a:ln>
        </p:spPr>
      </p:pic>
      <p:pic>
        <p:nvPicPr>
          <p:cNvPr id="179" name="Picture 9" descr=""/>
          <p:cNvPicPr/>
          <p:nvPr/>
        </p:nvPicPr>
        <p:blipFill>
          <a:blip r:embed="rId4"/>
          <a:stretch/>
        </p:blipFill>
        <p:spPr>
          <a:xfrm>
            <a:off x="8421840" y="5616720"/>
            <a:ext cx="341280" cy="299880"/>
          </a:xfrm>
          <a:prstGeom prst="rect">
            <a:avLst/>
          </a:prstGeom>
          <a:ln w="0">
            <a:noFill/>
          </a:ln>
        </p:spPr>
      </p:pic>
      <p:pic>
        <p:nvPicPr>
          <p:cNvPr id="180" name="Picture 10" descr=""/>
          <p:cNvPicPr/>
          <p:nvPr/>
        </p:nvPicPr>
        <p:blipFill>
          <a:blip r:embed="rId5"/>
          <a:stretch/>
        </p:blipFill>
        <p:spPr>
          <a:xfrm>
            <a:off x="6610320" y="5684760"/>
            <a:ext cx="820800" cy="243000"/>
          </a:xfrm>
          <a:prstGeom prst="rect">
            <a:avLst/>
          </a:prstGeom>
          <a:ln w="0">
            <a:noFill/>
          </a:ln>
        </p:spPr>
      </p:pic>
      <p:pic>
        <p:nvPicPr>
          <p:cNvPr id="181" name="Picture 11" descr=""/>
          <p:cNvPicPr/>
          <p:nvPr/>
        </p:nvPicPr>
        <p:blipFill>
          <a:blip r:embed="rId6"/>
          <a:stretch/>
        </p:blipFill>
        <p:spPr>
          <a:xfrm>
            <a:off x="330120" y="958680"/>
            <a:ext cx="3371760" cy="2729160"/>
          </a:xfrm>
          <a:prstGeom prst="rect">
            <a:avLst/>
          </a:prstGeom>
          <a:ln w="0">
            <a:noFill/>
          </a:ln>
        </p:spPr>
      </p:pic>
      <p:pic>
        <p:nvPicPr>
          <p:cNvPr id="182" name="Picture 12" descr=""/>
          <p:cNvPicPr/>
          <p:nvPr/>
        </p:nvPicPr>
        <p:blipFill>
          <a:blip r:embed="rId7"/>
          <a:stretch/>
        </p:blipFill>
        <p:spPr>
          <a:xfrm>
            <a:off x="0" y="6105600"/>
            <a:ext cx="9144000" cy="295200"/>
          </a:xfrm>
          <a:prstGeom prst="rect">
            <a:avLst/>
          </a:prstGeom>
          <a:ln w="0">
            <a:noFill/>
          </a:ln>
        </p:spPr>
      </p:pic>
      <p:pic>
        <p:nvPicPr>
          <p:cNvPr id="183" name="Picture 13" descr=""/>
          <p:cNvPicPr/>
          <p:nvPr/>
        </p:nvPicPr>
        <p:blipFill>
          <a:blip r:embed="rId8"/>
          <a:stretch/>
        </p:blipFill>
        <p:spPr>
          <a:xfrm>
            <a:off x="6029280" y="5621400"/>
            <a:ext cx="362160" cy="371520"/>
          </a:xfrm>
          <a:prstGeom prst="rect">
            <a:avLst/>
          </a:prstGeom>
          <a:ln w="0">
            <a:noFill/>
          </a:ln>
        </p:spPr>
      </p:pic>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6" name="PlaceHolder 3"/>
          <p:cNvSpPr>
            <a:spLocks noGrp="1"/>
          </p:cNvSpPr>
          <p:nvPr>
            <p:ph type="dt" idx="13"/>
          </p:nvPr>
        </p:nvSpPr>
        <p:spPr>
          <a:xfrm>
            <a:off x="456840" y="626436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7" name="PlaceHolder 4"/>
          <p:cNvSpPr>
            <a:spLocks noGrp="1"/>
          </p:cNvSpPr>
          <p:nvPr>
            <p:ph type="ftr" idx="14"/>
          </p:nvPr>
        </p:nvSpPr>
        <p:spPr>
          <a:xfrm>
            <a:off x="457200" y="6264360"/>
            <a:ext cx="8229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PlaceHolder 5"/>
          <p:cNvSpPr>
            <a:spLocks noGrp="1"/>
          </p:cNvSpPr>
          <p:nvPr>
            <p:ph type="sldNum" idx="15"/>
          </p:nvPr>
        </p:nvSpPr>
        <p:spPr>
          <a:xfrm>
            <a:off x="6552720" y="626436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5AEE6-AF50-48E4-9909-7F56DA2C3FE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6" descr=""/>
          <p:cNvPicPr/>
          <p:nvPr/>
        </p:nvPicPr>
        <p:blipFill>
          <a:blip r:embed="rId2"/>
          <a:stretch/>
        </p:blipFill>
        <p:spPr>
          <a:xfrm>
            <a:off x="-34920" y="874800"/>
            <a:ext cx="9144000" cy="39600"/>
          </a:xfrm>
          <a:prstGeom prst="rect">
            <a:avLst/>
          </a:prstGeom>
          <a:ln w="0">
            <a:noFill/>
          </a:ln>
        </p:spPr>
      </p:pic>
      <p:pic>
        <p:nvPicPr>
          <p:cNvPr id="226" name="Picture 7" descr=""/>
          <p:cNvPicPr/>
          <p:nvPr/>
        </p:nvPicPr>
        <p:blipFill>
          <a:blip r:embed="rId3"/>
          <a:stretch/>
        </p:blipFill>
        <p:spPr>
          <a:xfrm>
            <a:off x="0" y="6095880"/>
            <a:ext cx="9144000" cy="295560"/>
          </a:xfrm>
          <a:prstGeom prst="rect">
            <a:avLst/>
          </a:prstGeom>
          <a:ln w="0">
            <a:noFill/>
          </a:ln>
        </p:spPr>
      </p:pic>
      <p:pic>
        <p:nvPicPr>
          <p:cNvPr id="227" name="Picture 8" descr=""/>
          <p:cNvPicPr/>
          <p:nvPr/>
        </p:nvPicPr>
        <p:blipFill>
          <a:blip r:embed="rId4"/>
          <a:stretch/>
        </p:blipFill>
        <p:spPr>
          <a:xfrm>
            <a:off x="2495520" y="6462720"/>
            <a:ext cx="592200" cy="252360"/>
          </a:xfrm>
          <a:prstGeom prst="rect">
            <a:avLst/>
          </a:prstGeom>
          <a:ln w="0">
            <a:noFill/>
          </a:ln>
        </p:spPr>
      </p:pic>
      <p:pic>
        <p:nvPicPr>
          <p:cNvPr id="228" name="Picture 9" descr=""/>
          <p:cNvPicPr/>
          <p:nvPr/>
        </p:nvPicPr>
        <p:blipFill>
          <a:blip r:embed="rId5"/>
          <a:stretch/>
        </p:blipFill>
        <p:spPr>
          <a:xfrm>
            <a:off x="328680" y="6454800"/>
            <a:ext cx="981000" cy="290520"/>
          </a:xfrm>
          <a:prstGeom prst="rect">
            <a:avLst/>
          </a:prstGeom>
          <a:ln w="0">
            <a:noFill/>
          </a:ln>
        </p:spPr>
      </p:pic>
      <p:pic>
        <p:nvPicPr>
          <p:cNvPr id="229" name="Picture 10" descr=""/>
          <p:cNvPicPr/>
          <p:nvPr/>
        </p:nvPicPr>
        <p:blipFill>
          <a:blip r:embed="rId6"/>
          <a:stretch/>
        </p:blipFill>
        <p:spPr>
          <a:xfrm>
            <a:off x="1704960" y="6402240"/>
            <a:ext cx="380880" cy="362160"/>
          </a:xfrm>
          <a:prstGeom prst="rect">
            <a:avLst/>
          </a:prstGeom>
          <a:ln w="0">
            <a:noFill/>
          </a:ln>
        </p:spPr>
      </p:pic>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3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33"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0BD3-3C2E-4C92-9FB2-D849D4BB9D1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ubTitle"/>
          </p:nvPr>
        </p:nvSpPr>
        <p:spPr>
          <a:xfrm>
            <a:off x="349200" y="3814920"/>
            <a:ext cx="8229600" cy="1301760"/>
          </a:xfrm>
          <a:prstGeom prst="rect">
            <a:avLst/>
          </a:prstGeom>
          <a:noFill/>
          <a:ln w="0">
            <a:noFill/>
          </a:ln>
        </p:spPr>
        <p:txBody>
          <a:bodyPr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1f497d"/>
                </a:solidFill>
                <a:latin typeface="Calibri"/>
                <a:ea typeface="MS PGothic"/>
              </a:rPr>
              <a:t>TRÌNH CA BỆNH CÓ CÁC VẤN ĐỀ CẦN THẢO LUẬN</a:t>
            </a:r>
            <a:endParaRPr b="0" lang="en-US" sz="4000" spc="-1" strike="noStrike">
              <a:solidFill>
                <a:srgbClr val="000000"/>
              </a:solidFill>
              <a:latin typeface="Calibri"/>
            </a:endParaRPr>
          </a:p>
        </p:txBody>
      </p:sp>
      <p:sp>
        <p:nvSpPr>
          <p:cNvPr id="279" name="Subtitle 2"/>
          <p:cNvSpPr/>
          <p:nvPr/>
        </p:nvSpPr>
        <p:spPr>
          <a:xfrm>
            <a:off x="1523880" y="2209680"/>
            <a:ext cx="64008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Subtitle 2"/>
          <p:cNvSpPr/>
          <p:nvPr/>
        </p:nvSpPr>
        <p:spPr>
          <a:xfrm>
            <a:off x="1668600" y="2209680"/>
            <a:ext cx="64008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Subtitle 2"/>
          <p:cNvSpPr/>
          <p:nvPr/>
        </p:nvSpPr>
        <p:spPr>
          <a:xfrm>
            <a:off x="1828800" y="2590920"/>
            <a:ext cx="6400800" cy="1143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TextBox 9"/>
          <p:cNvSpPr/>
          <p:nvPr/>
        </p:nvSpPr>
        <p:spPr>
          <a:xfrm>
            <a:off x="1066680" y="2252520"/>
            <a:ext cx="1828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 picture here</a:t>
            </a:r>
            <a:endParaRPr b="0" lang="en-US" sz="1600" spc="-1" strike="noStrike">
              <a:solidFill>
                <a:srgbClr val="000000"/>
              </a:solidFill>
              <a:latin typeface="Times New Roman"/>
            </a:endParaRPr>
          </a:p>
        </p:txBody>
      </p:sp>
      <p:pic>
        <p:nvPicPr>
          <p:cNvPr id="283" name="Picture 2" descr="https://encrypted-tbn3.gstatic.com/images?q=tbn:ANd9GcR01_ZzXfbH1savlOchj8MduDyrUZ_SQXd5Ixck0oXwjg6qVDZU"/>
          <p:cNvPicPr/>
          <p:nvPr/>
        </p:nvPicPr>
        <p:blipFill>
          <a:blip r:embed="rId1"/>
          <a:stretch/>
        </p:blipFill>
        <p:spPr>
          <a:xfrm>
            <a:off x="380880" y="990720"/>
            <a:ext cx="3353040" cy="2590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304920" y="274320"/>
            <a:ext cx="8229600" cy="563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900" spc="-1" strike="noStrike">
                <a:solidFill>
                  <a:srgbClr val="000000"/>
                </a:solidFill>
                <a:latin typeface="Calibri"/>
                <a:ea typeface="MS PGothic"/>
              </a:rPr>
              <a:t>Thảo luận nhóm:</a:t>
            </a:r>
            <a:r>
              <a:rPr b="1" lang="en-AU" sz="2600" spc="-1" strike="noStrike">
                <a:solidFill>
                  <a:srgbClr val="000000"/>
                </a:solidFill>
                <a:latin typeface="Calibri"/>
                <a:ea typeface="MS PGothic"/>
              </a:rPr>
              <a:t> </a:t>
            </a:r>
            <a:r>
              <a:rPr b="1" lang="en-US" sz="2900" spc="-1" strike="noStrike">
                <a:solidFill>
                  <a:srgbClr val="000000"/>
                </a:solidFill>
                <a:latin typeface="Calibri"/>
                <a:ea typeface="MS PGothic"/>
              </a:rPr>
              <a:t>tiến trình</a:t>
            </a:r>
            <a:br>
              <a:rPr sz="2900"/>
            </a:br>
            <a:endParaRPr b="0" lang="en-US" sz="2900" spc="-1" strike="noStrike">
              <a:solidFill>
                <a:srgbClr val="000000"/>
              </a:solidFill>
              <a:latin typeface="Calibri"/>
            </a:endParaRPr>
          </a:p>
        </p:txBody>
      </p:sp>
      <p:sp>
        <p:nvSpPr>
          <p:cNvPr id="304" name=""/>
          <p:cNvSpPr txBox="1"/>
          <p:nvPr/>
        </p:nvSpPr>
        <p:spPr>
          <a:xfrm>
            <a:off x="304920" y="1036800"/>
            <a:ext cx="8229600" cy="4525920"/>
          </a:xfrm>
          <a:prstGeom prst="rect">
            <a:avLst/>
          </a:prstGeom>
          <a:noFill/>
          <a:ln w="0">
            <a:noFill/>
          </a:ln>
        </p:spPr>
        <p:txBody>
          <a:bodyPr anchor="t">
            <a:normAutofit fontScale="99000"/>
          </a:bodyPr>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iết lập nguyên tắc, nội quy/ cách ứng xử trong nhóm</a:t>
            </a:r>
            <a:endParaRPr b="0" lang="en-US" sz="2800" spc="-1" strike="noStrike">
              <a:solidFill>
                <a:srgbClr val="000000"/>
              </a:solidFill>
              <a:latin typeface="Calibri"/>
            </a:endParaRPr>
          </a:p>
          <a:p>
            <a:pPr lvl="1" marL="735480" indent="-28296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Đồng thời cũng hài hòa được sự đa dạng trong nhóm</a:t>
            </a:r>
            <a:endParaRPr b="0" lang="en-US" sz="2400" spc="-1" strike="noStrike">
              <a:solidFill>
                <a:srgbClr val="000000"/>
              </a:solidFill>
              <a:latin typeface="Calibri"/>
            </a:endParaRPr>
          </a:p>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rình ca lần lượt </a:t>
            </a:r>
            <a:endParaRPr b="0" lang="en-US" sz="2800" spc="-1" strike="noStrike">
              <a:solidFill>
                <a:srgbClr val="000000"/>
              </a:solidFill>
              <a:latin typeface="Calibri"/>
            </a:endParaRPr>
          </a:p>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ập trung vào các giải pháp liên quan đến danh sách các vấn đề hiện tại</a:t>
            </a:r>
            <a:endParaRPr b="0" lang="en-US" sz="2800" spc="-1" strike="noStrike">
              <a:solidFill>
                <a:srgbClr val="000000"/>
              </a:solidFill>
              <a:latin typeface="Calibri"/>
            </a:endParaRPr>
          </a:p>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Thảo luận các lựa chọn và đường hướng sắp tới theo thứ tự ưu tiên</a:t>
            </a:r>
            <a:endParaRPr b="0" lang="en-US" sz="2800" spc="-1" strike="noStrike">
              <a:solidFill>
                <a:srgbClr val="000000"/>
              </a:solidFill>
              <a:latin typeface="Calibri"/>
            </a:endParaRPr>
          </a:p>
          <a:p>
            <a:pPr marL="339480" indent="-339480">
              <a:lnSpc>
                <a:spcPct val="8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MS PGothic"/>
              </a:rPr>
              <a:t>Ghi lại kết quả và phản hồi vào sổ giao ban chuyên môn và biên bản hội chẩn</a:t>
            </a:r>
            <a:endParaRPr b="0" lang="en-US" sz="2800" spc="-1" strike="noStrike">
              <a:solidFill>
                <a:srgbClr val="000000"/>
              </a:solidFill>
              <a:latin typeface="Calibri"/>
            </a:endParaRPr>
          </a:p>
          <a:p>
            <a:pPr lvl="2" marL="1131480" indent="-226080">
              <a:lnSpc>
                <a:spcPct val="80000"/>
              </a:lnSpc>
              <a:spcBef>
                <a:spcPts val="17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Arial Unicode MS"/>
              </a:rPr>
              <a:t>Bối cảnh của ca bệnh</a:t>
            </a:r>
            <a:endParaRPr b="0" lang="en-US" sz="3600" spc="-1" strike="noStrike">
              <a:solidFill>
                <a:srgbClr val="000000"/>
              </a:solidFill>
              <a:latin typeface="Calibri"/>
            </a:endParaRPr>
          </a:p>
        </p:txBody>
      </p:sp>
      <p:sp>
        <p:nvSpPr>
          <p:cNvPr id="306" name=""/>
          <p:cNvSpPr txBox="1"/>
          <p:nvPr/>
        </p:nvSpPr>
        <p:spPr>
          <a:xfrm>
            <a:off x="304920" y="1036800"/>
            <a:ext cx="8229600" cy="4525920"/>
          </a:xfrm>
          <a:prstGeom prst="rect">
            <a:avLst/>
          </a:prstGeom>
          <a:noFill/>
          <a:ln w="0">
            <a:noFill/>
          </a:ln>
        </p:spPr>
        <p:txBody>
          <a:bodyPr anchor="t">
            <a:normAutofit fontScale="98000"/>
          </a:bodyPr>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Lý do người bệnh tìm đến điều trị</a:t>
            </a:r>
            <a:endParaRPr b="0" lang="en-US" sz="31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Mục tiêu của bản thân người bệnh :</a:t>
            </a:r>
            <a:endParaRPr b="0" lang="en-US" sz="31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Ngắn, trung và dài hạn</a:t>
            </a:r>
            <a:endParaRPr b="0" lang="en-US" sz="24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Cam kết điều trị </a:t>
            </a:r>
            <a:r>
              <a:rPr b="0" lang="en-US" sz="3100" spc="-1" strike="noStrike">
                <a:solidFill>
                  <a:srgbClr val="000000"/>
                </a:solidFill>
                <a:latin typeface="Arial Unicode MS"/>
                <a:ea typeface="MS PGothic"/>
              </a:rPr>
              <a:t>	</a:t>
            </a:r>
            <a:r>
              <a:rPr b="0" lang="en-US" sz="3100" spc="-1" strike="noStrike">
                <a:solidFill>
                  <a:srgbClr val="000000"/>
                </a:solidFill>
                <a:latin typeface="Arial Unicode MS"/>
                <a:ea typeface="MS PGothic"/>
              </a:rPr>
              <a:t> </a:t>
            </a:r>
            <a:endParaRPr b="0" lang="en-US" sz="31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Sẵn sàng thay đổi</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Unicode MS"/>
                <a:ea typeface="MS PGothic"/>
              </a:rPr>
              <a:t>Hiểu được tính chất dài hạn của điều trị Methadone</a:t>
            </a:r>
            <a:endParaRPr b="0" lang="en-US" sz="24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Giai đoạn thay đổi hành vi</a:t>
            </a:r>
            <a:endParaRPr b="0" lang="en-US" sz="31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Tuân thủ điều trị</a:t>
            </a:r>
            <a:endParaRPr b="0" lang="en-US" sz="3100" spc="-1" strike="noStrike">
              <a:solidFill>
                <a:srgbClr val="000000"/>
              </a:solidFill>
              <a:latin typeface="Calibri"/>
            </a:endParaRPr>
          </a:p>
          <a:p>
            <a:pPr marL="335880" indent="-3358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Unicode MS"/>
                <a:ea typeface="MS PGothic"/>
              </a:rPr>
              <a:t>Tiền sử mối quan hệ của người bệnh với nhân viên phòng khám</a:t>
            </a:r>
            <a:endParaRPr b="0" lang="en-US" sz="31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B1510-8E48-4D0E-B0A6-3695704CAD93}" type="slidenum">
              <a:rPr b="0" lang="en-AU" sz="1400" spc="-1" strike="noStrike">
                <a:solidFill>
                  <a:srgbClr val="ffffff"/>
                </a:solidFill>
                <a:latin typeface="Times New Roman"/>
                <a:ea typeface="MS PGothic"/>
              </a:rPr>
              <a:t>&lt;number&gt;</a:t>
            </a:fld>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1f497d"/>
                </a:solidFill>
                <a:latin typeface="Calibri"/>
              </a:rPr>
              <a:t>Định hướng trong thảo luận ca bệnh</a:t>
            </a:r>
            <a:endParaRPr b="0" lang="en-US" sz="3200" spc="-1" strike="noStrike">
              <a:solidFill>
                <a:srgbClr val="000000"/>
              </a:solidFill>
              <a:latin typeface="Calibri"/>
            </a:endParaRPr>
          </a:p>
        </p:txBody>
      </p:sp>
      <p:sp>
        <p:nvSpPr>
          <p:cNvPr id="309" name=""/>
          <p:cNvSpPr txBox="1"/>
          <p:nvPr/>
        </p:nvSpPr>
        <p:spPr>
          <a:xfrm>
            <a:off x="304920" y="103680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ea typeface="MS PGothic"/>
              </a:rPr>
              <a:t>Danh sách các vấn đề cần thảo luận</a:t>
            </a: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ea typeface="MS PGothic"/>
              </a:rPr>
              <a:t>Các vấn đề</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ea typeface="MS PGothic"/>
              </a:rPr>
              <a:t>Các can thiệp đã thực hiện</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Unicode MS"/>
                <a:ea typeface="MS PGothic"/>
              </a:rPr>
              <a:t>Đáp ứng với can thiệp thế nào?</a:t>
            </a:r>
            <a:endParaRPr b="0" lang="en-US" sz="28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ea typeface="MS PGothic"/>
              </a:rPr>
              <a:t>Thảo luận về mục tiêu thực tế (không phải là mục tiêu hoàn hảo)</a:t>
            </a:r>
            <a:endParaRPr b="0" lang="en-US" sz="3200" spc="-1" strike="noStrike">
              <a:solidFill>
                <a:srgbClr val="000000"/>
              </a:solidFill>
              <a:latin typeface="Calibri"/>
            </a:endParaRPr>
          </a:p>
          <a:p>
            <a:pPr marL="332640" indent="-3326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Unicode MS"/>
                <a:ea typeface="MS PGothic"/>
              </a:rPr>
              <a:t>Bất kể trường hợp này cũng có thể đưa ra thảo luận nếu có ai trong nhóm điều trị thấy có vấn đề quan tâm. </a:t>
            </a:r>
            <a:endParaRPr b="0" lang="en-US" sz="3200" spc="-1" strike="noStrike">
              <a:solidFill>
                <a:srgbClr val="000000"/>
              </a:solidFill>
              <a:latin typeface="Calibri"/>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C7C55-4FC3-43EB-B100-BDA85FA43E77}" type="slidenum">
              <a:rPr b="0" lang="en-AU" sz="1400" spc="-1" strike="noStrike">
                <a:solidFill>
                  <a:srgbClr val="ffffff"/>
                </a:solidFill>
                <a:latin typeface="Times New Roman"/>
                <a:ea typeface="MS PGothic"/>
              </a:rPr>
              <a:t>&lt;number&gt;</a:t>
            </a:fld>
            <a:endParaRPr b="0" lang="en-US" sz="1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Các vấn đề phổ biến và ví dụ</a:t>
            </a:r>
            <a:endParaRPr b="0" lang="en-US" sz="3200" spc="-1" strike="noStrike">
              <a:solidFill>
                <a:srgbClr val="000000"/>
              </a:solidFill>
              <a:latin typeface="Calibri"/>
            </a:endParaRPr>
          </a:p>
        </p:txBody>
      </p:sp>
      <p:graphicFrame>
        <p:nvGraphicFramePr>
          <p:cNvPr id="312" name=""/>
          <p:cNvGraphicFramePr/>
          <p:nvPr/>
        </p:nvGraphicFramePr>
        <p:xfrm>
          <a:off x="304920" y="914400"/>
          <a:ext cx="8839080" cy="5253120"/>
        </p:xfrm>
        <a:graphic>
          <a:graphicData uri="http://schemas.openxmlformats.org/drawingml/2006/table">
            <a:tbl>
              <a:tblPr/>
              <a:tblGrid>
                <a:gridCol w="2403360"/>
                <a:gridCol w="2994120"/>
                <a:gridCol w="3441600"/>
              </a:tblGrid>
              <a:tr h="42228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Vấn đề</a:t>
                      </a:r>
                      <a:endParaRPr b="0" lang="en-US" sz="18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hững giải pháp có hiệu quả</a:t>
                      </a:r>
                      <a:endParaRPr b="0" lang="en-US" sz="18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hững giải pháp thất bại</a:t>
                      </a:r>
                      <a:endParaRPr b="0" lang="en-US" sz="18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31112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ử dụng Methamphetamine</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hông</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ư vấn</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ọa bị bắt</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o đổi với gia đình</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hóm dự phòng tái nghiện (không tham gia)</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7816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ỏ lỡ liều</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ọi điện thoại nhắc đến uống cho ngày hôm sau</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ư vấn</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ay đổi thời gian uống thuốc</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71568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áu giận &amp; kích thích</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ỉ muốn trao đổi với 1 tư vấn viên trong phòng khám</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ấn đề trong hôn nhân</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ích trao đổi với tư vấn viên</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ợ từ chối không đến PK</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h ta ăn cắp tiền của gia đình</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7924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ức dậy vào nửa đêm</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ống quá nhiều rượu bia</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ăng liều methadone cho bệnh nhân</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067040">
                <a:tc>
                  <a:txBody>
                    <a:bodyPr lIns="87480" rIns="87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ử dụng Heroin 1-3 lần trong tháng. Không chắc chắn về việc sử dụng Methamphetamine</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Kết quả xét nghiệm nước tiểu (+)</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87480" rIns="87480" anchor="t">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ánh đưa mẫu nước tiểu</a:t>
                      </a:r>
                      <a:endParaRPr b="0" lang="en-US" sz="16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Đã bị bắt gặp cho thêm chất bột vào nước tiểu</a:t>
                      </a:r>
                      <a:endParaRPr b="0" lang="en-US" sz="1600" spc="-1" strike="noStrike">
                        <a:solidFill>
                          <a:srgbClr val="000000"/>
                        </a:solidFill>
                        <a:latin typeface="Times New Roman"/>
                      </a:endParaRPr>
                    </a:p>
                  </a:txBody>
                  <a:tcPr anchor="t" marL="87480" marR="8748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1f497d"/>
                </a:solidFill>
                <a:latin typeface="Calibri"/>
              </a:rPr>
              <a:t>Tóm tắt</a:t>
            </a:r>
            <a:endParaRPr b="0" lang="en-US" sz="3200" spc="-1" strike="noStrike">
              <a:solidFill>
                <a:srgbClr val="000000"/>
              </a:solidFill>
              <a:latin typeface="Calibri"/>
            </a:endParaRPr>
          </a:p>
        </p:txBody>
      </p:sp>
      <p:sp>
        <p:nvSpPr>
          <p:cNvPr id="314" name=""/>
          <p:cNvSpPr txBox="1"/>
          <p:nvPr/>
        </p:nvSpPr>
        <p:spPr>
          <a:xfrm>
            <a:off x="304920" y="1036800"/>
            <a:ext cx="8229600" cy="49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MS PGothic"/>
              </a:rPr>
              <a:t>Không đổ lỗi cho nhân viên về các hành vi có vấn đề do người bệnh thực hiện. Ví dụ, tái sử dụng/tái nghiện có thể xảy ra ở tất cả các bệnh nhân trong một thời điểm nào đó.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MS PGothic"/>
              </a:rPr>
              <a:t>Nhân viên có trách nhiệm thực hiện kế hoạch can thiệp (nhưng không bị đổ lỗi nếu kế hoạch đó không có tác dụ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ea typeface="MS PGothic"/>
              </a:rPr>
              <a:t>Một số hành vi không thể được dung thứ và cần phải có kỷ luật (chất dứt điều trị hoặc thử thách). Những quyết định này do nhóm quyết định: </a:t>
            </a:r>
            <a:endParaRPr b="0" lang="en-US" sz="24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MS PGothic"/>
              </a:rPr>
              <a:t>Đe dọa nhân viên cơ sở điều trị. Hành động bạo lực.</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MS PGothic"/>
              </a:rPr>
              <a:t>Ăn cắp trong khuôn viên của cơ sở </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MS PGothic"/>
              </a:rPr>
              <a:t>Tuồn thuốc methadone ra ngoài</a:t>
            </a:r>
            <a:endParaRPr b="0" lang="en-US" sz="2000" spc="-1" strike="noStrike">
              <a:solidFill>
                <a:srgbClr val="000000"/>
              </a:solidFill>
              <a:latin typeface="Calibri"/>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MS PGothic"/>
              </a:rPr>
              <a:t>Buôn bán ma túy trong cơ sở điều trị</a:t>
            </a:r>
            <a:endParaRPr b="0" lang="en-US" sz="2000" spc="-1" strike="noStrike">
              <a:solidFill>
                <a:srgbClr val="000000"/>
              </a:solidFill>
              <a:latin typeface="Calibri"/>
            </a:endParaRPr>
          </a:p>
        </p:txBody>
      </p:sp>
      <p:sp>
        <p:nvSpPr>
          <p:cNvPr id="31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223D1-DE1A-47C5-8DC3-332013D9A007}" type="slidenum">
              <a:rPr b="0" lang="en-AU" sz="1400" spc="-1" strike="noStrike">
                <a:solidFill>
                  <a:srgbClr val="ffffff"/>
                </a:solidFill>
                <a:latin typeface="Times New Roman"/>
                <a:ea typeface="MS PGothic"/>
              </a:rPr>
              <a:t>&lt;number&gt;</a:t>
            </a:fld>
            <a:endParaRPr b="0" lang="en-US" sz="1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1f497d"/>
                </a:solidFill>
                <a:latin typeface="Calibri"/>
              </a:rPr>
              <a:t>Mục tiêu</a:t>
            </a:r>
            <a:endParaRPr b="0" lang="en-US" sz="3200" spc="-1" strike="noStrike">
              <a:solidFill>
                <a:srgbClr val="000000"/>
              </a:solidFill>
              <a:latin typeface="Calibri"/>
            </a:endParaRPr>
          </a:p>
        </p:txBody>
      </p:sp>
      <p:sp>
        <p:nvSpPr>
          <p:cNvPr id="285" name=""/>
          <p:cNvSpPr txBox="1"/>
          <p:nvPr/>
        </p:nvSpPr>
        <p:spPr>
          <a:xfrm>
            <a:off x="304920" y="10368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Thực hành trình ca bệnh trong 5 phút</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Đây là phần giới thiệu về ca bệnh. Cần phải trình bầy cần </a:t>
            </a:r>
            <a:r>
              <a:rPr b="1" lang="en-US" sz="2000" spc="-1" strike="noStrike">
                <a:solidFill>
                  <a:srgbClr val="000000"/>
                </a:solidFill>
                <a:latin typeface="Calibri"/>
                <a:ea typeface="MS PGothic"/>
              </a:rPr>
              <a:t>TRỌNG TÂM</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Giúp chỉ rõ cho người nghe vấn đề của người bệnh nằm ở đâu và vì sao vẫn chưa được giải quyết</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Người tham gia thảo luận ca bệnh sẽ hỏi thêm các câu hỏi để người trình ca sẽ cho biết thêm chi tiết sau khi đã giới thiệu tóm tắt ca bệnh.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MS PGothic"/>
              </a:rPr>
              <a:t>Những mong đợi thực tế trong thảo luận ca bệnh:</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Một số vấn đề không có câu giải đáp thỏa đáng. Một số hành vi (như sử dụng ma túy) có thể vẫn tiếp diễn mặc dù đã sử dụng đủ mọi hình thức can thiệp. </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Nhân viên cơ sở chịu trách nhiệm cho điều họ làm. Họ không chịu trách nhiệm về vấn đề bệnh nhân vẫn tiếp tục thực hiện. </a:t>
            </a:r>
            <a:endParaRPr b="0" lang="en-US" sz="2000" spc="-1" strike="noStrike">
              <a:solidFill>
                <a:srgbClr val="000000"/>
              </a:solidFill>
              <a:latin typeface="Calibri"/>
            </a:endParaRPr>
          </a:p>
        </p:txBody>
      </p:sp>
      <p:sp>
        <p:nvSpPr>
          <p:cNvPr id="2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ADAAB-1ED4-4CD0-A670-A5414F03957C}" type="slidenum">
              <a:rPr b="0" lang="en-AU" sz="1400" spc="-1" strike="noStrike">
                <a:solidFill>
                  <a:srgbClr val="ffffff"/>
                </a:solidFill>
                <a:latin typeface="Times New Roman"/>
                <a:ea typeface="MS PGothic"/>
              </a:rPr>
              <a:t>&lt;number&gt;</a:t>
            </a:fld>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Calibri"/>
              </a:rPr>
              <a:t>Lý do vì sao cần có thảo luận ca bệnh</a:t>
            </a:r>
            <a:endParaRPr b="0" lang="en-US" sz="3600" spc="-1" strike="noStrike">
              <a:solidFill>
                <a:srgbClr val="000000"/>
              </a:solidFill>
              <a:latin typeface="Calibri"/>
            </a:endParaRPr>
          </a:p>
        </p:txBody>
      </p:sp>
      <p:sp>
        <p:nvSpPr>
          <p:cNvPr id="288" name=""/>
          <p:cNvSpPr txBox="1"/>
          <p:nvPr/>
        </p:nvSpPr>
        <p:spPr>
          <a:xfrm>
            <a:off x="304920" y="1036800"/>
            <a:ext cx="8229600" cy="4525920"/>
          </a:xfrm>
          <a:prstGeom prst="rect">
            <a:avLst/>
          </a:prstGeom>
          <a:noFill/>
          <a:ln w="0">
            <a:noFill/>
          </a:ln>
        </p:spPr>
        <p:txBody>
          <a:bodyPr anchor="t">
            <a:norm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MS PGothic"/>
              </a:rPr>
              <a:t>Chuẩn mực chăm sóc cho người bệnh: </a:t>
            </a:r>
            <a:br>
              <a:rPr sz="2200"/>
            </a:br>
            <a:r>
              <a:rPr b="0" lang="en-US" sz="2200" spc="-1" strike="noStrike">
                <a:solidFill>
                  <a:srgbClr val="000000"/>
                </a:solidFill>
                <a:latin typeface="Calibri"/>
                <a:ea typeface="MS PGothic"/>
              </a:rPr>
              <a:t>Thảo luận định kỳ một tuần 1 lần trong nhóm nhân viên của cơ sở điều trị</a:t>
            </a:r>
            <a:endParaRPr b="0" lang="en-US" sz="22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4-8 nhân viên trong 1.5 giờ</a:t>
            </a:r>
            <a:br>
              <a:rPr sz="1900"/>
            </a:br>
            <a:r>
              <a:rPr b="0" lang="en-US" sz="1900" spc="-1" strike="noStrike">
                <a:solidFill>
                  <a:srgbClr val="000000"/>
                </a:solidFill>
                <a:latin typeface="Calibri"/>
                <a:ea typeface="MS PGothic"/>
              </a:rPr>
              <a:t>(Toàn bộ nhân viên:  bác sĩ, tư vấn viên, dược sĩ, điều dưỡng, cán bộ hành chính)</a:t>
            </a:r>
            <a:endParaRPr b="0" lang="en-US" sz="19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ea typeface="MS PGothic"/>
              </a:rPr>
              <a:t>Lợi ích:</a:t>
            </a:r>
            <a:endParaRPr b="0" lang="en-US" sz="22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Đối với người bệnh: Phối hợp chăm sóc điều trị tốt hơn cho người bệnh</a:t>
            </a:r>
            <a:endParaRPr b="0" lang="en-US" sz="19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Với nhân viên: Học hỏi kinh nghiệm lẫn nhau, chi phí hiệu quả, hỗ trợ, phát triển nghề nghiệp. </a:t>
            </a:r>
            <a:endParaRPr b="0" lang="en-US" sz="19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Mong muốn một cách thực tế một số hành vi người bệnh có thể thay đổi. </a:t>
            </a:r>
            <a:endParaRPr b="0" lang="en-US" sz="1900" spc="-1" strike="noStrike">
              <a:solidFill>
                <a:srgbClr val="000000"/>
              </a:solidFill>
              <a:latin typeface="Calibri"/>
            </a:endParaRPr>
          </a:p>
          <a:p>
            <a:pPr lvl="1" marL="1244520" indent="-433440">
              <a:lnSpc>
                <a:spcPct val="90000"/>
              </a:lnSpc>
              <a:spcBef>
                <a:spcPts val="476"/>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ea typeface="MS PGothic"/>
              </a:rPr>
              <a:t>Quyết định do nhóm điều trị đưa ra (như chấm dứt dừng điều trị hoặc cho thử thách một thời gian)</a:t>
            </a:r>
            <a:endParaRPr b="0" lang="en-US" sz="1900" spc="-1" strike="noStrike">
              <a:solidFill>
                <a:srgbClr val="000000"/>
              </a:solidFill>
              <a:latin typeface="Calibri"/>
            </a:endParaRPr>
          </a:p>
          <a:p>
            <a:pPr lvl="1" marL="1244520" indent="-43344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5" descr="complete-puzzle-under-magnifying-glass.jpg"/>
          <p:cNvPicPr/>
          <p:nvPr/>
        </p:nvPicPr>
        <p:blipFill>
          <a:blip r:embed="rId1"/>
          <a:stretch/>
        </p:blipFill>
        <p:spPr>
          <a:xfrm>
            <a:off x="7086600" y="0"/>
            <a:ext cx="2057400" cy="2057400"/>
          </a:xfrm>
          <a:prstGeom prst="rect">
            <a:avLst/>
          </a:prstGeom>
          <a:ln w="0">
            <a:noFill/>
          </a:ln>
        </p:spPr>
      </p:pic>
      <p:sp>
        <p:nvSpPr>
          <p:cNvPr id="290"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Calibri"/>
              </a:rPr>
              <a:t>5 phút giới thiệu về ca bệnh</a:t>
            </a:r>
            <a:endParaRPr b="0" lang="en-US" sz="3200" spc="-1" strike="noStrike">
              <a:solidFill>
                <a:srgbClr val="000000"/>
              </a:solidFill>
              <a:latin typeface="Calibri"/>
            </a:endParaRPr>
          </a:p>
        </p:txBody>
      </p:sp>
      <p:sp>
        <p:nvSpPr>
          <p:cNvPr id="291" name=""/>
          <p:cNvSpPr txBox="1"/>
          <p:nvPr/>
        </p:nvSpPr>
        <p:spPr>
          <a:xfrm>
            <a:off x="304920" y="10368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Đầu tiên, nói về vấn đề của người bệnh.</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    </a:t>
            </a:r>
            <a:r>
              <a:rPr b="0" lang="en-US" sz="2400" spc="-1" strike="noStrike">
                <a:solidFill>
                  <a:srgbClr val="000000"/>
                </a:solidFill>
                <a:latin typeface="Calibri"/>
                <a:ea typeface="MS PGothic"/>
              </a:rPr>
              <a:t>T ập trung vào một phần của câu chuyệ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Không trình bầy mọi thông tin mà bạn biết về ca bệnh đó.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Hỏi câu hỏi mà bạn muốn mọi người sẽ giải đáp giúp cho ca bệnh nà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Mô tả những giải pháp đã thực hiện, những can thiệp nào có hiệu quả và không có hiệu quả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Nêu các can thiệp của cá nhân bạn với trường hợp này. </a:t>
            </a:r>
            <a:endParaRPr b="0" lang="en-US" sz="24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52280" y="151920"/>
            <a:ext cx="876312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Unicode MS"/>
              </a:rPr>
              <a:t>Ai là người có vấn đề khó khăn: người bệnh hay NVYT ? </a:t>
            </a:r>
            <a:endParaRPr b="0" lang="en-US" sz="2600" spc="-1" strike="noStrike">
              <a:solidFill>
                <a:srgbClr val="000000"/>
              </a:solidFill>
              <a:latin typeface="Calibri"/>
            </a:endParaRPr>
          </a:p>
        </p:txBody>
      </p:sp>
      <p:sp>
        <p:nvSpPr>
          <p:cNvPr id="293" name=""/>
          <p:cNvSpPr txBox="1"/>
          <p:nvPr/>
        </p:nvSpPr>
        <p:spPr>
          <a:xfrm>
            <a:off x="304920" y="1036800"/>
            <a:ext cx="8229600" cy="45259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MS PGothic"/>
              </a:rPr>
              <a:t>Các vấn đề khó khăn phổ biến cho nhân viên:</a:t>
            </a:r>
            <a:endParaRPr b="0" lang="en-US" sz="28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Tiếp tục sử dụng ma túy bất hợp pháp (thường người bệnh không cho đó là vấn đề, đặc biệt đối với việc sử dụng methamphetamine) </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Từ chối hợp tác xét nghiệm nước tiểu</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Không tham gia lịch hẹn tư vấn cá nhân hay lịch giáo dục nhóm</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Các triệu chứng bất thường hoặc tác dụng không mong muốn</a:t>
            </a:r>
            <a:endParaRPr b="0" lang="en-US" sz="2400" spc="-1" strike="noStrike">
              <a:solidFill>
                <a:srgbClr val="000000"/>
              </a:solidFill>
              <a:latin typeface="Calibri"/>
            </a:endParaRPr>
          </a:p>
          <a:p>
            <a:pPr lvl="1" marL="727920" indent="-280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MS PGothic"/>
              </a:rPr>
              <a:t>Không thích hoặc sợ một bệnh nhân nào đó</a:t>
            </a:r>
            <a:endParaRPr b="0" lang="en-US" sz="2400" spc="-1" strike="noStrike">
              <a:solidFill>
                <a:srgbClr val="000000"/>
              </a:solidFill>
              <a:latin typeface="Calibri"/>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846D-2466-4B44-884C-F360FB5A2D81}" type="slidenum">
              <a:rPr b="0" lang="en-US" sz="1200" spc="-1" strike="noStrike">
                <a:solidFill>
                  <a:srgbClr val="898989"/>
                </a:solidFill>
                <a:latin typeface="Times New Roman"/>
                <a:ea typeface="MS PGothic"/>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ea typeface="MS PGothic"/>
              </a:rPr>
              <a:t>Ví dụ về trình bầy có trọng tâm</a:t>
            </a:r>
            <a:endParaRPr b="0" lang="en-US" sz="2900" spc="-1" strike="noStrike">
              <a:solidFill>
                <a:srgbClr val="000000"/>
              </a:solidFill>
              <a:latin typeface="Calibri"/>
            </a:endParaRPr>
          </a:p>
        </p:txBody>
      </p:sp>
      <p:sp>
        <p:nvSpPr>
          <p:cNvPr id="296" name=""/>
          <p:cNvSpPr txBox="1"/>
          <p:nvPr/>
        </p:nvSpPr>
        <p:spPr>
          <a:xfrm>
            <a:off x="304920" y="1036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MS PGothic"/>
              </a:rPr>
              <a:t>Sử dụng ma túy bất hợp pháp</a:t>
            </a:r>
            <a:endParaRPr b="0" lang="en-US" sz="32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Kiểu sử dụng ma túy đó là gì?</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Những lợi ích, khoái cảm mà ma túy đó đem lại cho người bệnh? Vì sao anh ta lại thích ma túy đó?Trong tình huống nào? Với ai?</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ần xuất xét nghiệm nước tiểu như thế nào?</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ạn có xét nghiệm các loại ma túy khác ngoài opioid không?</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ạn có nghĩ là người bệnh thực sự muốn dừng sử dụng ma túy không?</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ea typeface="MS PGothic"/>
              </a:rPr>
              <a:t>Ví dụ về trình bầy có trọng tâm</a:t>
            </a:r>
            <a:endParaRPr b="0" lang="en-US" sz="2900" spc="-1" strike="noStrike">
              <a:solidFill>
                <a:srgbClr val="000000"/>
              </a:solidFill>
              <a:latin typeface="Calibri"/>
            </a:endParaRPr>
          </a:p>
        </p:txBody>
      </p:sp>
      <p:sp>
        <p:nvSpPr>
          <p:cNvPr id="298" name=""/>
          <p:cNvSpPr txBox="1"/>
          <p:nvPr/>
        </p:nvSpPr>
        <p:spPr>
          <a:xfrm>
            <a:off x="304920" y="1036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MS PGothic"/>
              </a:rPr>
              <a:t>Từ chối hợp tác</a:t>
            </a:r>
            <a:endParaRPr b="0" lang="en-US" sz="32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Người bệnh có chỉ từ chối xét nghiệm hoặc anh ta cũng cố tình né tránh lịch tư vấn?</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Vì sao bạn không thể làm anh ấy hợp tác hơn nữa?</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ó hậu quả gì cho người bệnh nếu anh ta không hợp tác chưa?</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Trong lúc gặp với riêng bệnh nhân, bạn có cảm thấy an toàn không?</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Các nhân viên khác có e ngại hoặc sợ sệt bệnh nhân không?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27432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1f497d"/>
                </a:solidFill>
                <a:latin typeface="Calibri"/>
                <a:ea typeface="MS PGothic"/>
              </a:rPr>
              <a:t>Ví dụ về trình bầy có trọng tâm</a:t>
            </a:r>
            <a:endParaRPr b="0" lang="en-US" sz="2900" spc="-1" strike="noStrike">
              <a:solidFill>
                <a:srgbClr val="000000"/>
              </a:solidFill>
              <a:latin typeface="Calibri"/>
            </a:endParaRPr>
          </a:p>
        </p:txBody>
      </p:sp>
      <p:sp>
        <p:nvSpPr>
          <p:cNvPr id="300" name=""/>
          <p:cNvSpPr txBox="1"/>
          <p:nvPr/>
        </p:nvSpPr>
        <p:spPr>
          <a:xfrm>
            <a:off x="304920" y="10368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MS PGothic"/>
              </a:rPr>
              <a:t>Bệnh nhân cáu giận</a:t>
            </a:r>
            <a:endParaRPr b="0" lang="en-US" sz="28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ệnh nhân có luôn cáu giận không, hoặc chỉ khi đối đầu với nhân viên?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ệnh nhân có gây khó chịu với bệnh nhân khác không?</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ệnh nhân đã thực sự đe dọa… hoặc chỉ ám chỉ thôi?</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ạn có cảm thấy sợ hãi khi phải làm việc với bệnh nhân đó không? </a:t>
            </a:r>
            <a:endParaRPr b="0" lang="en-US" sz="2400" spc="-1" strike="noStrike">
              <a:solidFill>
                <a:srgbClr val="000000"/>
              </a:solidFill>
              <a:latin typeface="Calibri"/>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MS PGothic"/>
              </a:rPr>
              <a:t>Bạn có biết hành vi vi phạm pháp luật nào của bệnh nhân không (như là buôn bán ma túy)?</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274320"/>
            <a:ext cx="8229600" cy="563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ea typeface="MS PGothic"/>
              </a:rPr>
              <a:t>Tầm quan trọng của thảo luận ca</a:t>
            </a:r>
            <a:endParaRPr b="0" lang="en-US" sz="2900" spc="-1" strike="noStrike">
              <a:solidFill>
                <a:srgbClr val="000000"/>
              </a:solidFill>
              <a:latin typeface="Calibri"/>
            </a:endParaRPr>
          </a:p>
        </p:txBody>
      </p:sp>
      <p:sp>
        <p:nvSpPr>
          <p:cNvPr id="302" name=""/>
          <p:cNvSpPr txBox="1"/>
          <p:nvPr/>
        </p:nvSpPr>
        <p:spPr>
          <a:xfrm>
            <a:off x="304920" y="1036800"/>
            <a:ext cx="8229600" cy="4525920"/>
          </a:xfrm>
          <a:prstGeom prst="rect">
            <a:avLst/>
          </a:prstGeom>
          <a:noFill/>
          <a:ln w="0">
            <a:noFill/>
          </a:ln>
        </p:spPr>
        <p:txBody>
          <a:bodyPr anchor="t">
            <a:normAutofit fontScale="99000"/>
          </a:bodyPr>
          <a:p>
            <a:pPr marL="339480" indent="-3394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Yêu cầu:</a:t>
            </a:r>
            <a:endParaRPr b="0" lang="en-US" sz="32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Họp thảo luận ca bệnh là yêu cầu về chuyên môn tương tự giao ban chuyên môn trong bệnh viên</a:t>
            </a:r>
            <a:endParaRPr b="0" lang="en-US" sz="20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Tần suất: hàng tuần, có sổ ghi chép, biên bản hội chẩn</a:t>
            </a:r>
            <a:endParaRPr b="0" lang="en-US" sz="20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Là 1 trong những chỉ tiêu đánh giá chất lượng điều trị</a:t>
            </a:r>
            <a:endParaRPr b="0" lang="en-US" sz="2000" spc="-1" strike="noStrike">
              <a:solidFill>
                <a:srgbClr val="000000"/>
              </a:solidFill>
              <a:latin typeface="Calibri"/>
            </a:endParaRPr>
          </a:p>
          <a:p>
            <a:pPr marL="339480" indent="-3394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MS PGothic"/>
              </a:rPr>
              <a:t>Lợi ích:</a:t>
            </a:r>
            <a:endParaRPr b="0" lang="en-US" sz="32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Đối với người bệnh: Tăng cường chăm sóc, hỗ trợ kế hoạch giải quyết vấn đề</a:t>
            </a:r>
            <a:endParaRPr b="0" lang="en-US" sz="2000" spc="-1" strike="noStrike">
              <a:solidFill>
                <a:srgbClr val="000000"/>
              </a:solidFill>
              <a:latin typeface="Calibri"/>
            </a:endParaRPr>
          </a:p>
          <a:p>
            <a:pPr lvl="1" marL="735480" indent="-28296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MS PGothic"/>
              </a:rPr>
              <a:t>Đối với cơ sở điều trị: Nắm bệnh nhân tốt hơn, chia sẻ giữa các thành viên, gắn kết nhóm điều trị</a:t>
            </a:r>
            <a:endParaRPr b="0" lang="en-US" sz="2000" spc="-1" strike="noStrike">
              <a:solidFill>
                <a:srgbClr val="000000"/>
              </a:solidFill>
              <a:latin typeface="Calibri"/>
            </a:endParaRPr>
          </a:p>
          <a:p>
            <a:pPr lvl="2" marL="1131480" indent="-22608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2T15:51:58Z</dcterms:created>
  <dc:creator>robert ali</dc:creator>
  <dc:description/>
  <dc:language>en-US</dc:language>
  <cp:lastModifiedBy>Windows User</cp:lastModifiedBy>
  <dcterms:modified xsi:type="dcterms:W3CDTF">2017-11-16T08:51:05Z</dcterms:modified>
  <cp:revision>200</cp:revision>
  <dc:subject/>
  <dc:title>No Slide Title</dc:title>
</cp:coreProperties>
</file>