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FD5-44EF-4AA3-B675-81D29384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FA53-4F59-4DD9-9EE0-982D173A6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98C43B-5452-434D-945E-E84851DD737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98A4-2BF7-42DB-9ECF-CBBA77DF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818B-AC07-4738-BCB0-F3EB2972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02EB4C-D9D5-48A2-BFD7-F08DBF48885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08C-B047-4222-AFFF-F8D18B4B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E7DCF6-1461-4409-9E28-8E105DC5E6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scuss Lim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5E3A-4363-4E41-AFBB-9481D81A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2333-B91C-4BC2-AA60-645E33190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ime in treatment is one factor, many will never attain stab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ed to consider all of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7A55-31B2-4ECE-8772-56929EED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3F95B6-183B-4EE4-928D-50C3EB3A417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F7A1-D77A-44C5-B05F-9DDB8E45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9DA921-3A89-4459-9E91-45DC426FD70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atients not be aware of ALL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A320-0111-4353-B66D-178B7AF6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D732-46ED-4C8E-9939-E42F4DF5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83C743-0661-4DD5-86AE-448AFABBFAB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arying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road based 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lative v absol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Places and times better to be unstable than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32B-DFBA-4D7E-8A7E-E4AA8D2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BB4-45C1-490A-8F43-BC0B8034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EAF-B413-49D1-B855-62ED3394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16-3899-4899-BC03-115DF734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C26-A1CD-4632-8C72-CA8C7AB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12A-1E8A-4F4B-A0BE-487253EC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530-B32F-48D6-ABD4-9C3CFA3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283-4791-4486-9B69-B54C7BEC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12E-9068-482A-87DF-23496736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EE8-647F-4675-99F5-F97F4E00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F80-C9A2-492B-9769-D9BF424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CBE-F121-42BC-BDAD-B551EB3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172-400D-4CBD-9DE0-680935E73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ư vấn và hỗ trợ trong giai đoạn duy trì liề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ử dụng ổn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định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không có nguy c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55640" y="170028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ử dụng ổn định không có nguy cơ l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tiêm chích chất gây nghiện hoặc sử dụng CDTP &gt; 2-4 lần/thá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ó khả năng duy trì công việc/học tậ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lệ thuộc/dùng nhiều thuốc hướng thần khá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biểu hiện quá liều khi uống thuốc v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ó hành vi nguy cơ liên quan đến quá liề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ử dụng chất gây nghiệ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ự báo cáo về việc sử dụng chất gây ng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ăm khám lâm sàng (kiểm tra ven, các dấu hiệu lạm dụng rượ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chỉ số thực thể và sức kho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biểu hiện phê/say CGN (kiểm tra với nhân viên tư vấn và nhân viên cấp thuố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àng lọc bằng xét nghiệm nước tiểu ngẫu nhiê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Xét nghiệm chức năng gan có thể có ích trong việc theo dõi sử dụng rượ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ff"/>
                </a:solidFill>
                <a:latin typeface="Arial"/>
              </a:rPr>
              <a:t>Chứng thự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85800" y="174456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ff"/>
                </a:solidFill>
                <a:latin typeface="Arial"/>
              </a:rPr>
              <a:t>Sự chứng thực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à rất quan trọng đối với việc đánh giá sử dụng chất gây ngh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 algn="just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u thập thông tin từ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ân viên cấp thuốc tại phòng kh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ược s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Tư vấn viên, nhân viên quản lý trường hợ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ác nhân viên y tế kh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ệ thống tư phá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ƯỚC TIỂ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28600" y="1944720"/>
            <a:ext cx="8763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ó ích khi phối hợp với tự báo cáo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Xét nghiệm ngẫu nhiên sẽ tốt h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hìn chung, một mẫu nước tiểu cần được cung cấp trong vòng 24 giờ kể từ khi yêu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ác hạn ch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Ổn định về thể chất và tâm lý-xã hộ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3636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ự báo cá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ông tin chứng thực từ gia đình/người quản lý lao động/các cơ sở chăm sóc y tế khá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Đến phòng khám, hành vi và sự hiện diện tại phòng kh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uân thủ điều tr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ần xuất tham gia các buổi đánh giá và tư vấ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ức độ tham gia điều tr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ác lần bị quá liều hoặc bị từ chối cho uống thuố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 ngại về các vấn đề sức khỏe tâm thầ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Ổn định về nơi ăn chốn 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iệc làm, tham gia vào các quan hệ xã hội và gia đì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ác vấn đề liên quan đến các hành vi phạm tộ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ư vấn, truyền đạt các kỹ năng, kỹ thuật giúp người bệnh dự phòng tái nghiệ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ỹ năng từ chố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ỹ năng đối phó với cơn thèm nh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sự căng th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sự nóng gi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ản lý tiền b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ân thủ điều trị và củng cố động cơ điều tr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áo dục về tầm quan trọng của tuân thủ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giá định kỳ về tuân thủ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ỏng vấn tạo động lực – duy trì và củng cố động cơ điều tr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êu gọi sự tham gia và hỗ trợ của gia đ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en ngợi, khuyến khích những kết quả đã đạt đượ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Đặt mục tiêu và lập kế ho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ục tiêu trung hạn và dà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ệc là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lại niềm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ây dựng mối quan hệ mới, bạn bè mớ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 đình, con c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ây dựng kế hoạch người bệnh sẽ thực hiện để đạt được mục tiê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ới sự định hướng và hỗ trợ của tư vấn viên và 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uyến khí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m gia nhóm tự hỗ tr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khuyến khích s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ỗ trợ của gia đ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ết lu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y trì là giai đoạn dài nhất trong quá trình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ần hỗ trợ KH để liên tục củng cố và duy trì động cơ điều trị - tuân thủ điều trị - ổn định về thuốc, chất gây nghiện và tâm lý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giải quyết các vấn đề khó khăn, đặt mục tiêu và lập kế hoạch để có cuộc sống ổn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ái hòa nhậ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ao gồm việc làm) là 2 nội dung trọng tâm trong giai đoạn nà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dựa trên cơ sở tự nguyện. Tần xuất tư vấn tùy thuộc vào nhu cầu của người bệ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iai đoạn duy trì: Mục tiê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ánh giá  tính ổn định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ự phòng tái ngh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úp người bệnh tuân thủ điều trị - củng cố động cơ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ục tiêu trung hạn và dài hạn: việc làm, mối quan hệ, tái hòa nhập cộng đồ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ỗ trợ tâm lý, giải thích các vấn đề lo lắng của bệnh n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iai đoạn duy trì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ác hoạt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9440" y="1752480"/>
            <a:ext cx="8113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́c buổi đánh giá toàn diện về tuân thủ điều trị và tâm lý xã hộ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buổi tư vấn về dự phòng tái ngh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 vấn về giải quyết vấn đề và đặt mục tiêu, tác dụng không mong muốn và xử tr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yển gửi các dịch vụ điều trị và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m gia của gia đình, nhóm hỗ trợ xã h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ủng cố và duy trì động cơ điều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228600" y="1219320"/>
            <a:ext cx="8664480" cy="5453640"/>
            <a:chOff x="228600" y="1219320"/>
            <a:chExt cx="8664480" cy="5453640"/>
          </a:xfrm>
        </p:grpSpPr>
        <p:grpSp>
          <p:nvGrpSpPr>
            <p:cNvPr id="54" name="Group 3"/>
            <p:cNvGrpSpPr/>
            <p:nvPr/>
          </p:nvGrpSpPr>
          <p:grpSpPr>
            <a:xfrm>
              <a:off x="1547640" y="1219320"/>
              <a:ext cx="6553080" cy="990360"/>
              <a:chOff x="1547640" y="1219320"/>
              <a:chExt cx="6553080" cy="990360"/>
            </a:xfrm>
          </p:grpSpPr>
          <p:sp>
            <p:nvSpPr>
              <p:cNvPr id="55" name="AutoShape 4"/>
              <p:cNvSpPr/>
              <p:nvPr/>
            </p:nvSpPr>
            <p:spPr>
              <a:xfrm>
                <a:off x="1547640" y="1219320"/>
                <a:ext cx="6553080" cy="990360"/>
              </a:xfrm>
              <a:prstGeom prst="rightArrow">
                <a:avLst>
                  <a:gd name="adj1" fmla="val 53843"/>
                  <a:gd name="adj2" fmla="val 163492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5"/>
              <p:cNvSpPr/>
              <p:nvPr/>
            </p:nvSpPr>
            <p:spPr>
              <a:xfrm>
                <a:off x="1618920" y="1436400"/>
                <a:ext cx="541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Thời gian trong điều tr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6"/>
            <p:cNvGrpSpPr/>
            <p:nvPr/>
          </p:nvGrpSpPr>
          <p:grpSpPr>
            <a:xfrm>
              <a:off x="228600" y="1976400"/>
              <a:ext cx="8664480" cy="4696560"/>
              <a:chOff x="228600" y="1976400"/>
              <a:chExt cx="8664480" cy="4696560"/>
            </a:xfrm>
          </p:grpSpPr>
          <p:sp>
            <p:nvSpPr>
              <p:cNvPr id="58" name="Oval 7"/>
              <p:cNvSpPr/>
              <p:nvPr/>
            </p:nvSpPr>
            <p:spPr>
              <a:xfrm>
                <a:off x="228600" y="2709720"/>
                <a:ext cx="1752480" cy="1066320"/>
              </a:xfrm>
              <a:prstGeom prst="ellipse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ội phạ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2124000" y="2023920"/>
                <a:ext cx="2303640" cy="1142640"/>
              </a:xfrm>
              <a:prstGeom prst="ellipse">
                <a:avLst/>
              </a:pr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ập huấn xin việ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9"/>
              <p:cNvSpPr/>
              <p:nvPr/>
            </p:nvSpPr>
            <p:spPr>
              <a:xfrm>
                <a:off x="4572000" y="2047680"/>
                <a:ext cx="2087640" cy="114264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Mối quan hệ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Gia đì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0"/>
              <p:cNvSpPr/>
              <p:nvPr/>
            </p:nvSpPr>
            <p:spPr>
              <a:xfrm>
                <a:off x="228600" y="4233600"/>
                <a:ext cx="2438280" cy="10663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Nơi ăn chốn ở/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Phúc lợi X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11"/>
              <p:cNvSpPr/>
              <p:nvPr/>
            </p:nvSpPr>
            <p:spPr>
              <a:xfrm>
                <a:off x="2411280" y="5000040"/>
                <a:ext cx="1752840" cy="12189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ức khỏ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inh thầ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12"/>
              <p:cNvSpPr/>
              <p:nvPr/>
            </p:nvSpPr>
            <p:spPr>
              <a:xfrm>
                <a:off x="4211640" y="5288760"/>
                <a:ext cx="1752480" cy="99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ức khỏ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hực th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3"/>
              <p:cNvSpPr/>
              <p:nvPr/>
            </p:nvSpPr>
            <p:spPr>
              <a:xfrm>
                <a:off x="6659640" y="5000040"/>
                <a:ext cx="2133360" cy="115200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Sử dụng ma tú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utoShape 14"/>
              <p:cNvSpPr/>
              <p:nvPr/>
            </p:nvSpPr>
            <p:spPr>
              <a:xfrm>
                <a:off x="4716360" y="4136760"/>
                <a:ext cx="1905120" cy="8377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ffffff"/>
                    </a:solidFill>
                    <a:latin typeface="Times New Roman"/>
                  </a:rPr>
                  <a:t>ổn địn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5"/>
              <p:cNvSpPr/>
              <p:nvPr/>
            </p:nvSpPr>
            <p:spPr>
              <a:xfrm>
                <a:off x="3352680" y="4081320"/>
                <a:ext cx="4343400" cy="0"/>
              </a:xfrm>
              <a:prstGeom prst="line">
                <a:avLst/>
              </a:prstGeom>
              <a:ln w="95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6"/>
              <p:cNvSpPr/>
              <p:nvPr/>
            </p:nvSpPr>
            <p:spPr>
              <a:xfrm>
                <a:off x="1295280" y="537624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7"/>
              <p:cNvSpPr/>
              <p:nvPr/>
            </p:nvSpPr>
            <p:spPr>
              <a:xfrm>
                <a:off x="914400" y="537624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8"/>
              <p:cNvSpPr/>
              <p:nvPr/>
            </p:nvSpPr>
            <p:spPr>
              <a:xfrm>
                <a:off x="2743200" y="324288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9"/>
              <p:cNvSpPr/>
              <p:nvPr/>
            </p:nvSpPr>
            <p:spPr>
              <a:xfrm>
                <a:off x="609480" y="385272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0"/>
              <p:cNvSpPr/>
              <p:nvPr/>
            </p:nvSpPr>
            <p:spPr>
              <a:xfrm>
                <a:off x="7164360" y="622404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1"/>
              <p:cNvSpPr/>
              <p:nvPr/>
            </p:nvSpPr>
            <p:spPr>
              <a:xfrm>
                <a:off x="4572000" y="6368400"/>
                <a:ext cx="106668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2"/>
              <p:cNvSpPr/>
              <p:nvPr/>
            </p:nvSpPr>
            <p:spPr>
              <a:xfrm>
                <a:off x="5181480" y="324288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3"/>
              <p:cNvSpPr/>
              <p:nvPr/>
            </p:nvSpPr>
            <p:spPr>
              <a:xfrm>
                <a:off x="2771640" y="6297120"/>
                <a:ext cx="1067040" cy="0"/>
              </a:xfrm>
              <a:prstGeom prst="line">
                <a:avLst/>
              </a:prstGeom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24"/>
              <p:cNvSpPr/>
              <p:nvPr/>
            </p:nvSpPr>
            <p:spPr>
              <a:xfrm>
                <a:off x="7524720" y="6224040"/>
                <a:ext cx="304920" cy="3042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25"/>
              <p:cNvSpPr/>
              <p:nvPr/>
            </p:nvSpPr>
            <p:spPr>
              <a:xfrm>
                <a:off x="5562720" y="324288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AutoShape 26"/>
              <p:cNvSpPr/>
              <p:nvPr/>
            </p:nvSpPr>
            <p:spPr>
              <a:xfrm>
                <a:off x="990720" y="3852720"/>
                <a:ext cx="304560" cy="30420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AutoShape 27"/>
              <p:cNvSpPr/>
              <p:nvPr/>
            </p:nvSpPr>
            <p:spPr>
              <a:xfrm>
                <a:off x="3124080" y="324288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28"/>
              <p:cNvSpPr/>
              <p:nvPr/>
            </p:nvSpPr>
            <p:spPr>
              <a:xfrm>
                <a:off x="4859280" y="6368400"/>
                <a:ext cx="30492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AutoShape 29"/>
              <p:cNvSpPr/>
              <p:nvPr/>
            </p:nvSpPr>
            <p:spPr>
              <a:xfrm>
                <a:off x="3059280" y="6368400"/>
                <a:ext cx="304560" cy="30456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30"/>
              <p:cNvSpPr/>
              <p:nvPr/>
            </p:nvSpPr>
            <p:spPr>
              <a:xfrm>
                <a:off x="3564000" y="3560400"/>
                <a:ext cx="4267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lang="en-AU" sz="2400" spc="-1" strike="noStrike">
                    <a:solidFill>
                      <a:srgbClr val="ffffff"/>
                    </a:solidFill>
                    <a:latin typeface="Times New Roman"/>
                  </a:rPr>
                  <a:t>S     T     A     B     L     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31"/>
              <p:cNvSpPr/>
              <p:nvPr/>
            </p:nvSpPr>
            <p:spPr>
              <a:xfrm>
                <a:off x="6804000" y="1976400"/>
                <a:ext cx="2016000" cy="1655640"/>
              </a:xfrm>
              <a:prstGeom prst="ellipse">
                <a:avLst/>
              </a:prstGeom>
              <a:solidFill>
                <a:srgbClr val="a6f8a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Text Box 32"/>
              <p:cNvSpPr/>
              <p:nvPr/>
            </p:nvSpPr>
            <p:spPr>
              <a:xfrm>
                <a:off x="6948360" y="2481120"/>
                <a:ext cx="1944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Thuốc điều tr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93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Các yếu tố góp phần ổn định của bệnh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ài tập thảo luậ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UỐ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ghĩa là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ử Dụng C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ghĩa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óm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về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âm Lý Xã Hộ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hĩa l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hững vấn đề chính của tính ổn đị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52480" y="20574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uố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ử dụng chất gây nghiệ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1080" indent="-452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âm lý xã hộ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1409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11280" y="1557360"/>
            <a:ext cx="79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iều tối ưu đối với bệnh nhân là MỘT LIỀU đủ đ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.  Loại bỏ sự khó chịu của hội chứng cai trong suốt khoảng thời gian giữa các lần uống thuố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. Giúp giảm đáng kể hoặc chấm dứt cơn thèm nh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. Khóa tác động sử dụng dẫn chất thuốc phiện mà không gây ra độc tính hoặc tác dụng phụ đáng kể n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ệnh nhân uống thuốc với liều lượng không đổi trong ít nhất 4 tuần mới được coi là ổn định 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tabLst>
                <a:tab algn="l" pos="0"/>
                <a:tab algn="l" pos="8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33520" y="2286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Ổn định về thuố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33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ác dụng của điều trị Methadone liều tối ư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43000" y="4876920"/>
            <a:ext cx="26668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0-40 m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3809880" y="3886200"/>
            <a:ext cx="2590920" cy="2286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400800" y="2666880"/>
            <a:ext cx="251460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gt; 60-80 m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8"/>
          <p:cNvSpPr/>
          <p:nvPr/>
        </p:nvSpPr>
        <p:spPr>
          <a:xfrm>
            <a:off x="4724280" y="4038480"/>
            <a:ext cx="762120" cy="18288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0"/>
          <p:cNvCxnSpPr/>
          <p:nvPr/>
        </p:nvCxnSpPr>
        <p:spPr>
          <a:xfrm flipV="1">
            <a:off x="762120" y="2133360"/>
            <a:ext cx="2160" cy="4039200"/>
          </a:xfrm>
          <a:prstGeom prst="straightConnector1">
            <a:avLst/>
          </a:prstGeom>
          <a:ln w="228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TextBox 11"/>
          <p:cNvSpPr/>
          <p:nvPr/>
        </p:nvSpPr>
        <p:spPr>
          <a:xfrm>
            <a:off x="1528200" y="3962520"/>
            <a:ext cx="23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hông có biể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iện c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3873600" y="2971800"/>
            <a:ext cx="228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iảm đáng k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hèm nh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6860880" y="1752480"/>
            <a:ext cx="20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ác đ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Khóa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8380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iề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7315200" y="4038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534520" y="638172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99"/>
                </a:solidFill>
                <a:latin typeface="Arial"/>
              </a:rPr>
              <a:t>Ổn định về sử dụng chất gây nghiện là gì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04920" y="148428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Không có mức độ sử dụng CGN cố định nào được coi là ổn định cho mọi bệnh nhân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Lý tưởng = không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sử dụng chất gây nghiệ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rên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</a:rPr>
              <a:t>thực tế ổn định về sử dụng CGN có nghĩa là khô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Gây hại cho người sử dụ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Đặt họ vào tình huống nguy c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Ngăn cản tác dụng điều tr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ần hướng tớ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Chấm dứt hoặc </a:t>
            </a:r>
            <a:r>
              <a:rPr b="0" lang="en-AU" sz="2400" spc="-1" strike="noStrike">
                <a:solidFill>
                  <a:srgbClr val="3333ff"/>
                </a:solidFill>
                <a:latin typeface="Arial"/>
                <a:ea typeface="Arial"/>
              </a:rPr>
              <a:t>giảm đáng kể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việc sử dụng her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Việc sử dụng không liên quan đến các tác hại khác của chất gây nghiệ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Không sử dụng thuốc sai mục đí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1:44:20Z</dcterms:created>
  <dc:creator>To Nhu</dc:creator>
  <dc:description/>
  <dc:language>en-US</dc:language>
  <cp:lastModifiedBy>Admin</cp:lastModifiedBy>
  <dcterms:modified xsi:type="dcterms:W3CDTF">2013-08-12T10:47:01Z</dcterms:modified>
  <cp:revision>21</cp:revision>
  <dc:subject/>
  <dc:title>Slide 1</dc:title>
</cp:coreProperties>
</file>