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189DC8-A2F0-4C61-BFE6-029141642F23}"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F93B84-F0B9-4C95-A82D-64D0DF032F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iảng viên: Chào mừng các học viên đến lớp học và mời học viên ngồi sao cho họ cảm thấy thoải mái.</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ảo đảm là bạn đã sắp xếp phòng học sẵn sàng. Tài liệu để sẵn trên bàn gồm:</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1. Biển tên</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2. Bút viết bảng và bút viết</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3. Tài liệu phát tay</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4. Sổ ghi chép</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ố trí lớp học sao cho thuận lợi cho việc trao đổi thảo luận giữa các học viên. Quyết định xem có nên bố trí dưới dạng lớp học như ở trường học, ghế xếp thành hình tròn hay hình chữ U để học viên có thể quan sát và trao đổi với nhau một cách thoải mái. Đồng thời cần bảo đảm học viên có thể nhìn rõ nội dung chiếu trên bản chiếu slide cho dù họ ngồi ở vị trí nào trong lớp học.</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huẩn bị sẵn sàng cho tất cả các việc hậu cần – nghĩa là kết nối máy chiếu LCD, màn hình và máy laptop ít nhất là 30 phút trước khi lớp học bắt đầu để đảm bảo máy móc hoạt động không có trục trặc gì.</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uôn luôn mang đến đủ số lượng tài liệu phát tay cho học viên. Ngoài ra, nếu không may máy chiếu LCD và máy laptop hoạt động thì bạn vẫn có thể tiến hành giảng bài bằng cách sử dụng các tài liệu phát tay.</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ếu bài học này là một bài riêng rẽ thì bổ sung câu nói dưới đây trong phần mở đầu.</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uối cùng, thực hiện phần các quy định của lớp học: đây là phần các giảng viên và học viên cùng thảo luận với nhau tại lớp. Nội quy chính thức của lớp học là do giảng viên quyết định. Một số nội quy có thể như sau:</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ôn trọng ý kiến nhận xét của các học viên khác</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i cũng có quyền nói lên quan điểm của mình</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Nếu có câu hỏi học viên có thể hỏi bất cứ lúc nào trong quá trình giảng</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ắt chuông điện thoại di động</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hỉ kiểm tra email và tin nhắn trong giờ nghỉ giải lao</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ếu bài học này là phần tiếp tục của các bài học khác trong khóa học thì </a:t>
            </a:r>
            <a:r>
              <a:rPr b="0" lang="en-US" sz="1100" spc="-1" strike="noStrike">
                <a:solidFill>
                  <a:srgbClr val="000000"/>
                </a:solidFill>
                <a:latin typeface="Calibri"/>
              </a:rPr>
              <a:t>NÓI,</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ói:</a:t>
            </a:r>
            <a:r>
              <a:rPr b="1" i="1" lang="en-US" sz="1100" spc="-1" strike="noStrike">
                <a:solidFill>
                  <a:srgbClr val="000000"/>
                </a:solidFill>
                <a:latin typeface="Calibri"/>
              </a:rPr>
              <a:t> </a:t>
            </a:r>
            <a:r>
              <a:rPr b="0" i="1" lang="en-US" sz="1100" spc="-1" strike="noStrike">
                <a:solidFill>
                  <a:srgbClr val="000000"/>
                </a:solidFill>
                <a:latin typeface="Calibri"/>
              </a:rPr>
              <a:t>Trong bài này, chúng ta sẽ cùng nhau trao đổi cụ thể về các kĩ năng tư vấn. Bài tiếp theo sẽ thảo luận về kĩ thuật tư vấn. Bài học này cũng sẽ giúp phân biệt giữa kĩ năng và kĩ thuật tư vấn. Bài này rất dài nên chúng ta sẽ có 10 phút nghỉ giải lao giữa bài.  </a:t>
            </a:r>
            <a:endParaRPr b="0" lang="en-US" sz="1100" spc="-1" strike="noStrike">
              <a:solidFill>
                <a:srgbClr val="000000"/>
              </a:solidFill>
              <a:latin typeface="Calibri"/>
            </a:endParaRPr>
          </a:p>
        </p:txBody>
      </p:sp>
      <p:sp>
        <p:nvSpPr>
          <p:cNvPr id="1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A54DDE-FA4E-4941-9EC8-E466F5B8AA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04840" y="696960"/>
            <a:ext cx="4648320" cy="3486240"/>
          </a:xfrm>
          <a:prstGeom prst="rect">
            <a:avLst/>
          </a:prstGeom>
          <a:ln w="0">
            <a:noFill/>
          </a:ln>
        </p:spPr>
      </p:sp>
      <p:sp>
        <p:nvSpPr>
          <p:cNvPr id="13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 </a:t>
            </a:r>
            <a:r>
              <a:rPr b="1" lang="en-US" sz="500" spc="-1" strike="noStrike">
                <a:solidFill>
                  <a:srgbClr val="000000"/>
                </a:solidFill>
                <a:latin typeface="Calibri"/>
              </a:rPr>
              <a:t>Nói: </a:t>
            </a:r>
            <a:r>
              <a:rPr b="0" i="1" lang="en-US" sz="500" spc="-1" strike="noStrike">
                <a:solidFill>
                  <a:srgbClr val="000000"/>
                </a:solidFill>
                <a:latin typeface="Calibri"/>
              </a:rPr>
              <a:t>Diễn đạt là một kĩ năng rất hữu ích giúp cho khách hàng biết được rằng bạn đã nghe hết những gì họ vừa nói. Diễn đạt cũng giúp bạn tóm tắt lại những thông tin phức tạp theo cách mà cả tư vấn viên và khách hàng cùng có thể sử dụng để cân nhắc xem nên làm gì tiếp sau đó.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Diễn đạt giúp khách hàng suy nghĩ thấu đáo hơn về một vấn đề mà bạn nhận định là rất quan trọng, vì bạn đã “tua lại” những lời họ nói. Khách hàng có thời gian để nghĩ về những gì họ vừa nói ra. Việc nhắc lại những thông điệp quan trọng sẽ mang lại tác động lớn hơn so với khi khách hàng tự nói, vì nó nhấn mạnh những vấn đề họ cần giải quyết. Để thể hiện câu diễn đạt, bạn có thể bắt đầu bằng:  “Bạn đã nói là...”.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Thông tin tham khảo: </a:t>
            </a:r>
            <a:r>
              <a:rPr b="0" lang="en-US" sz="500" spc="-1" strike="noStrike">
                <a:solidFill>
                  <a:srgbClr val="000000"/>
                </a:solidFill>
                <a:latin typeface="Calibri"/>
              </a:rPr>
              <a:t>Để phân biệt được giữa diễn đạt và tóm tắt, bạn có thể đặt mình trong tình huống bạn đi xem phim với một người bạn. Trong khi xem phim, người bạn ấy không nghe rõ một câu mà diễn viên nói và quay sang hỏi bạn “Người diễn viên đó vừa nói gì?” Sau đó bạn trả lời người bạn đó rằng người diễn viên ấy nói... Bạn sẽ không nhắc nguyên văn từng lời mà nhắc lại lời nói của diễn viên bằng những từ ngữ khác nhưng vẫn giữ nghĩa của câu càng chính xác càng tốt. Đó là diễn đạt.</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Kĩ năng này khác với kĩ năng tóm tắt ở chỗ, như trong tình huống này, khi bạn xem phim xong rồi về nhà, người bạn cùng phòng của bạn hỏi: "Bộ phim như thế nào?" Bạn kể các chi tiết và hoạt động chính của bộ phim với người bạn đó theo trình tự. Đó là tóm tắt - nghĩa là không nhắc lại chính xác tất cả các đoạn hội thoại trong phim.</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Chương II  -  Bài 2.4</a:t>
            </a:r>
            <a:r>
              <a:rPr b="0" i="1" lang="en-US" sz="500" spc="-1" strike="noStrike">
                <a:solidFill>
                  <a:srgbClr val="000000"/>
                </a:solidFill>
                <a:latin typeface="Calibri"/>
              </a:rPr>
              <a:t>	</a:t>
            </a:r>
            <a:r>
              <a:rPr b="0" i="1" lang="en-US" sz="500" spc="-1" strike="noStrike">
                <a:solidFill>
                  <a:srgbClr val="000000"/>
                </a:solidFill>
                <a:latin typeface="Calibri"/>
              </a:rPr>
              <a:t>77</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 </a:t>
            </a:r>
            <a:endParaRPr b="0" lang="en-US" sz="500" spc="-1" strike="noStrike">
              <a:solidFill>
                <a:srgbClr val="000000"/>
              </a:solidFill>
              <a:latin typeface="Calibri"/>
            </a:endParaRPr>
          </a:p>
        </p:txBody>
      </p:sp>
      <p:sp>
        <p:nvSpPr>
          <p:cNvPr id="13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308E0C-BC7D-405B-89D1-28B39BE65A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4840" y="696960"/>
            <a:ext cx="4648320" cy="3486240"/>
          </a:xfrm>
          <a:prstGeom prst="rect">
            <a:avLst/>
          </a:prstGeom>
          <a:ln w="0">
            <a:noFill/>
          </a:ln>
        </p:spPr>
      </p:sp>
      <p:sp>
        <p:nvSpPr>
          <p:cNvPr id="13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r>
              <a:rPr b="1" lang="en-US" sz="800" spc="-1" strike="noStrike">
                <a:solidFill>
                  <a:srgbClr val="000000"/>
                </a:solidFill>
                <a:latin typeface="Calibri"/>
              </a:rPr>
              <a:t>Nói:</a:t>
            </a:r>
            <a:r>
              <a:rPr b="1" i="1" lang="en-US" sz="800" spc="-1" strike="noStrike">
                <a:solidFill>
                  <a:srgbClr val="000000"/>
                </a:solidFill>
                <a:latin typeface="Calibri"/>
              </a:rPr>
              <a:t> </a:t>
            </a:r>
            <a:r>
              <a:rPr b="0" i="1" lang="en-US" sz="800" spc="-1" strike="noStrike">
                <a:solidFill>
                  <a:srgbClr val="000000"/>
                </a:solidFill>
                <a:latin typeface="Calibri"/>
              </a:rPr>
              <a:t>Việc tóm tắt lại giúp tư vấn viên duy trì được định hướng của buổi tư vấn. Tóm tắt giúp sắp xếp lại những vấn đề được thảo luận trong buổi tư vấn. Nhiều khi khách hàng cung cấp thông tin về nhiều chủ đề và nhiều quan điểm khác nhau nhưng lại không theo một trật tự nào cả. Khi đó bạn có thể giúp họ hệ thống hóa lại thông tin bằng cách tóm tắt lại những gì họ vừa nói. Sau đó, bạn có thể kết nối thông tin đã được tóm tắt với một câu hỏi mở tiếp theo để kéo họ quay trở lại vấn đề mà bạn muốn thảo luận. Tóm tắt cũng giúp cho tư vấn viên kết thúc buổi tư vấn một cách tự nhiên hoặc giúp tập trung vào một vấn đề khi vẫn ghi nhận sự tồn tại của những vấn đề khác.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Tóm tắt có giúp ích gì cho khách hàng không?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Chắc chắn là có! Tóm tắt tạo cơ hội cho khách hàng hiểu rõ ý nghĩa của những thông tin họ đang nói tới và nhận biết được sự chuyển biến và tiến triển trong nội dung thảo luận giữa họ và tư vấn viê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Thỉnh thoảng tóm tắt lại thông tin sẽ giúp kết nối giữa những nội dung vừa được trao đổi, thể hiện cho khách hàng thấy là bạn đang lắng nghe, và giúp chỉ ra những điểm chưa rõ ràng.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Tóm tắt giúp làm rõ mục đích và ý nghĩa của buổi thảo luận. Bạn cũng có thể qua đó gợi thêm được thông tin và tạo cơ hội để khách hàng lắng nghe được những suy nghĩ của bản thân. Tóm tắt có thể làm rõ những vấn đề còn mơ hồ bằng cách nối kết những điểm có lợi và những điểm có hại của việc sử dụng ma túy trong cùng một câu nói. Ví dụ, bạn có thể nói: “Một mặt thì ..., mặt khác ...”.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Tóm tắt cuối buổi tư vấn sẽ giúp tổng hợp một cách rõ ràng và súc tích tất cả những gì đã diễn ra trong buổi tư vấ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Luôn tự hỏi: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1" marL="457200">
              <a:lnSpc>
                <a:spcPct val="80000"/>
              </a:lnSpc>
              <a:spcBef>
                <a:spcPts val="30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800" spc="-1" strike="noStrike">
                <a:solidFill>
                  <a:srgbClr val="000000"/>
                </a:solidFill>
                <a:latin typeface="Calibri"/>
              </a:rPr>
              <a:t>Kết quả chính đạt được trong buổi tư vấn này là gì? </a:t>
            </a:r>
            <a:endParaRPr b="0" lang="en-US" sz="800" spc="-1" strike="noStrike">
              <a:solidFill>
                <a:srgbClr val="000000"/>
              </a:solidFill>
              <a:latin typeface="Calibri"/>
            </a:endParaRPr>
          </a:p>
          <a:p>
            <a:pPr lvl="1" marL="457200">
              <a:lnSpc>
                <a:spcPct val="80000"/>
              </a:lnSpc>
              <a:spcBef>
                <a:spcPts val="30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800" spc="-1" strike="noStrike">
                <a:solidFill>
                  <a:srgbClr val="000000"/>
                </a:solidFill>
                <a:latin typeface="Calibri"/>
              </a:rPr>
              <a:t>Khách hàng dự định thực hiện điều gì trong tương lai? </a:t>
            </a:r>
            <a:endParaRPr b="0" lang="en-US" sz="800" spc="-1" strike="noStrike">
              <a:solidFill>
                <a:srgbClr val="000000"/>
              </a:solidFill>
              <a:latin typeface="Calibri"/>
            </a:endParaRPr>
          </a:p>
          <a:p>
            <a:pPr lvl="1" marL="457200">
              <a:lnSpc>
                <a:spcPct val="80000"/>
              </a:lnSpc>
              <a:spcBef>
                <a:spcPts val="300"/>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800" spc="-1" strike="noStrike">
                <a:solidFill>
                  <a:srgbClr val="000000"/>
                </a:solidFill>
                <a:latin typeface="Calibri"/>
              </a:rPr>
              <a:t>Hai bên đã nhất trí những vấn đề gì?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Tóm tắt cuối buổi tư vấn sẽ giúp khách hàng ra về mang theo suy nghĩ, “Bây giờ thì mình đã rõ mình nghĩ về điều gì và mình sẽ làm gì rồi.”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14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64D9FA-3785-40FB-A2BB-5FBA94779A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r>
              <a:rPr b="1" lang="en-US" sz="1100" spc="-1" strike="noStrike">
                <a:solidFill>
                  <a:srgbClr val="000000"/>
                </a:solidFill>
                <a:latin typeface="Calibri"/>
              </a:rPr>
              <a:t>Nói: </a:t>
            </a:r>
            <a:r>
              <a:rPr b="0" i="1" lang="en-US" sz="1100" spc="-1" strike="noStrike">
                <a:solidFill>
                  <a:srgbClr val="000000"/>
                </a:solidFill>
                <a:latin typeface="Calibri"/>
              </a:rPr>
              <a:t>Khi thấu cảm, bạn chia sẻ sự hiểu biết của mình về quan điểm của khách hàng. Việc lắng nghe có phản hồi có thể hỗ trợ quá trình này. Lắng nghe những lời nói của khách hàng, đồng thời xác định được cảm xúc của họ, nhưng nhớ là phải tránh để mình quá xúc động. Lắng nghe có phản hồi giúp bạn nối kết giữa cảm xúc của khách hàng với suy nghĩ và hành vi của họ. Ví dụ, bạn có thể nói: “Bạn cảm thấy … (nói về một cảm giác) bởi vì … (nói về trải nghiệm hoặc hành vi).” Bạn cũng có thể chỉ ra những cảm xúc mà nó còn ẩn chứa bên trong khách hàng.</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Không nên sử dụng kĩ năng này quá nhiều vì có thể khiến bạn trở nên hơi nông cạn và không chân thành. Tuy nhiên nó thực sự cho thấy rằng bạn đang lắng nghe và hiểu rõ những gì khách hàng đang suy nghĩ và cảm nhận.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Đôi khi, khách hàng có thể nói những điều rất phức tạp và khó hiểu. Trong những trường hợp này, kĩ năng lắng nghe có phản hồi là hết sức hữu ích. Bạn có thể nói những câu như là “Tôi vừa nghe anh/chị nói là …, có đúng thế không ạ?’, hoặc: “Tôi xin được tóm tắt lại những gì mà anh/chị vừa nói để đảm bảo là tôi đã hiểu đúng vấn đề nhé...”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Cách lắng nghe có phản hồi này hữu ích bởi bạn chưa hoàn toàn tự tin rằng bạn đã hiểu hết những gì bạn vừa nghe và bạn muốn kiểm tra lại thông tin cho chính xác. Nó cũng cho khách hàng thấy là bạn đang lắng nghe một cách tích cực, bạn suy nghĩ về những gì họ nói, chứ không chỉ thụ động ngồi nghe mà thôi. Thông thường, khách hàng sẽ trao đổi nhiệt tình hơn khi họ nhận thấy rằng bạn đang lắng nghe họ.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Thông tin tham khảo: </a:t>
            </a:r>
            <a:r>
              <a:rPr b="0" lang="en-US" sz="1100" spc="-1" strike="noStrike">
                <a:solidFill>
                  <a:srgbClr val="000000"/>
                </a:solidFill>
                <a:latin typeface="Calibri"/>
              </a:rPr>
              <a:t>Lắng nghe có phản hồi là bao gồm kết nối các cảm xúc với suy nghĩ và hành vi. Kĩ năng này khác kĩ năng chú ý ở chỗ bạn chủ tâm thể hiện với khách hàng bằng các biện pháp không lời và có lời rằng bạn đang lắng nghe rất kĩ những gì họ đang nói với bạn.</a:t>
            </a:r>
            <a:endParaRPr b="0" lang="en-US" sz="1100" spc="-1" strike="noStrike">
              <a:solidFill>
                <a:srgbClr val="000000"/>
              </a:solidFill>
              <a:latin typeface="Calibri"/>
            </a:endParaRPr>
          </a:p>
        </p:txBody>
      </p:sp>
      <p:sp>
        <p:nvSpPr>
          <p:cNvPr id="14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1D6939-C4BB-40A8-A2B0-5070DDC245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 </a:t>
            </a:r>
            <a:r>
              <a:rPr b="0" i="1" lang="en-US" sz="1200" spc="-1" strike="noStrike">
                <a:solidFill>
                  <a:srgbClr val="000000"/>
                </a:solidFill>
                <a:latin typeface="Calibri"/>
              </a:rPr>
              <a:t>Phản hồi về những cảm xúc giúp khách hàng nhận ra rằng tư vấn viên lắng nghe và hiểu được những trải nghiệm của họ, đồng thời họ cũng biết được rằng cảm xúc và hành vi có liên quan chặt chẽ với nhau.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Bằng cách sử dụng kĩ năng lắng nghe có phản hồi, bạn không ép buộc khách hàng phải đạt được một kết quả nào đó. Việc phản hồi thường bổ sung thông tin về việc họ thực sự cảm thấy thế nào về tình huống đang nói tới. Đặc biệt là trong lĩnh vực tái nghiện, người sử dụng ma túy thường không nhận ra rằng suy nghĩ và cảm xúc thường có liên quan đến hành vi. Những yếu tố này có vẻ như không liên quan đến nhau. Thực chất, suy nghĩ và cảm xúc có liên quan rất chặt chẽ với hành v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9F738F-9460-45D3-A875-5CDA61E58B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04840" y="696960"/>
            <a:ext cx="4648320" cy="3486240"/>
          </a:xfrm>
          <a:prstGeom prst="rect">
            <a:avLst/>
          </a:prstGeom>
          <a:ln w="0">
            <a:noFill/>
          </a:ln>
        </p:spPr>
      </p:sp>
      <p:sp>
        <p:nvSpPr>
          <p:cNvPr id="14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Giống như tóm tắt, phản hồi giúp tư vấn viên kiểm tra xem họ có thực sự hiểu đúng về những điều khách hàng đang trải qua hay không, và xác định được các vấn đề mà không gây sức ép với khách hàng. Đây là một cách kiểm tra lại xem liệu bạn có thực sự hiểu về những diễn biến cuộc sống của khách hàng hay khô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p:txBody>
      </p:sp>
      <p:sp>
        <p:nvSpPr>
          <p:cNvPr id="14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9940FF-122F-4286-8340-FEC78EA62F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 </a:t>
            </a:r>
            <a:r>
              <a:rPr b="1" lang="en-US" sz="600" spc="-1" strike="noStrike">
                <a:solidFill>
                  <a:srgbClr val="000000"/>
                </a:solidFill>
                <a:latin typeface="Calibri"/>
              </a:rPr>
              <a:t>Nói: </a:t>
            </a:r>
            <a:r>
              <a:rPr b="0" i="1" lang="en-US" sz="600" spc="-1" strike="noStrike">
                <a:solidFill>
                  <a:srgbClr val="000000"/>
                </a:solidFill>
                <a:latin typeface="Calibri"/>
              </a:rPr>
              <a:t>Khơi gợi là gì? Các bạn có thể cho một vài ví dụ về khơi gợi được không?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Hướng dẫn giảng dạy: </a:t>
            </a:r>
            <a:r>
              <a:rPr b="0" lang="en-US" sz="600" spc="-1" strike="noStrike">
                <a:solidFill>
                  <a:srgbClr val="000000"/>
                </a:solidFill>
                <a:latin typeface="Calibri"/>
              </a:rPr>
              <a:t>Hướng dẫn học viên thảo luận nhóm lớn về kĩ năng khơi gợi. Gợi ý để học viên đưa ra các ví dụ. Sau khi thảo luận xong, hãy hỏi học viên xem họ có nhận ra những câu khơi gợi bạn vừa sử dụng để dẫn dắt buổi thảo luận không. </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 </a:t>
            </a:r>
            <a:r>
              <a:rPr b="1" lang="en-US" sz="600" spc="-1" strike="noStrike">
                <a:solidFill>
                  <a:srgbClr val="000000"/>
                </a:solidFill>
                <a:latin typeface="Calibri"/>
              </a:rPr>
              <a:t>Nói: </a:t>
            </a:r>
            <a:r>
              <a:rPr b="0" i="1" lang="en-US" sz="600" spc="-1" strike="noStrike">
                <a:solidFill>
                  <a:srgbClr val="000000"/>
                </a:solidFill>
                <a:latin typeface="Calibri"/>
              </a:rPr>
              <a:t>Hãy xem xét ví dụ sau: một khách hàng nói với bạn rằng họ thường có cảm giác thèm nhớ ma túy khi họ đi đến một nơi nhất định. Bạn có thể nói, “Hãy nói cụ thể thêm về nơi đó đi. Bao lâu thì bạn đến đó một lần? Tại nơi đó có điều gì đặc biệt khiến cho bạn có cảm giác thèm nhớ? Khi đến đó thì bạn đi với ai?”. Khách hàng sẽ cung cấp thêm thông tin về những vấn đề bạn cho là quan trọng nhưng bạn lại cảm thấy là chưa đầy đủ. Khơi gợi là một cách để tiến tới vấn đề cốt lõi, để từ đó xây dựng các chiến lược dự phòng tái sử dụng ma túy. Đó là một cách để đi sâu vào trọng tâm của vấn đề và cho thấy đó là vấn đề quan trọng vì nó được tìm hiểu rất kĩ lưỡng.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 spc="-1" strike="noStrike">
                <a:solidFill>
                  <a:srgbClr val="000000"/>
                </a:solidFill>
                <a:latin typeface="Calibri"/>
              </a:rPr>
              <a:t>Như vậy, khơi gợi là cách tìm hiểu thêm thông tin và làm rõ về một vấn đề mà bạn cho là quan trọng.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 spc="-1" strike="noStrike">
                <a:solidFill>
                  <a:srgbClr val="000000"/>
                </a:solidFill>
                <a:latin typeface="Calibri"/>
              </a:rPr>
              <a:t>Bạn nghĩ rằng kĩ năng khơi gợi có những lợi điểm gì?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Hướng dẫn giảng dạy: </a:t>
            </a:r>
            <a:r>
              <a:rPr b="0" lang="en-US" sz="600" spc="-1" strike="noStrike">
                <a:solidFill>
                  <a:srgbClr val="000000"/>
                </a:solidFill>
                <a:latin typeface="Calibri"/>
              </a:rPr>
              <a:t>Dẫn dắt một cuộc thảo luận nhóm lớn về khơi gợi. Sau khi học viên thảo luận, tiếp tục như sau: </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 </a:t>
            </a:r>
            <a:r>
              <a:rPr b="1" lang="en-US" sz="600" spc="-1" strike="noStrike">
                <a:solidFill>
                  <a:srgbClr val="000000"/>
                </a:solidFill>
                <a:latin typeface="Calibri"/>
              </a:rPr>
              <a:t>Nói: </a:t>
            </a:r>
            <a:r>
              <a:rPr b="0" i="1" lang="en-US" sz="600" spc="-1" strike="noStrike">
                <a:solidFill>
                  <a:srgbClr val="000000"/>
                </a:solidFill>
                <a:latin typeface="Calibri"/>
              </a:rPr>
              <a:t>Kĩ năng khơi gợi nên được áp dụng đối với những vấn đề mà bạn cảm thấy đặc biệt quan trọng. Tư vấn viên có thể tác động nhiều đến định hướng của buổi tư vấn thông qua sử dụng kĩ năng khơi gợi để hướng cuộc thảo luận. Bất cứ khi nào đặt một câu hỏi, hãy hỏi về điều bạn muốn biết chứ không phải là điều khách hàng muốn nói với bạn. Khi đó, các câu hỏi của bạn sẽ “dẫn dắt” hay định hướng cho khách hàng. Bằng cách khơi gợi, bạn cũng giúp khách hàng tập trung chú ý hơn. Đôi khi, bạn sẽ thấy cần phải tìm hiểu thông tin ở một hướng khác. Nhìn chung, khơi gợi là một cách can thiệp vào câu chuyện, giúp tư vấn viên tăng kiểm soát tiến trình và nội dung buổi tư vấn. Vì thế, kĩ năng này cũng nên sử dụng hạn chế và thận trọng, đặc biệt là ở lúc mới bắt đầu buổi tư vấn.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600" spc="-1" strike="noStrike">
                <a:solidFill>
                  <a:srgbClr val="000000"/>
                </a:solidFill>
                <a:latin typeface="Calibri"/>
              </a:rPr>
              <a:t>Kĩ năng khơi gợi  bao gồm: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lvl="1" marL="457200">
              <a:lnSpc>
                <a:spcPct val="80000"/>
              </a:lnSpc>
              <a:spcBef>
                <a:spcPts val="22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600" spc="-1" strike="noStrike">
                <a:solidFill>
                  <a:srgbClr val="000000"/>
                </a:solidFill>
                <a:latin typeface="Calibri"/>
              </a:rPr>
              <a:t>Đặt câu hỏi: có nhiều loại câu hỏi khác nhau (như chúng ta đã thảo luận ở phần trước). Cả hai loại câu hỏi đóng và mở đều có thể giúp chúng ta khám phá được nhiều thông tin hơn nhưng cũng có thể làm cản trở việc đó. </a:t>
            </a:r>
            <a:endParaRPr b="0" lang="en-US" sz="600" spc="-1" strike="noStrike">
              <a:solidFill>
                <a:srgbClr val="000000"/>
              </a:solidFill>
              <a:latin typeface="Calibri"/>
            </a:endParaRPr>
          </a:p>
          <a:p>
            <a:pPr lvl="1" marL="457200">
              <a:lnSpc>
                <a:spcPct val="80000"/>
              </a:lnSpc>
              <a:spcBef>
                <a:spcPts val="22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600" spc="-1" strike="noStrike">
                <a:solidFill>
                  <a:srgbClr val="000000"/>
                </a:solidFill>
                <a:latin typeface="Calibri"/>
              </a:rPr>
              <a:t>Đưa ra nhận định: là một hình thức khơi gợi ở mức độ nhẹ nhàng hơn. Ví dụ, thay vì hỏi khách hàng “Cô ấy đã làm gì khiến cho bạn phải phiền lòng?”, bạn có thể nói “Tôi không rõ là cô ấy đã làm gì khiến cho bạn phải phiền lòng.” Câu nhận định có ít tính áp đặt và ít gây sức ép hơn so với câu hỏi. </a:t>
            </a:r>
            <a:endParaRPr b="0" lang="en-US" sz="600" spc="-1" strike="noStrike">
              <a:solidFill>
                <a:srgbClr val="000000"/>
              </a:solidFill>
              <a:latin typeface="Calibri"/>
            </a:endParaRPr>
          </a:p>
          <a:p>
            <a:pPr lvl="1" marL="457200">
              <a:lnSpc>
                <a:spcPct val="80000"/>
              </a:lnSpc>
              <a:spcBef>
                <a:spcPts val="22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600" spc="-1" strike="noStrike">
                <a:solidFill>
                  <a:srgbClr val="000000"/>
                </a:solidFill>
                <a:latin typeface="Calibri"/>
              </a:rPr>
              <a:t>Khơi gợi bằng cách nói, ‘Hãy kể cho tôi nghe thêm về điều đó đi!”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Hướng dẫn giảng dạy: </a:t>
            </a:r>
            <a:r>
              <a:rPr b="0" lang="en-US" sz="600" spc="-1" strike="noStrike">
                <a:solidFill>
                  <a:srgbClr val="000000"/>
                </a:solidFill>
                <a:latin typeface="Calibri"/>
              </a:rPr>
              <a:t>Chia học viên thành các nhóm 3 người: một người sẽ đóng vai khách hàng, một người vào vai tư vấn viên và người thứ ba sẽ quan sát. Người đóng vai tư vấn viên sẽ thực hành kĩ năng khơi gợi. Cần đảm bảo rằng bạn dành đủ thời gian để học viên thể hiện thể hiện khả năng gợi mở của mình và người quan sát góp ý.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ành đủ thời gian cho học viên đổi vai cho nhau để ai cũng có cơ hội được thực hành kĩ năng. </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a:t>
            </a:r>
            <a:endParaRPr b="0" lang="en-US" sz="600" spc="-1" strike="noStrike">
              <a:solidFill>
                <a:srgbClr val="000000"/>
              </a:solidFill>
              <a:latin typeface="Calibri"/>
            </a:endParaRPr>
          </a:p>
        </p:txBody>
      </p:sp>
      <p:sp>
        <p:nvSpPr>
          <p:cNvPr id="15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6E1250-840F-465C-94D9-F62727095F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04840" y="696960"/>
            <a:ext cx="4648320" cy="3486240"/>
          </a:xfrm>
          <a:prstGeom prst="rect">
            <a:avLst/>
          </a:prstGeom>
          <a:ln w="0">
            <a:noFill/>
          </a:ln>
        </p:spPr>
      </p:sp>
      <p:sp>
        <p:nvSpPr>
          <p:cNvPr id="15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r>
              <a:rPr b="1" lang="en-US" sz="900" spc="-1" strike="noStrike">
                <a:solidFill>
                  <a:srgbClr val="000000"/>
                </a:solidFill>
                <a:latin typeface="Calibri"/>
              </a:rPr>
              <a:t>Nói: </a:t>
            </a:r>
            <a:r>
              <a:rPr b="0" i="1" lang="en-US" sz="900" spc="-1" strike="noStrike">
                <a:solidFill>
                  <a:srgbClr val="000000"/>
                </a:solidFill>
                <a:latin typeface="Calibri"/>
              </a:rPr>
              <a:t>Đây là một trong những kĩ năng thú vị nhất được dùng trong tư vấn và là một kĩ năng có thể nói là thách thức nhất đối với hầu hết các tư vấn viên. </a:t>
            </a:r>
            <a:endParaRPr b="0" lang="en-US" sz="900" spc="-1" strike="noStrike">
              <a:solidFill>
                <a:srgbClr val="000000"/>
              </a:solidFill>
              <a:latin typeface="Calibri"/>
            </a:endParaRPr>
          </a:p>
          <a:p>
            <a:pPr indent="0">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Nếu ở giữa chừng của một cuộc hội thoại mà cả hai bên đều im lặng thì sau bao lâu một trong hai người cảm thấy cần phải nói gì đó để chấm dứt sự im lặng? </a:t>
            </a:r>
            <a:endParaRPr b="0" lang="en-US" sz="900" spc="-1" strike="noStrike">
              <a:solidFill>
                <a:srgbClr val="000000"/>
              </a:solidFill>
              <a:latin typeface="Calibri"/>
            </a:endParaRPr>
          </a:p>
          <a:p>
            <a:pPr indent="0">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Hướng dẫn giảng dạy: </a:t>
            </a:r>
            <a:r>
              <a:rPr b="0" lang="en-US" sz="900" spc="-1" strike="noStrike">
                <a:solidFill>
                  <a:srgbClr val="000000"/>
                </a:solidFill>
                <a:latin typeface="Calibri"/>
              </a:rPr>
              <a:t>Dành thời gian để học viên trả lời. Sau khi họ trả lời, tiếp tục như sau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r>
              <a:rPr b="1" lang="en-US" sz="900" spc="-1" strike="noStrike">
                <a:solidFill>
                  <a:srgbClr val="000000"/>
                </a:solidFill>
                <a:latin typeface="Calibri"/>
              </a:rPr>
              <a:t>Nói: </a:t>
            </a:r>
            <a:r>
              <a:rPr b="0" i="1" lang="en-US" sz="900" spc="-1" strike="noStrike">
                <a:solidFill>
                  <a:srgbClr val="000000"/>
                </a:solidFill>
                <a:latin typeface="Calibri"/>
              </a:rPr>
              <a:t>Trong cuộc nói chuyện thông thường, hầu hết mọi người chỉ chịu được sự im lặng tối đa là 30 giây rồi sẽ phải nói một điều gì đó để phá tan bầu không khí im lặng. Tuy nhiên, tôi lưu ý các bạn rằng tư vấn không phải là một cuộc nói chuyện. Tư vấn là có mục đích. Sẽ có những thời điểm trong một buổi tư vấn, khách hàng nói một điều vô cùng quan trọng và cũng hết sức khó khăn, và bạn có thể thấy là họ do dự không biết làm gì tiếp theo. Do đó họ có thể không nói gì nữa. Trong một buổi nói chuyện thông thường thì sau đó 30 giây, bạn sẽ bắt đầu cảm thấy có một áp lực cần phải nói một điều gì đó, bất cứ điều gì, để có thể phá vỡ sự im lặng, bởi áp lực do sự im lặng tạo ra là quá sức chịu đựng. Tuy nhiên, trong khi bạn đang nghĩ xem nên nói gì thì đó cũng là lúc khách hàng đang suy nghĩ về những điều họ vừa nói. Họ bắt đầu lắng chìm trong suy tư và sự im lặng sẽ làm cho tác động của những lời nói trở nên thực sự mạnh mẽ. </a:t>
            </a:r>
            <a:endParaRPr b="0" lang="en-US" sz="900" spc="-1" strike="noStrike">
              <a:solidFill>
                <a:srgbClr val="000000"/>
              </a:solidFill>
              <a:latin typeface="Calibri"/>
            </a:endParaRPr>
          </a:p>
          <a:p>
            <a:pPr indent="0">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Khi kết hợp với kĩ năng chú ý, kĩ năng giữ im lặng có thể khích lệ khách hàng tiếp tục chia sẻ. Sự im lặng có thể giúp họ dễ dàng chuyển sang bước tiếp theo. Vì thế, khách hàng chính là người chủ động phá vỡ sự im lặng và tiếp tục buổi nói chuyện. Khách hàng, chứ không phải bạn, mới chính là người cần phải nghĩ về việc tiếp nối câu chuyện. Nhờ có sự im lặng, họ sẽ hiểu rõ hơn về những gì vừa mới nói ra, vì thông thường chúng ta không để ý lắm đến lời nói nếu không có thời gian suy nghĩ về chúng. </a:t>
            </a:r>
            <a:endParaRPr b="0" lang="en-US" sz="900" spc="-1" strike="noStrike">
              <a:solidFill>
                <a:srgbClr val="000000"/>
              </a:solidFill>
              <a:latin typeface="Calibri"/>
            </a:endParaRPr>
          </a:p>
          <a:p>
            <a:pPr indent="0">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Im lặng là một kĩ năng để bạn sử dụng cho những giây phút </a:t>
            </a:r>
            <a:r>
              <a:rPr b="1" i="1" lang="en-US" sz="900" spc="-1" strike="noStrike">
                <a:solidFill>
                  <a:srgbClr val="000000"/>
                </a:solidFill>
                <a:latin typeface="Calibri"/>
              </a:rPr>
              <a:t>quan trọng, sâu lắng, </a:t>
            </a:r>
            <a:r>
              <a:rPr b="0" i="1" lang="en-US" sz="900" spc="-1" strike="noStrike">
                <a:solidFill>
                  <a:srgbClr val="000000"/>
                </a:solidFill>
                <a:latin typeface="Calibri"/>
              </a:rPr>
              <a:t>khi khách hàng đang nghiền ngẫm hoặc khi họ nói một điều rất xúc động. Ngoài ra, sự im lặng cũng ngăn không cho họ chuyển tiếp sang một vấn đề khác dễ nói hơn để lảng tránh chủ đề khó nói hiện tại. </a:t>
            </a:r>
            <a:endParaRPr b="0" lang="en-US" sz="900" spc="-1" strike="noStrike">
              <a:solidFill>
                <a:srgbClr val="000000"/>
              </a:solidFill>
              <a:latin typeface="Calibri"/>
            </a:endParaRPr>
          </a:p>
          <a:p>
            <a:pPr indent="0">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Giữ im lặng không phải là một kĩ năng bạn có thể sử dụng cho những vấn đề ít quan trọng.Nếu bạn cứ luôn im lặng khi nói đến những chuyện nhỏ nhặt thì khách hàng sẽ không hiểu bạn đang dự tính điều gì. Họ có thể nghĩ rằng bạn không tiếp tục lắng nghe họ nữa hoặc buổi tư vấn như vậy là đã kết thúc vì không biết sẽ làm gì tiếp theo. </a:t>
            </a:r>
            <a:endParaRPr b="0" lang="en-US" sz="900" spc="-1" strike="noStrike">
              <a:solidFill>
                <a:srgbClr val="000000"/>
              </a:solidFill>
              <a:latin typeface="Calibri"/>
            </a:endParaRPr>
          </a:p>
        </p:txBody>
      </p:sp>
      <p:sp>
        <p:nvSpPr>
          <p:cNvPr id="15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2851D2-F541-4052-AAF9-C5C0420A63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04840" y="696960"/>
            <a:ext cx="4648320" cy="3486240"/>
          </a:xfrm>
          <a:prstGeom prst="rect">
            <a:avLst/>
          </a:prstGeom>
          <a:ln w="0">
            <a:noFill/>
          </a:ln>
        </p:spPr>
      </p:sp>
      <p:sp>
        <p:nvSpPr>
          <p:cNvPr id="15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Cho học viên nghỉ giải lao 10 phút: đứng dậy và đi lại cho thoải mái.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Chúng ta vừa hoàn thành phần đầu của bài học về kĩ năng tư vấn. Bây giờ mời các bạn nghỉ giải lao trong vài phút. Trong thời gian đó, chúng ta có thể thư giãn và suy nghĩ về những gì vừa họ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5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F3E912-6AE8-4234-AE45-3D9DE8E66B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04840" y="696960"/>
            <a:ext cx="4648320" cy="3486240"/>
          </a:xfrm>
          <a:prstGeom prst="rect">
            <a:avLst/>
          </a:prstGeom>
          <a:ln w="0">
            <a:noFill/>
          </a:ln>
        </p:spPr>
      </p:sp>
      <p:sp>
        <p:nvSpPr>
          <p:cNvPr id="16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Nên có hoạt động khởi động nhỏ trước khi tiếp tục phần 2 bài học để học viên cảm thấy tỉnh táo, sẵn sàng học tập. Hỏi học viên xem họ có câu hỏi gì không trước khi bắt đầu nội dung mớ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Những kĩ năng khác giúp cho bạn trở thành một tư vấn viên giỏi gồm có:</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Tự tin vào năng lực bản thâ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Khen ngợi</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Chỉnh khung</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Lựa theo sự phản kháng</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Diễn giải</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Đối khá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7D6347-9FF4-4021-8201-763515CBA2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r>
              <a:rPr b="1" lang="en-US" sz="1100" spc="-1" strike="noStrike">
                <a:solidFill>
                  <a:srgbClr val="000000"/>
                </a:solidFill>
                <a:latin typeface="Calibri"/>
              </a:rPr>
              <a:t>Nói:</a:t>
            </a:r>
            <a:r>
              <a:rPr b="1" i="1" lang="en-US" sz="1100" spc="-1" strike="noStrike">
                <a:solidFill>
                  <a:srgbClr val="000000"/>
                </a:solidFill>
                <a:latin typeface="Calibri"/>
              </a:rPr>
              <a:t> </a:t>
            </a:r>
            <a:r>
              <a:rPr b="0" i="1" lang="en-US" sz="1100" spc="-1" strike="noStrike">
                <a:solidFill>
                  <a:srgbClr val="000000"/>
                </a:solidFill>
                <a:latin typeface="Calibri"/>
              </a:rPr>
              <a:t>Gây dựng sự tự tin của khách hàng vào năng lực bản thân họ là một việc vô cùng quan trọng. Khi khách hàng tự tin vào khả năng bản thân thì họ sẽ có sự tự tin để thực hiện thành công một công việc nào đó. Mọi người sẽ dễ dàng bắt tay vào việc hơn nếu họ tin rằng họ làm được. Người ta cũng hay né tránh những công việc mà cho rằng mình không có khả năng đảm đương. Những người sử dụng ma túy thường thiếu tự tin. Vì thế, nếu bạn thể hiện là bạn tin tưởng rằng họ có khả năng thực hiện một số công việc hoặc sẽ đạt được mục tiêu thì họ sẽ có thêm sự tự tin, có thêm năng lượng và nhiệt huyết để thực hiện.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Tuy nhiên, cần nhớ rằng, khi khuyến khích khách hàng tin vào bản thân, bạn cần phải thực tế. Những người quá tự tin vào khả năng của bản thân mà trên thực tế năng lực của họ chưa đủ để thực hiện công việc có thể dẫn tới những hậu quả nguy hại hoặc làm họ thất vọng. Tạo dựng sự tự tin có thể bao gồm cung cấp hỗ trợ và khích lệ khách hàng thực hiện thành công các yêu cầu. Góp ý một cách tích cực về những gì họ đã đạt được cũng giúp họ tự tin hơn và tăng khả năng họ sẽ cố gắng thực hiện các mục tiêu tham vọng hơn.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Hướng dẫn giảng dạy: </a:t>
            </a:r>
            <a:r>
              <a:rPr b="0" lang="en-US" sz="1100" spc="-1" strike="noStrike">
                <a:solidFill>
                  <a:srgbClr val="000000"/>
                </a:solidFill>
                <a:latin typeface="Calibri"/>
              </a:rPr>
              <a:t>Mời hai học viên lên làm mẫu kĩ năng này. Cung cấp kịch bản cho họ. Một trong những kịch bản có thể sử dụng là: một khách hàng đến nói chuyện với tư vấn viên về cách anh ta đã làm để đối phó với cơn thèm nhớ. Người đóng vai khách hàng phải thể hiện là anh ta không rõ là liệu mình làm được như thế chỉ là do gặp may hay là đã thực sự kiểm soát được cơn thèm nhớ của bản thân. Tư vấn viên khen ngợi khách hàng đã thành công trong việc chế ngự cơn thèm nhớ và thừa nhận rằng hẳn đó là một việc vô cùng khó khăn. Bằng cách đó, tư vấn viên đã củng cố sự tự tin của khách hàng để duy trì cam kết không sử dụng ma túy. </a:t>
            </a:r>
            <a:r>
              <a:rPr b="1" lang="en-US" sz="1100" spc="-1" strike="noStrike">
                <a:solidFill>
                  <a:srgbClr val="000000"/>
                </a:solidFill>
                <a:latin typeface="Calibri"/>
              </a:rPr>
              <a:t>	</a:t>
            </a:r>
            <a:endParaRPr b="0" lang="en-US" sz="1100" spc="-1" strike="noStrike">
              <a:solidFill>
                <a:srgbClr val="000000"/>
              </a:solidFill>
              <a:latin typeface="Calibri"/>
            </a:endParaRPr>
          </a:p>
        </p:txBody>
      </p:sp>
      <p:sp>
        <p:nvSpPr>
          <p:cNvPr id="16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0E6042-B383-4ADA-B69F-F81D0DEA70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04840" y="696960"/>
            <a:ext cx="4648320" cy="3486240"/>
          </a:xfrm>
          <a:prstGeom prst="rect">
            <a:avLst/>
          </a:prstGeom>
          <a:ln w="0">
            <a:noFill/>
          </a:ln>
        </p:spPr>
      </p:sp>
      <p:sp>
        <p:nvSpPr>
          <p:cNvPr id="11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Trình bày trực tiếp nội dung bản chiếu</a:t>
            </a:r>
            <a:endParaRPr b="0" lang="en-US" sz="1200" spc="-1" strike="noStrike">
              <a:solidFill>
                <a:srgbClr val="000000"/>
              </a:solidFill>
              <a:latin typeface="Calibri"/>
            </a:endParaRPr>
          </a:p>
        </p:txBody>
      </p:sp>
      <p:sp>
        <p:nvSpPr>
          <p:cNvPr id="1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B943F9-27ED-4DB2-9B76-0B7FD2C6BE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04840" y="696960"/>
            <a:ext cx="4648320" cy="3486240"/>
          </a:xfrm>
          <a:prstGeom prst="rect">
            <a:avLst/>
          </a:prstGeom>
          <a:ln w="0">
            <a:noFill/>
          </a:ln>
        </p:spPr>
      </p:sp>
      <p:sp>
        <p:nvSpPr>
          <p:cNvPr id="16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Đưa ra những lời nhận xét tích cực và hỗ trợ đối với những nỗ lực thay đổi hành vi của khách hàng bằng cách khen ngợi, động viên và thấu hiểu họ, sẽ truyền thêm động lực để họ tiếp tục duy trì hành vi sức khỏe. Ví dụ, bạn cần ghi nhận sự can đảm của họ khi họ đến với dịch vụ tư vấn và khen ngợi vì họ đã làm được điều này. Nhấn mạnh những điểm mạnh của khách hàng trong việc đối phó với những cám dỗ của ma túy hoặc duy trì không sử dụng. Nhắc họ nghĩ đến những điều họ đã làm tốt mà có thể họ không chú ý.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35E21D-0DF9-4910-85F5-A33EDD457F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r>
              <a:rPr b="1" lang="en-US" sz="1100" spc="-1" strike="noStrike">
                <a:solidFill>
                  <a:srgbClr val="000000"/>
                </a:solidFill>
                <a:latin typeface="Calibri"/>
              </a:rPr>
              <a:t>Nói:</a:t>
            </a:r>
            <a:r>
              <a:rPr b="1" i="1" lang="en-US" sz="1100" spc="-1" strike="noStrike">
                <a:solidFill>
                  <a:srgbClr val="000000"/>
                </a:solidFill>
                <a:latin typeface="Calibri"/>
              </a:rPr>
              <a:t> </a:t>
            </a:r>
            <a:r>
              <a:rPr b="0" i="1" lang="en-US" sz="1100" spc="-1" strike="noStrike">
                <a:solidFill>
                  <a:srgbClr val="000000"/>
                </a:solidFill>
                <a:latin typeface="Calibri"/>
              </a:rPr>
              <a:t>Chỉnh khung là cách nhìn nhận về các thông tin khách hàng cung cấp theo một quan điểm khác so với họ. Điều này có thể giúp khách hàng nhìn nhận thấu đáo hơn về những hành vi của họ theo một quan điểm mà từ trước tới giờ họ chưa hề nghĩ tới.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Chỉnh khung nghĩa là bạn vẫn ghi nhận những gì mà khách hàng nói tới nhưng cũng đưa ra một cách diễn giải khác sao cho có thể hỗ trợ khách hàng thay đổi hành vi. Nó giúp kết nối giữa hành vi của khách hàng với những hậu quả mà họ không nghĩ tới.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Ví dụ, khi một người rất tự hào nói rằng anh ta có thể uống rất nhiều rượu mà không hề bị say thì bạn có thể sử dụng kĩ năng chỉnh khung để đáp lại rằng: "Nghe anh nói thì có vẻ như là anh có thể uống được rất nhiều rượu, nhưng mà tôi băn khoăn không biết anh có biết rằng uống một lượng rượu nhiều như vậy sẽ rất có hại cho sức khỏe không, dù bây giờ anh có thể chưa thấy thấy được những hậu quả đó?”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Thông tin tham khảo: </a:t>
            </a:r>
            <a:r>
              <a:rPr b="0" lang="en-US" sz="1100" spc="-1" strike="noStrike">
                <a:solidFill>
                  <a:srgbClr val="000000"/>
                </a:solidFill>
                <a:latin typeface="Calibri"/>
              </a:rPr>
              <a:t>Bạn có thể chia sẻ một ví dụ khác với học viên. Khách hàng có thể thấy hữu ích khi biết được khả năng dung nạp rượu cũng giống như sự nhạy cảm khi bị đau. Ví dụ, nếu bạn cho tay vào trong bếp lò đang nóng thì nhiệt độ cao sẽ khiến bạn đau và rụt tay ra khỏi lò để tránh bị bỏng. Cảm nhận được sự đau đớn về thể chất bảo vệ bạn để không bị bỏng tay. Tương tự như vậy, nếu khả năng dung nạp rượu của bạn thấp thì hãy coi đó là chuyện mừng vì bạn được cảnh báo trước khi uống quá nhiều. Cơ thể bạn đã ra dấu hiệu cho biết bạn uống đủ rồi đấy, giúp bảo vệ cơ thể khỏi những hậu quả nguy hại do uống quá nhiều rượu, ví dụ như các bệnh về gan. Khi sự dung nạp của cơ thể bạn với rượu tăng lên, bạn sẽ mất đi sự bảo vệ kịp thời đó. Thật nực cười là đa số các chàng trai trẻ lại thường hay khoa trương rằng họ có thể uống rất nhiều rượu mà không hề say, mà không hiểu rằng đấy là chính là nguy cơ gây tổn hại đến sức khỏe của họ về lâu dài.  </a:t>
            </a:r>
            <a:endParaRPr b="0" lang="en-US" sz="1100" spc="-1" strike="noStrike">
              <a:solidFill>
                <a:srgbClr val="000000"/>
              </a:solidFill>
              <a:latin typeface="Calibri"/>
            </a:endParaRPr>
          </a:p>
        </p:txBody>
      </p:sp>
      <p:sp>
        <p:nvSpPr>
          <p:cNvPr id="17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960288-CBEB-44EF-A5A7-E8AF97AB4F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04840" y="696960"/>
            <a:ext cx="4648320" cy="3486240"/>
          </a:xfrm>
          <a:prstGeom prst="rect">
            <a:avLst/>
          </a:prstGeom>
          <a:ln w="0">
            <a:noFill/>
          </a:ln>
        </p:spPr>
      </p:sp>
      <p:sp>
        <p:nvSpPr>
          <p:cNvPr id="17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r>
              <a:rPr b="1" lang="en-US" sz="700" spc="-1" strike="noStrike">
                <a:solidFill>
                  <a:srgbClr val="000000"/>
                </a:solidFill>
                <a:latin typeface="Calibri"/>
              </a:rPr>
              <a:t>Nói:</a:t>
            </a:r>
            <a:r>
              <a:rPr b="1" i="1" lang="en-US" sz="700" spc="-1" strike="noStrike">
                <a:solidFill>
                  <a:srgbClr val="000000"/>
                </a:solidFill>
                <a:latin typeface="Calibri"/>
              </a:rPr>
              <a:t> </a:t>
            </a:r>
            <a:r>
              <a:rPr b="0" i="1" lang="en-US" sz="700" spc="-1" strike="noStrike">
                <a:solidFill>
                  <a:srgbClr val="000000"/>
                </a:solidFill>
                <a:latin typeface="Calibri"/>
              </a:rPr>
              <a:t>Đôi khi bạn muốn bạn mình làm một điều gì đó nhưng bạn cũng nhận thấy rằng họ có vẻ miễn cưỡng, không muốn làm theo đề nghị của bạn. Chúng ta gọi sự miễn cưỡng đó là phản kháng. Họ phản kháng lại những đề nghị của bạn. Đôi khi bạn càng động viên khuyến khích thì bạn thấy họ lại càng phản kháng mạnh hơn. Trong tư vấn, sự phản kháng xảy ra khi khách hàng tranh cãi, ngắt lời, hoặc phủ nhận những gợi ý bạn đưa ra. Điều quan trọng khi đó là bạn không nên tranh cãi với khách hàng vì như vậy chỉ làm họ phản ứng mạnh hơn thôi. Lựa theo sự phản kháng nghĩa là không trực tiếp đối đầu với khách hàng.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Thay vì tranh cãi với họ, bạn nên lựa theo sự phản kháng của họ để xử trí. Bạn nên tận dụng sức mạnh mà họ đang dùng để từ chối và biến nó thành sức mạnh để thưc hiện công việc. Có ba cách để lựa theo sự phản kháng, đó là: phản hồi đơn giản, phản hồi theo hướng phóng đại, và phản hồi hai chiều.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Khi sử dụng cách </a:t>
            </a:r>
            <a:r>
              <a:rPr b="1" i="1" lang="en-US" sz="700" spc="-1" strike="noStrike">
                <a:solidFill>
                  <a:srgbClr val="000000"/>
                </a:solidFill>
                <a:latin typeface="Calibri"/>
              </a:rPr>
              <a:t>phản hồi đơn giản</a:t>
            </a:r>
            <a:r>
              <a:rPr b="0" i="1" lang="en-US" sz="700" spc="-1" strike="noStrike">
                <a:solidFill>
                  <a:srgbClr val="000000"/>
                </a:solidFill>
                <a:latin typeface="Calibri"/>
              </a:rPr>
              <a:t>, bạn có thể nói, “Anh có vẻ không nhận thấy rằng việc sử dụng ma túy của anh có thể sẽ gây ra nhiều rắc rối, nhất là khi bạn bè anh thậm chí còn dùng nhiều hơn mà dường như là họ không gặp phải bất kỳ một rắc rối nào cả”. Cách nói như vậy có thể sẽ khiến họ quay sang tranh luận về quan điểm này.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700" spc="-1" strike="noStrike">
                <a:solidFill>
                  <a:srgbClr val="000000"/>
                </a:solidFill>
                <a:latin typeface="Calibri"/>
              </a:rPr>
              <a:t>Phản hồi theo hướng phóng đại </a:t>
            </a:r>
            <a:r>
              <a:rPr b="0" i="1" lang="en-US" sz="700" spc="-1" strike="noStrike">
                <a:solidFill>
                  <a:srgbClr val="000000"/>
                </a:solidFill>
                <a:latin typeface="Calibri"/>
              </a:rPr>
              <a:t>nhằm tìm cách kích thích một khía cạnh mà khách hàng còn mơ hồ, bằng cách phóng đại (nhưng không mỉa mai) những điều họ nói. Ví dụ, bạn có thể nói, “Vậy nếu bạn bè của anh không gặp phải rắc rối gì, tôi đoán là anh cảm thấy điều đó có nghĩa là anh cũng không cần phải lo lắng gì cả”. Rõ ràng là bạn phải hết sức thận trọng khi dùng chiến lược này.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700" spc="-1" strike="noStrike">
                <a:solidFill>
                  <a:srgbClr val="000000"/>
                </a:solidFill>
                <a:latin typeface="Calibri"/>
              </a:rPr>
              <a:t>Phản hồi hai chiều </a:t>
            </a:r>
            <a:r>
              <a:rPr b="0" i="1" lang="en-US" sz="700" spc="-1" strike="noStrike">
                <a:solidFill>
                  <a:srgbClr val="000000"/>
                </a:solidFill>
                <a:latin typeface="Calibri"/>
              </a:rPr>
              <a:t>là cách nhận biết những điểm mâu thuẫn mà khách hàng đã nói. Để làm được điều này, bạn cần sử dụng thông tin khách hàng đã cung cấp trước đó, không nhất thiết là thông tin từ buổi tư vấn hiện tại. Bạn có thể nói rằng, “Tôi nhận thấy là anh đang bối rối về vấn đề này. Một mặt, anh nói rằng bạn bè anh dùng ma túy nhiều hơn anh mà họ lại không hề gặp rắc rối gì, nhưng mặt khác anh lại lo lắng về việc sử dụng ma túy của mình”.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Chúng ta hãy lấy một ví dụ khác. Một số  người SDMT tin rằng cai nghiện có thể gây tổn hại tới các bộ phận nội tạng trong cơ thể họ, khiến họ có thể chết. Họ tin tưởng như vậy vì họ đã chứng kiến nhiều bạn bè chết trong hoặc sau khi cai nghiện. Vì thế, họ nghĩ rằng cần phải tiếp tục dùng ma túy để có thể sống sót, mặc dù biết rằng việc sử dụng ma túy gây cho họ quá nhiều rắc rối. Khi khách hàng quá tin vào sự hiểu lầm này, tư vấn viên không nên chỉ trích họ, vì nếu bạn làm như vậy, họ sẽ phản kháng mạnh hơn và không muốn tiếp tục buổi tư vấn nữ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Trong tình huống này, bạn có thể nói với khách hàng như sau: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700" spc="-1" strike="noStrike">
                <a:solidFill>
                  <a:srgbClr val="000000"/>
                </a:solidFill>
                <a:latin typeface="Calibri"/>
              </a:rPr>
              <a:t>Phản hồi đơn giản: </a:t>
            </a:r>
            <a:r>
              <a:rPr b="0" i="1" lang="en-US" sz="700" spc="-1" strike="noStrike">
                <a:solidFill>
                  <a:srgbClr val="000000"/>
                </a:solidFill>
                <a:latin typeface="Calibri"/>
              </a:rPr>
              <a:t>"Tôi rất hiểu tại sao anh lại có suy nghĩ như vậy, vì nhiều người SDMT khác cũng tin là như thế”.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700" spc="-1" strike="noStrike">
                <a:solidFill>
                  <a:srgbClr val="000000"/>
                </a:solidFill>
                <a:latin typeface="Calibri"/>
              </a:rPr>
              <a:t>Phản hồi phóng đại: </a:t>
            </a:r>
            <a:r>
              <a:rPr b="0" i="1" lang="en-US" sz="700" spc="-1" strike="noStrike">
                <a:solidFill>
                  <a:srgbClr val="000000"/>
                </a:solidFill>
                <a:latin typeface="Calibri"/>
              </a:rPr>
              <a:t>"Tôi đoán là anh cảm thấy nếu vẫn tiếp tục sử dụng ma túy thì anh sẽ chẳng phải lo lắng gì cả, đúng thế không?"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700" spc="-1" strike="noStrike">
                <a:solidFill>
                  <a:srgbClr val="000000"/>
                </a:solidFill>
                <a:latin typeface="Calibri"/>
              </a:rPr>
              <a:t>Phản hồi hai chiều: </a:t>
            </a:r>
            <a:r>
              <a:rPr b="0" i="1" lang="en-US" sz="700" spc="-1" strike="noStrike">
                <a:solidFill>
                  <a:srgbClr val="000000"/>
                </a:solidFill>
                <a:latin typeface="Calibri"/>
              </a:rPr>
              <a:t>"Từ những điều anh vừa nói, tôi hiểu rằng anh rất sợ phải cai nghiện và không biết phải làm thế nào. Một mặt, nhiều người SDMT tin rằng họ sẽ chết nếu cai nghiện. Nhưng mặt khác, anh cũng nói rằng anh gặp khá nhiều rắc rối do sử dụng ma túy và anh cũng biết nhiều người đã cai nghiện thành công, đúng không?"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Những kĩ năng khác có thể dùng trong tình huống này là chỉnh khung và chuyển chủ đề. Chúng ta sẽ có cơ hội để thực hành các kĩ năng này trong phần sau.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17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6BF83A-9495-4AE4-AC72-4C763A2968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Diễn giải giúp khách hàng nhận ra ý nghĩa của những hành động của mình, từ góc nhìn của tư vấn viên. Nó cũng giúp cho người tư vấn chỉ ra mối liên kết giữa suy nghĩ, tình cảm và hành vi của khách hàng với các hậu quả có thể xảy ra. Nó giúp cho khách hàng nhận thấy có nhiều cách khác nhau để cùng nhìn nhận một vấn đề, một tình huống, hay một giải pháp. Kĩ năng diễn giải sẽ hiệu quả hơn nếu bạn đưa ra lời diễn giải theo hình thức gợi ý thay vì một câu khẳng định, sự kiện hoặc niềm tin. Bạn có thể bắt đầu câu diễn giải bằng cách, “Nghe những gì anh nói thì hình như là ...”. Cách này sẽ khiến cho khách hàng cảm thấy thoải mái hơn vì thấy tư vấn viên không phán xét mìn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0B12A3-D617-4306-92B1-3DC0C1E7CF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04840" y="696960"/>
            <a:ext cx="4648320" cy="3486240"/>
          </a:xfrm>
          <a:prstGeom prst="rect">
            <a:avLst/>
          </a:prstGeom>
          <a:ln w="0">
            <a:noFill/>
          </a:ln>
        </p:spPr>
      </p:sp>
      <p:sp>
        <p:nvSpPr>
          <p:cNvPr id="17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Diễn giải là một kĩ năng rất quan trọng và bao gồm 3 thành phần: 1) xác định và nhắc lại những thông tin cơ bản; 2) bổ sung thêm ý kiến của tư vấn viên để giúp khách hàng có cách hiểu mới; và 3) kiểm tra lại những ý kiến này với khách hàng. Là người tư vấn, bạn có thể diễn giải thông tin, xác định cảm xúc phù hợp và phản hồi lại với khách hàng. Như vậy, bạn đã giúp khách hàng có cơ hội hiểu được hàm ý của những điều họ nói.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Kĩ năng diễn giải cũng được dùng để tìm hiểu về cảm xúc mà khách hàng trải qua, trong trường hợp họ cảm thấy bối rối. Đôi khi, khách hàng bị nhầm lẫn giữa các cảm xúc. Khách hàng thường lẫn lộn 2 trạng thái cảm xúc là tức giận và buồn bã. Họ nói rằng họ đang buồn trong khi thực tế là họ đang giận dữ. Người tư vấn cũng có thể nhầm lẫn khi gán hoàn cảnh này với trạng thái cảm xúc kia, trong khi thực tế khách hàng không hề cảm nhận như thế. Đó là lí do tại sao bạn cần diễn giải cẩn thận những gì khách hàng nói, khi bạn nhận thấy cảm xúc thực sự của họ không giống những gì họ miêu tả.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Đôi khi, khách hàng không nhận ra sự liên hệ giữa những hành vi của họ và những hậu quả của những hành vi đó. Cách diễn giải giúp khách hàng nhận thức được những hậu quả đó một cách rõ ràng hơn. Cách làm này cũng sử dụng nguyên tắc “bảng ra quyết định” (thảo luận sau) để thảo luận với khách hàng về những hậu quả trước mắt và lâu dài của hành vi. Ví dụ bạn có thể nói, "Từ những điều anh vừa nói, tôi hiểu rằng anh cũng nhận thấy rằng hút thuốc khiến cho anh bị ho. Thực tế, phổi của anh cũng có thể đã bị ảnh hưởng nghiêm trọng. Anh đã bao giờ suy nghĩ về hậu quả này chưa?"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44159B-E747-4DE7-A844-D0AE523EF3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a:t>
            </a:r>
            <a:r>
              <a:rPr b="0" lang="en-US" sz="1200" spc="-1" strike="noStrike">
                <a:solidFill>
                  <a:srgbClr val="000000"/>
                </a:solidFill>
                <a:latin typeface="Calibri"/>
              </a:rPr>
              <a:t>: Chỉ chiếu tiêu đề của bản chiếu, đặt câu hỏi dưới đây và dành thời gian để học viên  trả lời rồi mới chiếu nội dung bản chiếu. Đề cập đến tất cả những điểm học viên chưa nhắc đến.</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Theo các bạn thì việc diễn giải mang lại những lợi ích gì cho tư vấn viên và cho khách hà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C4B820-3E64-453F-B958-BFA895FF22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04840" y="696960"/>
            <a:ext cx="4648320" cy="3486240"/>
          </a:xfrm>
          <a:prstGeom prst="rect">
            <a:avLst/>
          </a:prstGeom>
          <a:ln w="0">
            <a:noFill/>
          </a:ln>
        </p:spPr>
      </p:sp>
      <p:sp>
        <p:nvSpPr>
          <p:cNvPr id="18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Đôi khi bạn cần phải đặt thẳng vấn đề với khách hàng. Đối kháng thường là chỉ ra cho khách hàng thấy sự khác biệt giữa những điều họ tin (hoặc nghĩ) và những việc họ làm. Nó giống như là bạn cầm một chiếc gương cho họ soi và nói: “Tôi hiểu là bạn tin vào điều này nhưng tôi lại thấy rằng bạn đang làm điều khác. Như vậy có vẻ không được thống nhất. Bạn có thể giải thích về điều đó không?”</a:t>
            </a:r>
            <a:endParaRPr b="0" lang="en-US" sz="1200" spc="-1" strike="noStrike">
              <a:solidFill>
                <a:srgbClr val="000000"/>
              </a:solidFill>
              <a:latin typeface="Calibri"/>
            </a:endParaRPr>
          </a:p>
        </p:txBody>
      </p:sp>
      <p:sp>
        <p:nvSpPr>
          <p:cNvPr id="18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077A8F-25FD-4C3A-AB78-2D62A8D81B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Đối kháng là một kĩ năng không nên sử dụng thường xuyên trong buổi tư vấn. Bạn nên lựa chọn thật cẩn thận cách đối kháng vì nó có thể khiến cho khách hàng phản kháng mạnh mẽ hơn đối với việc thay đổi hành vi và sẽ khiến cho việc xây dựng mối quan hệ và niềm tin với khách hàng trở nên khó khăn. Thực tế, bạn không đối kháng với khách hàng mà làm cho họ tự thách thức bản thâ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Khi chúng ta thảo luận về phỏng vấn tạo động lực các bạn sẽ hiểu tại sao cần thận trọng khi sử dụng kĩ năng đối khá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Đối kháng có thể là cần thiết khi bạn nghe thấy khách hàng nói về những điều mà bạn biết rằng rất nguy hiểm hoặc vô nghĩa, và có thể gây nguy hại cho họ. Trong trường hợp này, bạn có thể bày tỏ sự lo ngại hoặc cung cấp thông tin về những tác hại của những điều họ vừa nói đến. Điều này rất quan trọng bởi vì có thể khách hàng chưa được nghe sự thật từ những người khác. </a:t>
            </a:r>
            <a:endParaRPr b="0" lang="en-US" sz="1200" spc="-1" strike="noStrike">
              <a:solidFill>
                <a:srgbClr val="000000"/>
              </a:solidFill>
              <a:latin typeface="Calibri"/>
            </a:endParaRPr>
          </a:p>
        </p:txBody>
      </p:sp>
      <p:sp>
        <p:nvSpPr>
          <p:cNvPr id="18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ACD669-8BD0-478E-974E-9DBF8B17D1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04840" y="696960"/>
            <a:ext cx="4648320" cy="3486240"/>
          </a:xfrm>
          <a:prstGeom prst="rect">
            <a:avLst/>
          </a:prstGeom>
          <a:ln w="0">
            <a:noFill/>
          </a:ln>
        </p:spPr>
      </p:sp>
      <p:sp>
        <p:nvSpPr>
          <p:cNvPr id="19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 </a:t>
            </a:r>
            <a:r>
              <a:rPr b="0" i="1" lang="en-US" sz="1200" spc="-1" strike="noStrike">
                <a:solidFill>
                  <a:srgbClr val="000000"/>
                </a:solidFill>
                <a:latin typeface="Calibri"/>
              </a:rPr>
              <a:t>Điều quan trọng là bạn phải nhận thức được rằng có nhiều cách giao tiếp gây ảnh hưởng xấu đến hiệu quả tư vấn. Một số cách đã được đề cập trong phần các kĩ năng tư vấn. Đa số những cách tiếp cận đề cập trong bản chiếu này sẽ khiến cho khách hàng phản kháng, không chịu thay đổi, và có thể khiến họ không tiếp tục đến với dịch vụ tư vấn nữa vì cảm thấy không ai hiểu mình cả. </a:t>
            </a:r>
            <a:endParaRPr b="0" lang="en-US" sz="1200" spc="-1" strike="noStrike">
              <a:solidFill>
                <a:srgbClr val="000000"/>
              </a:solidFill>
              <a:latin typeface="Calibri"/>
            </a:endParaRPr>
          </a:p>
        </p:txBody>
      </p:sp>
      <p:sp>
        <p:nvSpPr>
          <p:cNvPr id="19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240BB2-DC72-4797-9403-A28E445AB5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r>
              <a:rPr b="1" lang="en-US" sz="1100" spc="-1" strike="noStrike">
                <a:solidFill>
                  <a:srgbClr val="000000"/>
                </a:solidFill>
                <a:latin typeface="Calibri"/>
              </a:rPr>
              <a:t>Nói: </a:t>
            </a:r>
            <a:r>
              <a:rPr b="0" i="1" lang="en-US" sz="1100" spc="-1" strike="noStrike">
                <a:solidFill>
                  <a:srgbClr val="000000"/>
                </a:solidFill>
                <a:latin typeface="Calibri"/>
              </a:rPr>
              <a:t>Cần tránh cư xử không chân thành. Khách hàng có thể nhận biết bạn có chân thành hay không thông qua lời nói hoặc hành động của bạn. Tư vấn đòi hỏi bạn phải thể hiện sự cam kết chân thành. Khách hàng cũng sẽ cảm thấy chán nếu bạn nhắc đi nhắc lại mãi một thông tin theo đúng một cách. Tuy nhiên, bạn vẫn cần nhắc lại thông tin trong các buổi tư vấn tiếp theo vì khách hàng có thể quên hoặc hiểu sai.</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Không dùng những lời nói sáo rỗng vì chúng khiến bạn có vẻ không chân thành. Tương tự, dùng những thuật ngữ chuyên môn sẽ gây khó hiểu cho khách hàng và khiến họ cảm thấy xa cách, thấp kém.</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Cuối cùng, bạn không nên thỏa hiệp với khách hàng theo cách phản tác dụng đối với việc duy trì mục tiêu đã đề ra. Thoả hiệp nghĩa là bạn không phản ứng khi khách hàng nói ra những điều mà bạn biết là không đúng và tiềm ẩn mối nguy hại. Tư vấn viên lâm sàng cũng có nguy cơ thoả hiệp với khách hàng trong khi điều trị, dẫn tới hình thành mối quan hệ không lành mạnh. Vì thế, cần phải duy trì mối quan hệ chuyên nghiệp, độc lập với khách hàng.</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Chúng ta đã thảo luận về các kĩ năng tư vấn và bây giờ là cơ hội để chúng ta thực hành sắm vai.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Hướng dẫn giảng dạy: </a:t>
            </a:r>
            <a:r>
              <a:rPr b="0" lang="en-US" sz="1100" spc="-1" strike="noStrike">
                <a:solidFill>
                  <a:srgbClr val="000000"/>
                </a:solidFill>
                <a:latin typeface="Calibri"/>
              </a:rPr>
              <a:t>Đề nghị một học viên lên thực hành đóng vai. Giảng viên sẽ đóng vai khách hàng, tưởng tượng ra một tình huống sao cho học viên có thể vận dụng nhiều kĩ năng tư vấn khác nhau. Sau khi kết thúc, hỏi cả lớp xem học viên đó đã sử dụng những kĩ năng nào trong phần đóng vai. </a:t>
            </a: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p:txBody>
      </p:sp>
      <p:sp>
        <p:nvSpPr>
          <p:cNvPr id="19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013BBE-FA08-4348-B3BD-FE5140AE22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04840" y="696960"/>
            <a:ext cx="4648320" cy="3486240"/>
          </a:xfrm>
          <a:prstGeom prst="rect">
            <a:avLst/>
          </a:prstGeom>
          <a:ln w="0">
            <a:noFill/>
          </a:ln>
        </p:spPr>
      </p:sp>
      <p:sp>
        <p:nvSpPr>
          <p:cNvPr id="11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Để giúp các bạn hiểu được sự khác nhau giữa kĩ năng và kĩ thuật, trước tiên, chúng ta hãy nói về “kĩ thuậ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Kĩ thuật là cách thức thực hiện một công việc mà cách làm đó không dễ dàng nhận biết ngay được. Một ví dụ về kĩ thuật là cách bạn làm món cơm rang. Mặc dù nhiều người có thể rang cơm nhưng không phải ai cũng có thể chỉ ra rõ ràng từng bước cần thực hiện để có món cơm rang ng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Nhiều kĩ thuật chúng ta sẽ học trong khóa tập huấn này có liên quan đến dự phòng tái nghiện, bao gồm: đối phó với cơn thèm nhớ ma túy, kĩ năng từ chối, đối phó với các trạng thái cảm xúc, quản lí sự căng thẳng … Chúng ta sẽ thảo luận và học từng bước cần thiết để thực hiện các kĩ thuật nà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BEE6B7-DADB-43D8-907F-6CFC5914F5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04840" y="696960"/>
            <a:ext cx="4648320" cy="3486240"/>
          </a:xfrm>
          <a:prstGeom prst="rect">
            <a:avLst/>
          </a:prstGeom>
          <a:ln w="0">
            <a:noFill/>
          </a:ln>
        </p:spPr>
      </p:sp>
      <p:sp>
        <p:nvSpPr>
          <p:cNvPr id="19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Ôn lại những nội dung chính của bài học.</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ông tin tham kh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Kĩ năng tư vấn là những công cụ cơ bản sử dụng trong tư vấn điều trị nghiện ma túy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Các kĩ năng tư vấn này được sử dụng cùng với các kĩ thuật dự phòng tái nghiện để xây dựng nền móng cho tư vấn điều trị nghiện ma túy hiệu quả.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Cảm ơn học viên vì đã chú ý lắng nghe và tham gia nhiệt tình trong những phần thảo luận. Hỏi xem họ có còn câu hỏi nào nữa không. Nếu có thì hãy trả lời những câu hỏi liên quan tới nội dung bài giảng. Nếu câu hỏi liên quan tới những bài học khác, hãy trả lời rằng những nội dung đó sẽ được đề cập tới trong những phần sau, và đề nghị họ ghi lại các câu hỏi đó cho các bài học tiếp theo.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E34AFD-FAD2-43DA-B161-6B91026BC9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04840" y="696960"/>
            <a:ext cx="4648320" cy="3486240"/>
          </a:xfrm>
          <a:prstGeom prst="rect">
            <a:avLst/>
          </a:prstGeom>
          <a:ln w="0">
            <a:noFill/>
          </a:ln>
        </p:spPr>
      </p:sp>
      <p:sp>
        <p:nvSpPr>
          <p:cNvPr id="11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Calibri"/>
              </a:rPr>
              <a:t> </a:t>
            </a:r>
            <a:r>
              <a:rPr b="1" i="1" lang="en-US" sz="1200" spc="-1" strike="noStrike">
                <a:solidFill>
                  <a:srgbClr val="000000"/>
                </a:solidFill>
                <a:latin typeface="Calibri"/>
              </a:rPr>
              <a:t>Nói: </a:t>
            </a:r>
            <a:r>
              <a:rPr b="0" i="1" lang="en-US" sz="1200" spc="-1" strike="noStrike">
                <a:solidFill>
                  <a:srgbClr val="000000"/>
                </a:solidFill>
                <a:latin typeface="Calibri"/>
              </a:rPr>
              <a:t>Để thuần thục một kĩ thuật, ta phải cần có những kĩ năng cần thiết để thực hiện những hành động cụ thể. Ví dụ, để làm món cơm rang, cần có kĩ năng nấu cơm, kĩ năng thái rau và cho rau vào cơm.  Nếu không có những kĩ năng này, bạn không thể có món cơm rang ngon được cho dù bạn có thể làm đúng trình tự các bước. Có những kĩ năng cụ thể sẽ giúp bạn thực hiện tốt một công việc đòi hỏi kĩ thuật ca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Với ví dụ này, chúng ta có thể thấy kĩ thuật giống như là công thức nấu ăn và kĩ năng là khả năng nấu được món ăn ngon với công thức đó (ở đây món ăn có thể là bất cứ công việc gì, như giải quyết vấn đề, quản lí thời gian, đối phó với cơn thèm nhớ ma túy …). Mặc dù có cùng một công thức nấu ăn như nhau nhưng một số đầu bếp (tư vấn viên) sẽ nấu ngon hơn người khác vì kĩ năng của họ tốt hơn (đảo thức ăn như thế nào khi nấu, khi nào thì bắt đầu đảo, bao nhiêu lửa là vừa đủ…). Việc một người sử dụng kĩ năng thành thạo đến đâu sẽ phụ thuộc vào việc người đó được thực hành kĩ năng đó nhiều hay í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Tư vấn viên điều trị nghiện ma túy sử dụng rất nhiều kĩ năng khác nhau mà chúng ta sẽ thảo luận trong bài này. Trong bài trước, chúng ta đã biết rằng tư vấn điều trị nghiện ma túy là một can thiệp có chủ đích nhằm hướng dẫn khách hàng các biện pháp dự phòng tái nghiện.Những kĩ thuật này sẽ là chủ đề trong các bài học tiếp theo của khóa học. </a:t>
            </a:r>
            <a:endParaRPr b="0" lang="en-US" sz="1200" spc="-1" strike="noStrike">
              <a:solidFill>
                <a:srgbClr val="000000"/>
              </a:solidFill>
              <a:latin typeface="Calibri"/>
            </a:endParaRPr>
          </a:p>
        </p:txBody>
      </p:sp>
      <p:sp>
        <p:nvSpPr>
          <p:cNvPr id="1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ADFE6A-6F8C-4F3F-9AED-B754306621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04840" y="696960"/>
            <a:ext cx="4648320" cy="3486240"/>
          </a:xfrm>
          <a:prstGeom prst="rect">
            <a:avLst/>
          </a:prstGeom>
          <a:ln w="0">
            <a:noFill/>
          </a:ln>
        </p:spPr>
      </p:sp>
      <p:sp>
        <p:nvSpPr>
          <p:cNvPr id="12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Calibri"/>
              </a:rPr>
              <a:t> </a:t>
            </a:r>
            <a:r>
              <a:rPr b="1" i="1" lang="en-US" sz="1200" spc="-1" strike="noStrike">
                <a:solidFill>
                  <a:srgbClr val="000000"/>
                </a:solidFill>
                <a:latin typeface="Calibri"/>
              </a:rPr>
              <a:t>Nói: </a:t>
            </a:r>
            <a:r>
              <a:rPr b="0" i="1" lang="en-US" sz="1200" spc="-1" strike="noStrike">
                <a:solidFill>
                  <a:srgbClr val="000000"/>
                </a:solidFill>
                <a:latin typeface="Calibri"/>
              </a:rPr>
              <a:t>Bài giảng này sẽ được chia làm 2 phần. Có rất nhiều kĩ năng tư vấn khác nhau và các bạn cần thực hành từng kĩ năng một để có thể áp dụng thành thạo. Chỉ có bằng cách thực hành cẩn thận và thường xuyên, bạn mới có thể sử dụng thuần thục các kĩ năng này trong quá trình tư vấn. Mỗi một kĩ năng có một mục đích khác nhau, có vai trò hỗ trợ cho cả tư vấn viên và khách hàng. Chúng ta sẽ lần lượt thảo luận chi tiết về từng kĩ nă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ông tin tham khảo:</a:t>
            </a:r>
            <a:r>
              <a:rPr b="1" i="1" lang="en-US" sz="1200" spc="-1" strike="noStrike">
                <a:solidFill>
                  <a:srgbClr val="000000"/>
                </a:solidFill>
                <a:latin typeface="Calibri"/>
              </a:rPr>
              <a:t> </a:t>
            </a:r>
            <a:r>
              <a:rPr b="0" lang="en-US" sz="1200" spc="-1" strike="noStrike">
                <a:solidFill>
                  <a:srgbClr val="000000"/>
                </a:solidFill>
                <a:latin typeface="Calibri"/>
              </a:rPr>
              <a:t>Những tư vấn viên mới học các kĩ năng này thường nhầm lẫn một số kĩ năng với nhau vì chúng gần giống nhau. Vì vậy, việc thực hành từng kĩ năng hoặc qua quan sát trực tiếp thực hành mẫu, hoặc qua đóng vai là rất quan trọng. Kinh nghiệm cho thấy tư vấn viên mới thường nhầm lẫn giữa các kĩ năng diễn đạt, tóm tắt và diễn giải. Họ cũng có thể nhầm lẫn giữa kĩ năng lựa theo sự phản kháng và đối kháng. Ngoài ra, kĩ năng khơi gợi và kĩ năng đặt câu hỏi mở cũng cần được đem ra so sánh và chỉ rõ sự khác biệ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a:t>
            </a:r>
            <a:r>
              <a:rPr b="0" lang="en-US" sz="1200" spc="-1" strike="noStrike">
                <a:solidFill>
                  <a:srgbClr val="000000"/>
                </a:solidFill>
                <a:latin typeface="Calibri"/>
              </a:rPr>
              <a:t>: Cần có thời gian nghỉ giải lao giữa phần 1 và phần 2 để học viên có thể nghỉ ngơi và có tiếp năng lượng và nhiệt tình cho việc học tập.</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17950F-594A-45B1-B7A8-928A33D3E8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4840" y="696960"/>
            <a:ext cx="4648320" cy="3486240"/>
          </a:xfrm>
          <a:prstGeom prst="rect">
            <a:avLst/>
          </a:prstGeom>
          <a:ln w="0">
            <a:noFill/>
          </a:ln>
        </p:spPr>
      </p:sp>
      <p:sp>
        <p:nvSpPr>
          <p:cNvPr id="12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Calibri"/>
              </a:rPr>
              <a:t> </a:t>
            </a:r>
            <a:r>
              <a:rPr b="1" i="1" lang="en-US" sz="1200" spc="-1" strike="noStrike">
                <a:solidFill>
                  <a:srgbClr val="000000"/>
                </a:solidFill>
                <a:latin typeface="Calibri"/>
              </a:rPr>
              <a:t>Nói: </a:t>
            </a:r>
            <a:r>
              <a:rPr b="0" i="1" lang="en-US" sz="1200" spc="-1" strike="noStrike">
                <a:solidFill>
                  <a:srgbClr val="000000"/>
                </a:solidFill>
                <a:latin typeface="Calibri"/>
              </a:rPr>
              <a:t>Nhóm kĩ năng tư vấn thứ nhất mà tôi sẽ cùng thảo luận với các bạn bao gồ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Chú ý</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Câu hỏi mở</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Diễn đạ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Tóm tắ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Lắng nghe có phản hồi (phản hồi cảm xúc)</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Khơi gợi</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Im lặ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Chúng ta sẽ cùng thảo luận chi tiết về từng kĩ năng nêu trê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 </a:t>
            </a:r>
            <a:endParaRPr b="0" lang="en-US" sz="1200" spc="-1" strike="noStrike">
              <a:solidFill>
                <a:srgbClr val="000000"/>
              </a:solidFill>
              <a:latin typeface="Calibri"/>
            </a:endParaRPr>
          </a:p>
        </p:txBody>
      </p:sp>
      <p:sp>
        <p:nvSpPr>
          <p:cNvPr id="12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F06BB8-0BBC-4B78-A0A1-953B0A2B23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04840" y="696960"/>
            <a:ext cx="4648320" cy="3486240"/>
          </a:xfrm>
          <a:prstGeom prst="rect">
            <a:avLst/>
          </a:prstGeom>
          <a:ln w="0">
            <a:noFill/>
          </a:ln>
        </p:spPr>
      </p:sp>
      <p:sp>
        <p:nvSpPr>
          <p:cNvPr id="12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Khi chú ý, bạn thể hiện rằng bạn lắng nghe những lời nói và cũng chú ý đến những ngôn ngữ không lời của khách hàng. Bạn có thể đáp lại bằng những từ như “ừ”, “vâng”, hoặc bằng cách nhắc lại những từ chính mà khách hàng vừa nói. Điều đó giúp cho khách hàng cảm thấy thư giãn thoải mái và có thể diễn tả suy nghĩ của mình một cách tự nhiên. Khi bạn gật đầu có nghĩa là bạn đang nói: Vâng, tôi hiểu và tôi đang lắng nghe anh đây. Tuy nhiên, bạn cũng cần phải chú ý quan sát khách hàng để nắm bắt những ngôn ngữ không lời. Dựa vào đó bạn có thể đánh giá được những lời họ nói ra từ miệng có đúng là những gì họ đang nghĩ trong đầu và cảm nhận trong lòng hay khô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Bạn cần ghi nhớ rằng trong tư vấn, phần lớn thời gian công việc tư vấn là phải lắng nghe. Bạn lắng nghe và quan sát là chính chứ bạn không phải nói là chín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Bạn nên thử thực hành kĩ năng này với gia đình và bạn bè: đầu tiên thử tỏ vẻ không quan tâm đến những điều họ nói, sau đó hãy tỏ ra thực sự quan tâm. Quan sát xem thái độ phản ứng của họ như thế nào. Sự khác nhau tùy thuộc vào việc bạn chú ý vào câu chuyện đến đâu. Thông thường, mọi người phản ứng rất nhiều với những ngôn ngữ không lờ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5BA493-5D32-4B33-A866-19CBD6B000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4840" y="696960"/>
            <a:ext cx="4648320" cy="3486240"/>
          </a:xfrm>
          <a:prstGeom prst="rect">
            <a:avLst/>
          </a:prstGeom>
          <a:ln w="0">
            <a:noFill/>
          </a:ln>
        </p:spPr>
      </p:sp>
      <p:sp>
        <p:nvSpPr>
          <p:cNvPr id="13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 </a:t>
            </a:r>
            <a:r>
              <a:rPr b="1" lang="en-US" sz="1000" spc="-1" strike="noStrike">
                <a:solidFill>
                  <a:srgbClr val="000000"/>
                </a:solidFill>
                <a:latin typeface="Calibri"/>
              </a:rPr>
              <a:t>Nói:</a:t>
            </a:r>
            <a:r>
              <a:rPr b="1" i="1" lang="en-US" sz="1000" spc="-1" strike="noStrike">
                <a:solidFill>
                  <a:srgbClr val="000000"/>
                </a:solidFill>
                <a:latin typeface="Calibri"/>
              </a:rPr>
              <a:t> </a:t>
            </a:r>
            <a:r>
              <a:rPr b="0" i="1" lang="en-US" sz="1000" spc="-1" strike="noStrike">
                <a:solidFill>
                  <a:srgbClr val="000000"/>
                </a:solidFill>
                <a:latin typeface="Calibri"/>
              </a:rPr>
              <a:t>Bằng cách thể hiện rằng bạn đang thực sự chú ý lắng nghe, bạn sẽ giúp khách hàng cảm thấy thư giãn và thoải mái, khuyến khích họ bày tỏ suy nghĩ một cách cởi mở hơn, và họ sẽ tin tưởng vào bạn hơn.</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Chú ý cũng giúp cho tư vấn viên thu được thông tin chính xác về khách hàng thông qua quan sát và nhận biết các dấu hiệu thể chất, ví dụ như khách hàng có triệu chứng cắt cơn hay có đau đớn gì không. Ngôn ngữ cơ thể cũng một phần giúp cho tư vấn viên nhận định xem khách hàng đó đang ở giai đoạn thay đổi hành vi nào (giải thích trong bài sau). Ví dụ, khách hàng có thể biểu lộ rằng họ thực sự quan tâm đến những điều bạn đang nói, hoặc ngược lại, họ tỏ ra hoàn toàn thờ ơ.</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Hướng dẫn giảng dạy: </a:t>
            </a:r>
            <a:r>
              <a:rPr b="0" lang="en-US" sz="1000" spc="-1" strike="noStrike">
                <a:solidFill>
                  <a:srgbClr val="000000"/>
                </a:solidFill>
                <a:latin typeface="Calibri"/>
              </a:rPr>
              <a:t>Tiến hành hoạt động đóng vai để thể hiện kĩ năng chú ý.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Đề nghị một học viên xung phong tham gia. Trao đổi riêng với học viên này về kịch bản và cách thể hiện khi đóng vai. Học viên sẽ đóng vai một khách hàng tìm đến tâm sự với tư vấn viên, và bạn (giảng viên) sẽ đóng vai tư vấn viên, thể hiện kĩ năng chú ý.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iải thích với cả lớp rằng trong tình huống đóng vai này, khách hàng tìm đến với tư vấn viên lần đầu tiên. Tiến hành vở diễn với thời lượng đủ dài sao cho bạn có thể làm mẫu kĩ năng chú ý một cách kĩ lưỡng.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Hỏi cả lớp xem họ có câu hỏi gì không.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ũng có thể yêu cầu 2 học viên tình nguyện lên đóng vai: một người đóng vai khách hàng, người kia đóng vai nhân viên tư vấn. Sau đó đề nghị cả lớp cho nhận xét về vở diễn: tư vấn viên đã thể hiện kĩ năng chú ý như thế nào? Những hành động nào không phù hợp khi tư vấn? Giảng viên tóm tắt lại và khẳng định những ý đúng. </a:t>
            </a:r>
            <a:r>
              <a:rPr b="0" lang="en-US" sz="1000" spc="-1" strike="noStrike">
                <a:solidFill>
                  <a:srgbClr val="000000"/>
                </a:solidFill>
                <a:latin typeface="Calibri"/>
              </a:rPr>
              <a:t>	</a:t>
            </a:r>
            <a:endParaRPr b="0" lang="en-US" sz="1000" spc="-1" strike="noStrike">
              <a:solidFill>
                <a:srgbClr val="000000"/>
              </a:solidFill>
              <a:latin typeface="Calibri"/>
            </a:endParaRPr>
          </a:p>
        </p:txBody>
      </p:sp>
      <p:sp>
        <p:nvSpPr>
          <p:cNvPr id="13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B3A37C-7DCF-488F-A2BD-3C6288C6D1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04840" y="696960"/>
            <a:ext cx="4648320" cy="3486240"/>
          </a:xfrm>
          <a:prstGeom prst="rect">
            <a:avLst/>
          </a:prstGeom>
          <a:ln w="0">
            <a:noFill/>
          </a:ln>
        </p:spPr>
      </p:sp>
      <p:sp>
        <p:nvSpPr>
          <p:cNvPr id="13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Hướng dẫn giảng dạy: </a:t>
            </a:r>
            <a:r>
              <a:rPr b="0" lang="en-US" sz="900" spc="-1" strike="noStrike">
                <a:solidFill>
                  <a:srgbClr val="000000"/>
                </a:solidFill>
                <a:latin typeface="Calibri"/>
              </a:rPr>
              <a:t>Chỉ chiếu tiêu đề bản chiếu, đặt các câu hỏi dưới đây và dành thời gian để học viên trả lời. Sử dụng nội dung trong phần Thông tin tham khảo để cung cấp thêm thông tin cho học viên nếu cần.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r>
              <a:rPr b="1" lang="en-US" sz="900" spc="-1" strike="noStrike">
                <a:solidFill>
                  <a:srgbClr val="000000"/>
                </a:solidFill>
                <a:latin typeface="Calibri"/>
              </a:rPr>
              <a:t>Nói: </a:t>
            </a:r>
            <a:r>
              <a:rPr b="0" i="1" lang="en-US" sz="900" spc="-1" strike="noStrike">
                <a:solidFill>
                  <a:srgbClr val="000000"/>
                </a:solidFill>
                <a:latin typeface="Calibri"/>
              </a:rPr>
              <a:t>Các bạn hãy cho ví dụ về câu hỏi mở?</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Thông tin tham khảo: </a:t>
            </a:r>
            <a:r>
              <a:rPr b="0" lang="en-US" sz="900" spc="-1" strike="noStrike">
                <a:solidFill>
                  <a:srgbClr val="000000"/>
                </a:solidFill>
                <a:latin typeface="Calibri"/>
              </a:rPr>
              <a:t>Câu hỏi mở là câu hỏi cho phép khách hàng có thể trả lời theo nhiều cách khác nhau và cung cấp thông tin chi tiết. Câu hỏi mở là câu hỏi mà người hỏi không thể dự đoán trước người được hỏi sẽ trả lời như thế nào, cũng như không thể biết được những chiều hướng khác nhau trong câu trả lời.</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r>
              <a:rPr b="1" lang="en-US" sz="900" spc="-1" strike="noStrike">
                <a:solidFill>
                  <a:srgbClr val="000000"/>
                </a:solidFill>
                <a:latin typeface="Calibri"/>
              </a:rPr>
              <a:t>Nói: </a:t>
            </a:r>
            <a:r>
              <a:rPr b="0" i="1" lang="en-US" sz="900" spc="-1" strike="noStrike">
                <a:solidFill>
                  <a:srgbClr val="000000"/>
                </a:solidFill>
                <a:latin typeface="Calibri"/>
              </a:rPr>
              <a:t>Vậy ngược với câu hỏi mở là gì?</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Thông tin tham khảo: </a:t>
            </a:r>
            <a:r>
              <a:rPr b="0" lang="en-US" sz="900" spc="-1" strike="noStrike">
                <a:solidFill>
                  <a:srgbClr val="000000"/>
                </a:solidFill>
                <a:latin typeface="Calibri"/>
              </a:rPr>
              <a:t>Câu hỏi đóng là câu hỏi có các câu trả lời theo phạm vi lựa chọn. Người được hỏi sẽ trả lời theo những lựa chọn cụ thể. Ví dụ, câu hỏi “Có - Không” là một câu hỏi đóng, chỉ cho phép người được hỏi 2 lựa chọn "có" và "không" để trả lời. Ngoài ra, có rất nhiều ví dụ về những câu hỏi đưa ra lựa chọn, ví dụ: màu sắc, tuổi, tốc độ, số lượng ...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r>
              <a:rPr b="1" lang="en-US" sz="900" spc="-1" strike="noStrike">
                <a:solidFill>
                  <a:srgbClr val="000000"/>
                </a:solidFill>
                <a:latin typeface="Calibri"/>
              </a:rPr>
              <a:t>Nói: </a:t>
            </a:r>
            <a:r>
              <a:rPr b="0" i="1" lang="en-US" sz="900" spc="-1" strike="noStrike">
                <a:solidFill>
                  <a:srgbClr val="000000"/>
                </a:solidFill>
                <a:latin typeface="Calibri"/>
              </a:rPr>
              <a:t>Tất cả các bạn đã rõ về sự khác nhau giữa câu hỏi đóng và câu hỏi mở chưa? Trong khi nói chuyện, chúng ta thường hay có xu hướng dùng câu hỏi đóng hơn là câu hỏi mở. Theo các bạn thì tại sao?</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Hướng dẫn giảng dạy: </a:t>
            </a:r>
            <a:r>
              <a:rPr b="0" lang="en-US" sz="900" spc="-1" strike="noStrike">
                <a:solidFill>
                  <a:srgbClr val="000000"/>
                </a:solidFill>
                <a:latin typeface="Calibri"/>
              </a:rPr>
              <a:t>Nếu không có ai trả lời, bạn có thể gợi ý cho học viên rằng hỏi câu hỏi đóng thì khách hàng sẽ trả lời nhanh và dễ dàng hơn, đồng thời tư vấn viên cũng dễ hỏi hơn.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r>
              <a:rPr b="1" lang="en-US" sz="900" spc="-1" strike="noStrike">
                <a:solidFill>
                  <a:srgbClr val="000000"/>
                </a:solidFill>
                <a:latin typeface="Calibri"/>
              </a:rPr>
              <a:t>Nói: </a:t>
            </a:r>
            <a:r>
              <a:rPr b="0" i="1" lang="en-US" sz="900" spc="-1" strike="noStrike">
                <a:solidFill>
                  <a:srgbClr val="000000"/>
                </a:solidFill>
                <a:latin typeface="Calibri"/>
              </a:rPr>
              <a:t>Câu hỏi mở có những lợi ích gì?</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Hướng dẫn giảng dạy: </a:t>
            </a:r>
            <a:r>
              <a:rPr b="0" lang="en-US" sz="900" spc="-1" strike="noStrike">
                <a:solidFill>
                  <a:srgbClr val="000000"/>
                </a:solidFill>
                <a:latin typeface="Calibri"/>
              </a:rPr>
              <a:t>Dành thời gian cho học viên trả lời. Sau đó lần lượt chiếu các nội dung của bản chiếu, nhấn mạnh những điểm học viên chưa đề cập tới. Yêu cầu một học viên tham gia đóng vai để đặt các câu hỏi mở. So sánh những câu hỏi này với câu hỏi đóng. </a:t>
            </a:r>
            <a:r>
              <a:rPr b="0" lang="en-US" sz="900" spc="-1" strike="noStrike">
                <a:solidFill>
                  <a:srgbClr val="000000"/>
                </a:solidFill>
                <a:latin typeface="Calibri"/>
              </a:rPr>
              <a:t>	</a:t>
            </a:r>
            <a:endParaRPr b="0" lang="en-US" sz="900" spc="-1" strike="noStrike">
              <a:solidFill>
                <a:srgbClr val="000000"/>
              </a:solidFill>
              <a:latin typeface="Calibri"/>
            </a:endParaRPr>
          </a:p>
        </p:txBody>
      </p:sp>
      <p:sp>
        <p:nvSpPr>
          <p:cNvPr id="13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CAF684-5AEF-4024-9AB1-0B486B5B49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AFC70-72FE-4C97-A6FA-74F43DF91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C0A3F-DD14-408C-98E2-32FE49CDE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399D3-38AD-47C8-8731-309D2D789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40885-DFB3-4D41-84B8-9B8EEC94A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DDDC6-C526-49EA-AA6D-CF0864F8B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041A0-8388-4CC9-B5B7-E0D85E46F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EDA85-5758-42C5-BEFF-1214B7566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59731-8CE9-4407-B44E-082FB7FA1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3EB59-F3B3-4E8B-91E0-402863CEA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BE0DA-7AAF-47E8-B58D-16CCE9EDB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E3E9B-1C87-467E-9D29-F46BF45FE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46EF4-A43F-47AB-85BF-473C03FF00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3A62BE-9B5C-445D-BAC5-49A7C3516F28}"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DC6EB3-8222-4D83-BE6C-5BCC64BF5D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2.1-1.ai"/>
          <p:cNvPicPr/>
          <p:nvPr/>
        </p:nvPicPr>
        <p:blipFill>
          <a:blip r:embed="rId1"/>
          <a:stretch/>
        </p:blipFill>
        <p:spPr>
          <a:xfrm>
            <a:off x="304920" y="152280"/>
            <a:ext cx="8604000" cy="6480360"/>
          </a:xfrm>
          <a:prstGeom prst="rect">
            <a:avLst/>
          </a:prstGeom>
          <a:ln w="0">
            <a:noFill/>
          </a:ln>
        </p:spPr>
      </p:pic>
      <p:sp>
        <p:nvSpPr>
          <p:cNvPr id="4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519B24-4E87-4494-8F16-AF6C4A62A543}"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2.1-1.ai"/>
          <p:cNvPicPr/>
          <p:nvPr/>
        </p:nvPicPr>
        <p:blipFill>
          <a:blip r:embed="rId1"/>
          <a:stretch/>
        </p:blipFill>
        <p:spPr>
          <a:xfrm>
            <a:off x="304920" y="152280"/>
            <a:ext cx="8604000" cy="6480360"/>
          </a:xfrm>
          <a:prstGeom prst="rect">
            <a:avLst/>
          </a:prstGeom>
          <a:ln w="0">
            <a:noFill/>
          </a:ln>
        </p:spPr>
      </p:pic>
      <p:sp>
        <p:nvSpPr>
          <p:cNvPr id="6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4872AB-C532-4806-B8D0-8B87A701CB02}"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2.1-1.ai"/>
          <p:cNvPicPr/>
          <p:nvPr/>
        </p:nvPicPr>
        <p:blipFill>
          <a:blip r:embed="rId1"/>
          <a:stretch/>
        </p:blipFill>
        <p:spPr>
          <a:xfrm>
            <a:off x="304920" y="152280"/>
            <a:ext cx="8604000" cy="6480360"/>
          </a:xfrm>
          <a:prstGeom prst="rect">
            <a:avLst/>
          </a:prstGeom>
          <a:ln w="0">
            <a:noFill/>
          </a:ln>
        </p:spPr>
      </p:pic>
      <p:sp>
        <p:nvSpPr>
          <p:cNvPr id="6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349FB4-B374-4528-9C75-F6FF75F45627}"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2.1-1.ai"/>
          <p:cNvPicPr/>
          <p:nvPr/>
        </p:nvPicPr>
        <p:blipFill>
          <a:blip r:embed="rId1"/>
          <a:stretch/>
        </p:blipFill>
        <p:spPr>
          <a:xfrm>
            <a:off x="304920" y="152280"/>
            <a:ext cx="8604000" cy="6480360"/>
          </a:xfrm>
          <a:prstGeom prst="rect">
            <a:avLst/>
          </a:prstGeom>
          <a:ln w="0">
            <a:noFill/>
          </a:ln>
        </p:spPr>
      </p:pic>
      <p:sp>
        <p:nvSpPr>
          <p:cNvPr id="7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A2B237-7C68-4AA5-9D5F-189F582E0064}"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2.1-1.ai"/>
          <p:cNvPicPr/>
          <p:nvPr/>
        </p:nvPicPr>
        <p:blipFill>
          <a:blip r:embed="rId1"/>
          <a:stretch/>
        </p:blipFill>
        <p:spPr>
          <a:xfrm>
            <a:off x="304920" y="152280"/>
            <a:ext cx="8604000" cy="6480360"/>
          </a:xfrm>
          <a:prstGeom prst="rect">
            <a:avLst/>
          </a:prstGeom>
          <a:ln w="0">
            <a:noFill/>
          </a:ln>
        </p:spPr>
      </p:pic>
      <p:sp>
        <p:nvSpPr>
          <p:cNvPr id="7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A4804A-A5C9-44ED-BCB7-221D1C08303D}"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2.1-1.ai"/>
          <p:cNvPicPr/>
          <p:nvPr/>
        </p:nvPicPr>
        <p:blipFill>
          <a:blip r:embed="rId1"/>
          <a:stretch/>
        </p:blipFill>
        <p:spPr>
          <a:xfrm>
            <a:off x="304920" y="152280"/>
            <a:ext cx="8604000" cy="6480360"/>
          </a:xfrm>
          <a:prstGeom prst="rect">
            <a:avLst/>
          </a:prstGeom>
          <a:ln w="0">
            <a:noFill/>
          </a:ln>
        </p:spPr>
      </p:pic>
      <p:sp>
        <p:nvSpPr>
          <p:cNvPr id="7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0CDC18-01D8-430D-982A-543F33D816F2}"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3" descr="2.1-1.ai"/>
          <p:cNvPicPr/>
          <p:nvPr/>
        </p:nvPicPr>
        <p:blipFill>
          <a:blip r:embed="rId1"/>
          <a:stretch/>
        </p:blipFill>
        <p:spPr>
          <a:xfrm>
            <a:off x="304920" y="152280"/>
            <a:ext cx="8604000" cy="6480360"/>
          </a:xfrm>
          <a:prstGeom prst="rect">
            <a:avLst/>
          </a:prstGeom>
          <a:ln w="0">
            <a:noFill/>
          </a:ln>
        </p:spPr>
      </p:pic>
      <p:sp>
        <p:nvSpPr>
          <p:cNvPr id="7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A99987-0EA8-477C-B6E6-091D2EA7769D}"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2.1-1.ai"/>
          <p:cNvPicPr/>
          <p:nvPr/>
        </p:nvPicPr>
        <p:blipFill>
          <a:blip r:embed="rId1"/>
          <a:stretch/>
        </p:blipFill>
        <p:spPr>
          <a:xfrm>
            <a:off x="304920" y="152280"/>
            <a:ext cx="8604000" cy="6480360"/>
          </a:xfrm>
          <a:prstGeom prst="rect">
            <a:avLst/>
          </a:prstGeom>
          <a:ln w="0">
            <a:noFill/>
          </a:ln>
        </p:spPr>
      </p:pic>
      <p:sp>
        <p:nvSpPr>
          <p:cNvPr id="7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A7FE0D-A311-490F-8EAF-6A3D2583C6D9}"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2.1-1.ai"/>
          <p:cNvPicPr/>
          <p:nvPr/>
        </p:nvPicPr>
        <p:blipFill>
          <a:blip r:embed="rId1"/>
          <a:stretch/>
        </p:blipFill>
        <p:spPr>
          <a:xfrm>
            <a:off x="304920" y="152280"/>
            <a:ext cx="8604000" cy="6480360"/>
          </a:xfrm>
          <a:prstGeom prst="rect">
            <a:avLst/>
          </a:prstGeom>
          <a:ln w="0">
            <a:noFill/>
          </a:ln>
        </p:spPr>
      </p:pic>
      <p:sp>
        <p:nvSpPr>
          <p:cNvPr id="8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4EEE94-4B26-47C3-B4C9-E78FCB5A1AE2}"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3" descr="2.1-1.ai"/>
          <p:cNvPicPr/>
          <p:nvPr/>
        </p:nvPicPr>
        <p:blipFill>
          <a:blip r:embed="rId1"/>
          <a:stretch/>
        </p:blipFill>
        <p:spPr>
          <a:xfrm>
            <a:off x="304920" y="152280"/>
            <a:ext cx="8604000" cy="6480360"/>
          </a:xfrm>
          <a:prstGeom prst="rect">
            <a:avLst/>
          </a:prstGeom>
          <a:ln w="0">
            <a:noFill/>
          </a:ln>
        </p:spPr>
      </p:pic>
      <p:sp>
        <p:nvSpPr>
          <p:cNvPr id="8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1E3840-373D-4344-8722-422366C055BD}"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2.1-1.ai"/>
          <p:cNvPicPr/>
          <p:nvPr/>
        </p:nvPicPr>
        <p:blipFill>
          <a:blip r:embed="rId1"/>
          <a:stretch/>
        </p:blipFill>
        <p:spPr>
          <a:xfrm>
            <a:off x="304920" y="152280"/>
            <a:ext cx="8604000" cy="6480360"/>
          </a:xfrm>
          <a:prstGeom prst="rect">
            <a:avLst/>
          </a:prstGeom>
          <a:ln w="0">
            <a:noFill/>
          </a:ln>
        </p:spPr>
      </p:pic>
      <p:sp>
        <p:nvSpPr>
          <p:cNvPr id="8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FAB7B4-7DE6-421C-97A4-5F652ED67E3C}"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2.1-1.ai"/>
          <p:cNvPicPr/>
          <p:nvPr/>
        </p:nvPicPr>
        <p:blipFill>
          <a:blip r:embed="rId1"/>
          <a:stretch/>
        </p:blipFill>
        <p:spPr>
          <a:xfrm>
            <a:off x="304920" y="152280"/>
            <a:ext cx="8604000" cy="6480360"/>
          </a:xfrm>
          <a:prstGeom prst="rect">
            <a:avLst/>
          </a:prstGeom>
          <a:ln w="0">
            <a:noFill/>
          </a:ln>
        </p:spPr>
      </p:pic>
      <p:sp>
        <p:nvSpPr>
          <p:cNvPr id="5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ECBE45-F968-4414-972A-AB9252CAD5EB}"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3" descr="2.1-1.ai"/>
          <p:cNvPicPr/>
          <p:nvPr/>
        </p:nvPicPr>
        <p:blipFill>
          <a:blip r:embed="rId1"/>
          <a:stretch/>
        </p:blipFill>
        <p:spPr>
          <a:xfrm>
            <a:off x="304920" y="152280"/>
            <a:ext cx="8604000" cy="6480360"/>
          </a:xfrm>
          <a:prstGeom prst="rect">
            <a:avLst/>
          </a:prstGeom>
          <a:ln w="0">
            <a:noFill/>
          </a:ln>
        </p:spPr>
      </p:pic>
      <p:sp>
        <p:nvSpPr>
          <p:cNvPr id="8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237137-25FE-4B58-8A6B-6504B3DA312C}"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3" descr="2.1-1.ai"/>
          <p:cNvPicPr/>
          <p:nvPr/>
        </p:nvPicPr>
        <p:blipFill>
          <a:blip r:embed="rId1"/>
          <a:stretch/>
        </p:blipFill>
        <p:spPr>
          <a:xfrm>
            <a:off x="304920" y="152280"/>
            <a:ext cx="8604000" cy="6480360"/>
          </a:xfrm>
          <a:prstGeom prst="rect">
            <a:avLst/>
          </a:prstGeom>
          <a:ln w="0">
            <a:noFill/>
          </a:ln>
        </p:spPr>
      </p:pic>
      <p:sp>
        <p:nvSpPr>
          <p:cNvPr id="8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491044-B214-41AC-94EF-A9796A095B54}"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2.1-1.ai"/>
          <p:cNvPicPr/>
          <p:nvPr/>
        </p:nvPicPr>
        <p:blipFill>
          <a:blip r:embed="rId1"/>
          <a:stretch/>
        </p:blipFill>
        <p:spPr>
          <a:xfrm>
            <a:off x="304920" y="152280"/>
            <a:ext cx="8604000" cy="6480360"/>
          </a:xfrm>
          <a:prstGeom prst="rect">
            <a:avLst/>
          </a:prstGeom>
          <a:ln w="0">
            <a:noFill/>
          </a:ln>
        </p:spPr>
      </p:pic>
      <p:sp>
        <p:nvSpPr>
          <p:cNvPr id="9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F4F08D-BA83-425A-BFA8-A7B1E58E0A89}"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3" descr="2.1-1.ai"/>
          <p:cNvPicPr/>
          <p:nvPr/>
        </p:nvPicPr>
        <p:blipFill>
          <a:blip r:embed="rId1"/>
          <a:stretch/>
        </p:blipFill>
        <p:spPr>
          <a:xfrm>
            <a:off x="304920" y="152280"/>
            <a:ext cx="8604000" cy="6480360"/>
          </a:xfrm>
          <a:prstGeom prst="rect">
            <a:avLst/>
          </a:prstGeom>
          <a:ln w="0">
            <a:noFill/>
          </a:ln>
        </p:spPr>
      </p:pic>
      <p:sp>
        <p:nvSpPr>
          <p:cNvPr id="9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033A88-523B-4DE2-BC7E-CB7F032AC50B}"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2.1-1.ai"/>
          <p:cNvPicPr/>
          <p:nvPr/>
        </p:nvPicPr>
        <p:blipFill>
          <a:blip r:embed="rId1"/>
          <a:stretch/>
        </p:blipFill>
        <p:spPr>
          <a:xfrm>
            <a:off x="304920" y="152280"/>
            <a:ext cx="8604000" cy="6480360"/>
          </a:xfrm>
          <a:prstGeom prst="rect">
            <a:avLst/>
          </a:prstGeom>
          <a:ln w="0">
            <a:noFill/>
          </a:ln>
        </p:spPr>
      </p:pic>
      <p:sp>
        <p:nvSpPr>
          <p:cNvPr id="9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A55FED-D2ED-4E8E-BB59-B32FCF55A77B}"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3" descr="2.1-1.ai"/>
          <p:cNvPicPr/>
          <p:nvPr/>
        </p:nvPicPr>
        <p:blipFill>
          <a:blip r:embed="rId1"/>
          <a:stretch/>
        </p:blipFill>
        <p:spPr>
          <a:xfrm>
            <a:off x="304920" y="152280"/>
            <a:ext cx="8604000" cy="6480360"/>
          </a:xfrm>
          <a:prstGeom prst="rect">
            <a:avLst/>
          </a:prstGeom>
          <a:ln w="0">
            <a:noFill/>
          </a:ln>
        </p:spPr>
      </p:pic>
      <p:sp>
        <p:nvSpPr>
          <p:cNvPr id="9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8FC546-7B39-4321-B5DB-0D49992283E0}"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 descr="2.1-1.ai"/>
          <p:cNvPicPr/>
          <p:nvPr/>
        </p:nvPicPr>
        <p:blipFill>
          <a:blip r:embed="rId1"/>
          <a:stretch/>
        </p:blipFill>
        <p:spPr>
          <a:xfrm>
            <a:off x="304920" y="152280"/>
            <a:ext cx="8604000" cy="6480360"/>
          </a:xfrm>
          <a:prstGeom prst="rect">
            <a:avLst/>
          </a:prstGeom>
          <a:ln w="0">
            <a:noFill/>
          </a:ln>
        </p:spPr>
      </p:pic>
      <p:sp>
        <p:nvSpPr>
          <p:cNvPr id="9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5382F4-1B70-4D1A-8B86-F539F4D8CC9A}"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 descr="2.1-1.ai"/>
          <p:cNvPicPr/>
          <p:nvPr/>
        </p:nvPicPr>
        <p:blipFill>
          <a:blip r:embed="rId1"/>
          <a:stretch/>
        </p:blipFill>
        <p:spPr>
          <a:xfrm>
            <a:off x="304920" y="152280"/>
            <a:ext cx="8604000" cy="6480360"/>
          </a:xfrm>
          <a:prstGeom prst="rect">
            <a:avLst/>
          </a:prstGeom>
          <a:ln w="0">
            <a:noFill/>
          </a:ln>
        </p:spPr>
      </p:pic>
      <p:sp>
        <p:nvSpPr>
          <p:cNvPr id="10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3773AA-7A09-4517-8FC9-92604E8943D1}"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 descr="2.1-1.ai"/>
          <p:cNvPicPr/>
          <p:nvPr/>
        </p:nvPicPr>
        <p:blipFill>
          <a:blip r:embed="rId1"/>
          <a:stretch/>
        </p:blipFill>
        <p:spPr>
          <a:xfrm>
            <a:off x="304920" y="152280"/>
            <a:ext cx="8604000" cy="6480360"/>
          </a:xfrm>
          <a:prstGeom prst="rect">
            <a:avLst/>
          </a:prstGeom>
          <a:ln w="0">
            <a:noFill/>
          </a:ln>
        </p:spPr>
      </p:pic>
      <p:sp>
        <p:nvSpPr>
          <p:cNvPr id="10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E5FA21-3A8D-4AB2-8E29-86569B945DFB}"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3" descr="2.1-1.ai"/>
          <p:cNvPicPr/>
          <p:nvPr/>
        </p:nvPicPr>
        <p:blipFill>
          <a:blip r:embed="rId1"/>
          <a:stretch/>
        </p:blipFill>
        <p:spPr>
          <a:xfrm>
            <a:off x="304920" y="152280"/>
            <a:ext cx="8604000" cy="6480360"/>
          </a:xfrm>
          <a:prstGeom prst="rect">
            <a:avLst/>
          </a:prstGeom>
          <a:ln w="0">
            <a:noFill/>
          </a:ln>
        </p:spPr>
      </p:pic>
      <p:sp>
        <p:nvSpPr>
          <p:cNvPr id="10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412780-0B11-4C28-A690-524121D35551}"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2.1-1.ai"/>
          <p:cNvPicPr/>
          <p:nvPr/>
        </p:nvPicPr>
        <p:blipFill>
          <a:blip r:embed="rId1"/>
          <a:stretch/>
        </p:blipFill>
        <p:spPr>
          <a:xfrm>
            <a:off x="304920" y="152280"/>
            <a:ext cx="8604000" cy="6480360"/>
          </a:xfrm>
          <a:prstGeom prst="rect">
            <a:avLst/>
          </a:prstGeom>
          <a:ln w="0">
            <a:noFill/>
          </a:ln>
        </p:spPr>
      </p:pic>
      <p:sp>
        <p:nvSpPr>
          <p:cNvPr id="5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36AF40-9CE1-4AF7-A031-22C27BB411F6}"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3" descr="2.1-1.ai"/>
          <p:cNvPicPr/>
          <p:nvPr/>
        </p:nvPicPr>
        <p:blipFill>
          <a:blip r:embed="rId1"/>
          <a:stretch/>
        </p:blipFill>
        <p:spPr>
          <a:xfrm>
            <a:off x="304920" y="152280"/>
            <a:ext cx="8604000" cy="6480360"/>
          </a:xfrm>
          <a:prstGeom prst="rect">
            <a:avLst/>
          </a:prstGeom>
          <a:ln w="0">
            <a:noFill/>
          </a:ln>
        </p:spPr>
      </p:pic>
      <p:sp>
        <p:nvSpPr>
          <p:cNvPr id="10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0CBD9-5394-4320-B971-402C6976C045}"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2.1-1.ai"/>
          <p:cNvPicPr/>
          <p:nvPr/>
        </p:nvPicPr>
        <p:blipFill>
          <a:blip r:embed="rId1"/>
          <a:stretch/>
        </p:blipFill>
        <p:spPr>
          <a:xfrm>
            <a:off x="304920" y="152280"/>
            <a:ext cx="8604000" cy="6480360"/>
          </a:xfrm>
          <a:prstGeom prst="rect">
            <a:avLst/>
          </a:prstGeom>
          <a:ln w="0">
            <a:noFill/>
          </a:ln>
        </p:spPr>
      </p:pic>
      <p:sp>
        <p:nvSpPr>
          <p:cNvPr id="5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A44C13-454D-41A7-B7F7-69B3CEE27581}"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2.1-1.ai"/>
          <p:cNvPicPr/>
          <p:nvPr/>
        </p:nvPicPr>
        <p:blipFill>
          <a:blip r:embed="rId1"/>
          <a:stretch/>
        </p:blipFill>
        <p:spPr>
          <a:xfrm>
            <a:off x="304920" y="152280"/>
            <a:ext cx="8604000" cy="6480360"/>
          </a:xfrm>
          <a:prstGeom prst="rect">
            <a:avLst/>
          </a:prstGeom>
          <a:ln w="0">
            <a:noFill/>
          </a:ln>
        </p:spPr>
      </p:pic>
      <p:sp>
        <p:nvSpPr>
          <p:cNvPr id="5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7D9711-821F-4A0F-9CC5-307A498E6FDA}"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2.1-1.ai"/>
          <p:cNvPicPr/>
          <p:nvPr/>
        </p:nvPicPr>
        <p:blipFill>
          <a:blip r:embed="rId1"/>
          <a:stretch/>
        </p:blipFill>
        <p:spPr>
          <a:xfrm>
            <a:off x="304920" y="152280"/>
            <a:ext cx="8604000" cy="6480360"/>
          </a:xfrm>
          <a:prstGeom prst="rect">
            <a:avLst/>
          </a:prstGeom>
          <a:ln w="0">
            <a:noFill/>
          </a:ln>
        </p:spPr>
      </p:pic>
      <p:sp>
        <p:nvSpPr>
          <p:cNvPr id="5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72E567-DF75-45E2-9A0D-A4D50EB81966}"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2.1-1.ai"/>
          <p:cNvPicPr/>
          <p:nvPr/>
        </p:nvPicPr>
        <p:blipFill>
          <a:blip r:embed="rId1"/>
          <a:stretch/>
        </p:blipFill>
        <p:spPr>
          <a:xfrm>
            <a:off x="304920" y="152280"/>
            <a:ext cx="8604000" cy="6480360"/>
          </a:xfrm>
          <a:prstGeom prst="rect">
            <a:avLst/>
          </a:prstGeom>
          <a:ln w="0">
            <a:noFill/>
          </a:ln>
        </p:spPr>
      </p:pic>
      <p:sp>
        <p:nvSpPr>
          <p:cNvPr id="6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322543-2ACD-4009-93A8-01C8EE70E0CC}"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2.1-1.ai"/>
          <p:cNvPicPr/>
          <p:nvPr/>
        </p:nvPicPr>
        <p:blipFill>
          <a:blip r:embed="rId1"/>
          <a:stretch/>
        </p:blipFill>
        <p:spPr>
          <a:xfrm>
            <a:off x="304920" y="152280"/>
            <a:ext cx="8604000" cy="6480360"/>
          </a:xfrm>
          <a:prstGeom prst="rect">
            <a:avLst/>
          </a:prstGeom>
          <a:ln w="0">
            <a:noFill/>
          </a:ln>
        </p:spPr>
      </p:pic>
      <p:sp>
        <p:nvSpPr>
          <p:cNvPr id="6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B04678-8538-42EA-8EC2-A6983D88138A}"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2.1-1.ai"/>
          <p:cNvPicPr/>
          <p:nvPr/>
        </p:nvPicPr>
        <p:blipFill>
          <a:blip r:embed="rId1"/>
          <a:stretch/>
        </p:blipFill>
        <p:spPr>
          <a:xfrm>
            <a:off x="304920" y="152280"/>
            <a:ext cx="8604000" cy="6480360"/>
          </a:xfrm>
          <a:prstGeom prst="rect">
            <a:avLst/>
          </a:prstGeom>
          <a:ln w="0">
            <a:noFill/>
          </a:ln>
        </p:spPr>
      </p:pic>
      <p:sp>
        <p:nvSpPr>
          <p:cNvPr id="6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A316B2-15CF-47FD-AA75-B7179493557F}"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09:04:39Z</dcterms:created>
  <dc:creator>Hoang Anh</dc:creator>
  <dc:description/>
  <dc:language>en-US</dc:language>
  <cp:lastModifiedBy>Nhu Trang</cp:lastModifiedBy>
  <dcterms:modified xsi:type="dcterms:W3CDTF">2017-06-16T01:23:12Z</dcterms:modified>
  <cp:revision>36</cp:revision>
  <dc:subject/>
  <dc:title>1</dc:title>
</cp:coreProperties>
</file>