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B846-8ACB-4897-B22F-618E3864144E}"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69A42-C876-444D-9ECE-A38AFDFF5765}"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F4F13-06A2-49F1-A0CA-667C318B569F}"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Nói:</a:t>
            </a:r>
            <a:r>
              <a:rPr b="1" i="1" lang="en-US" sz="1200" spc="-1" strike="noStrike">
                <a:solidFill>
                  <a:srgbClr val="000000"/>
                </a:solidFill>
                <a:latin typeface="Times New Roman"/>
              </a:rPr>
              <a:t> </a:t>
            </a:r>
            <a:r>
              <a:rPr b="0" i="1" lang="en-US" sz="1200" spc="-1" strike="noStrike">
                <a:solidFill>
                  <a:srgbClr val="000000"/>
                </a:solidFill>
                <a:latin typeface="Times New Roman"/>
              </a:rPr>
              <a:t>Sau khi bạn đã khai thác được tiền sử sử dụng ma túy của khách hàng, bước tiếp theo là tìm hiểu những điều họ thích về việc sử dụng ma túy của họ. Những câu hỏi liệt kê trên bản chiếu là ví dụ về những cách bạn có thể áp dụng để tìm hiểu. Không hiếm khi khách hàng sẽ ngạc nhiên với những câu hỏi này và ngần ngại đưa ra những suy nghĩ bên trong về những điều họ thích về sử dụng ma túy. Họ có thể lo lắng và không hiểu động cơ của bạn là gì. Tuy nhiên, thảo luận về những lợi ích đó là rất quan trọng vì chúng sẽ là những điểm khởi đầu cho các can thiệp tiếp theo trong quá trình PVTĐL.</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Times New Roman"/>
              </a:rPr>
              <a:t>Sau khi tóm tắt lại những lợi điểm vừa thảo luận với khách hàng, hãy hỏi họ xem còn những lợi ích nào khác của việc sử dụng ma túy không, để đề phòng trường hợp bỏ sót. Bạn cũng có thể sắp xếp những lợi điểm này theo thứ tự quan trọng từ góc nhìn của khách hàng. Đừng chủ quan cho rằng điều gì được liệt kê trước thì quan trọng hơn. Bạn có thể đặt câu hỏi như: "Trong số này, điều gì là quan trọng nhất đối với bạn? Điều gì ít quan trọng nhất?" Đồng thời, luôn khen ngợi và hỗ trợ những nỗ lực thay đổi của khách hàng. Cám ơn họ đã đến với dịch vụ tư vấn và đã cân nhắc thay đổi sẽ khuyến khích khách hàng tự tin hơn về sự thay đổi mà họ đang cố gắng thực hiện.</a:t>
            </a:r>
            <a:endParaRPr b="0" lang="en-US" sz="1200" spc="-1" strike="noStrike">
              <a:solidFill>
                <a:srgbClr val="000000"/>
              </a:solidFill>
              <a:latin typeface="Times New Roman"/>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80D3AA-D6B9-4148-B0AF-28A28A64BE9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130AC-0540-4491-84A5-3882819FDB24}"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Nói:</a:t>
            </a:r>
            <a:r>
              <a:rPr b="1" i="1" lang="en-US" sz="1200" spc="-1" strike="noStrike">
                <a:solidFill>
                  <a:srgbClr val="000000"/>
                </a:solidFill>
                <a:latin typeface="Times New Roman"/>
              </a:rPr>
              <a:t> </a:t>
            </a:r>
            <a:r>
              <a:rPr b="0" i="1" lang="en-US" sz="1200" spc="-1" strike="noStrike">
                <a:solidFill>
                  <a:srgbClr val="000000"/>
                </a:solidFill>
                <a:latin typeface="Times New Roman"/>
              </a:rPr>
              <a:t>Có một số câu hỏi mẫu có thể được sử dụng để tìm hiểu về những điều không tốt liên quan đến việc sử dụng ma túy của khách hàng. Giống như với phần hỏi về những điều tốt, hãy sắp xếp các yếu tố không tốt theo thứ tự từ ít quan trọng nhất đến quan trọng nhất. Tham khảo một ví dụ về 5 phút tìm hiểu về những điều tốt và chưa tốt về việc sử dụng heroin trong một buổi tư vấn kèm theo nhận xét phản hồi trong Tài liệu  phát tay 4.2-5.</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6CED65-C6C3-47AC-8717-9818B9CD473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1994A-BE3E-41B4-8A87-97D2A0FC7193}"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Nói:</a:t>
            </a:r>
            <a:r>
              <a:rPr b="1" i="1" lang="en-US" sz="1200" spc="-1" strike="noStrike">
                <a:solidFill>
                  <a:srgbClr val="000000"/>
                </a:solidFill>
                <a:latin typeface="Times New Roman"/>
              </a:rPr>
              <a:t> </a:t>
            </a:r>
            <a:r>
              <a:rPr b="0" i="1" lang="en-US" sz="1200" spc="-1" strike="noStrike">
                <a:solidFill>
                  <a:srgbClr val="000000"/>
                </a:solidFill>
                <a:latin typeface="Times New Roman"/>
              </a:rPr>
              <a:t>Việc tóm tắt lại sau mỗi bước là rất quan trọng. Nó giúp bạn chắc chắn rằng bạn hiểu đúng khách hàng và để khách hàng khẳng định những điều họ đã nói. Ghi chép lại những nội dung chính trong quá trình trao đổi có thể giúp tư vấn viên tóm tắt chính xác hơn. Tóm tắt cũng giúp khách hàng sắp xếp lại và xác định điều gì là quan trọng nhất với họ. Phải nhớ đảm bảo rằng việc tóm tắt nhấn mạnh vào những điều mà khách hàng cho là quan trọng nhất.</a:t>
            </a:r>
            <a:r>
              <a:rPr b="1"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29D95-AA33-47EA-97CC-C8EFF8E55BB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6E35-B036-40B5-9B06-9BA6CAF19197}"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Nói:</a:t>
            </a:r>
            <a:r>
              <a:rPr b="1" i="1" lang="en-US" sz="1200" spc="-1" strike="noStrike">
                <a:solidFill>
                  <a:srgbClr val="000000"/>
                </a:solidFill>
                <a:latin typeface="Times New Roman"/>
              </a:rPr>
              <a:t> </a:t>
            </a:r>
            <a:r>
              <a:rPr b="0" i="1" lang="en-US" sz="1200" spc="-1" strike="noStrike">
                <a:solidFill>
                  <a:srgbClr val="000000"/>
                </a:solidFill>
                <a:latin typeface="Times New Roman"/>
              </a:rPr>
              <a:t>Mục đích chính của việc tóm tắt lợi ích và giá phải trả của việc sử dụng ma túy của khách hàng là giúp họ so sách giữa giá phải trả và lợi ích để họ có thể ra quyết định. Thực ra khi đến dịch vụ tư vấn là khách hàng thường đã bắt đầu nhận ra rằng họ cần thay đổi cách sống. Tuy nhiên, họ có thể vẫn còn mơ hồ. Quá trình tóm tắt và đánh giá mức độ quan trọng có thể giúp họ nhìn nhận sự việc rõ ràng hơn. Hãy nhớ: việc quyết định tiến hành thay đổi hay không phải là lựa chọn của khách hàng.</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89EA30-E9E8-4B35-99B3-E80D0D1FDA29}"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76AE9-3613-42F9-B7F8-8F5C513C47B9}"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B6FF-60C0-40BD-9C37-64AF4D64A171}"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Nói:</a:t>
            </a:r>
            <a:r>
              <a:rPr b="1" i="1" lang="en-US" sz="1200" spc="-1" strike="noStrike">
                <a:solidFill>
                  <a:srgbClr val="000000"/>
                </a:solidFill>
                <a:latin typeface="Times New Roman"/>
              </a:rPr>
              <a:t> </a:t>
            </a:r>
            <a:r>
              <a:rPr b="0" i="1" lang="en-US" sz="1200" spc="-1" strike="noStrike">
                <a:solidFill>
                  <a:srgbClr val="000000"/>
                </a:solidFill>
                <a:latin typeface="Times New Roman"/>
              </a:rPr>
              <a:t>Một cách khác để giúp khách hàng ra quyết định là sử dụng bảng ra quyết định. Bảng ra quyết định này giúp bạn có thể so sánh giữa lợi ích và giá phải trả của một hành vi nào đó bằng cách cho điểm các yếu tố này và so sánh điểm số. Bạn có thể thay đổi thang điểm cho phù hợp với mỗi khách hàng. Yêu cầu khách hàng điền vào các ô những lợi ích và giá phải trả, ngắn hạn và dài hạn và sau đó đề nghị khách hàng cho điểm mỗi yếu tố theo thang điểm từ 1 đến 10 theo mức độ quan trọng đối với họ (điểm lớn hơn có nghĩa là yếu tố đó quan trọng hơn). Nếu số điểm của “lợi ích” của việc thay đổi cao hơn số điểm của “cái giá phải trả” nếu thay đổi thì hy vọng khách hàng của bạn sẽ nhận ra việc thay đổi hành vi của họ là tốt. Mặt khác, nếu số điểm của giá phải trả của việc thay đổi cao hơn thì điều đó có nghĩa là khách hàng của bạn không muốn thay đổi trong thời điểm hiện tại.</a:t>
            </a:r>
            <a:r>
              <a:rPr b="1"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Thông tin tham khảo: </a:t>
            </a:r>
            <a:r>
              <a:rPr b="0" lang="en-US" sz="1200" spc="-1" strike="noStrike">
                <a:solidFill>
                  <a:srgbClr val="000000"/>
                </a:solidFill>
                <a:latin typeface="Times New Roman"/>
              </a:rPr>
              <a:t>Dưới đây là một ví dụ về cách sử dụng bảng ra quyết định khi cân nhắc lợi ích và hậu quả của việc say rượu bia: </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gắn hạn</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ài hạn</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Điểm</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Lợi ích</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Giúp tôi thư giãn (6)</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Lãng quên các vấn đề (4)</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7</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ích tụ tập uống rượu bia với bạn bè (7)</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Giá phải trả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Có thể sẽ mất đi tình cảm của gia đình (8)</a:t>
            </a:r>
            <a:r>
              <a:rPr b="1" lang="en-US" sz="1200" spc="-1" strike="noStrike">
                <a:solidFill>
                  <a:srgbClr val="000000"/>
                </a:solidFill>
                <a:latin typeface="Times New Roman"/>
              </a:rPr>
              <a:t>	</a:t>
            </a:r>
            <a:r>
              <a:rPr b="0" lang="en-US" sz="1200" spc="-1" strike="noStrike">
                <a:solidFill>
                  <a:srgbClr val="000000"/>
                </a:solidFill>
                <a:latin typeface="Times New Roman"/>
              </a:rPr>
              <a:t>Tổn hại đến khả năng suy nghĩ (3)</a:t>
            </a:r>
            <a:r>
              <a:rPr b="0" lang="en-US" sz="1200" spc="-1" strike="noStrike">
                <a:solidFill>
                  <a:srgbClr val="000000"/>
                </a:solidFill>
                <a:latin typeface="Times New Roman"/>
              </a:rPr>
              <a:t>	</a:t>
            </a:r>
            <a:r>
              <a:rPr b="0" lang="en-US" sz="1200" spc="-1" strike="noStrike">
                <a:solidFill>
                  <a:srgbClr val="000000"/>
                </a:solidFill>
                <a:latin typeface="Times New Roman"/>
              </a:rPr>
              <a:t>32</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ấm gương xấu đối với con cái (8)</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ó thể mất việc (5)</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ủy hoại sức khỏe (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ãng phí thời gian/cuộc sống (2)</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ốn quá nhiều tiền (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ừ ví dụ này, rõ ràng tổng số điểm cho thấy cái giá phải trả cao hơn lợi ích. Một khách hàng có kết quả như trên có thể sẽ quyết định rằng giá phải trả cho việc uống rượu của họ là quá cao và có thể lựa chọn dừng hoặc giảm uống rượu bia. </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ột ví dụ khác về lợi ích và hậu quả của việc duy trì tập thể dục đều đặn:</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gắn hạn</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ài hạn</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Điểm</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Lợi ích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rông khỏe mạnh, thon thả, có thể mặc quần áo đẹp (6)</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Sống lâu, sống khỏe, cả về thể chất (7) và tinh thần (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3</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Được người bạn tình yêu hơn (4)</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Giá phải trả</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Khó có thể dậy sớm đế tập thể dục (4)</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Có thể gây chấn thương cho bản thân (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ần phải giảm bớt những công việc khác để không phải thức khuya (5)</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ó thể phải từ bỏ những sở thích khác: xem phim (3)</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ự ấm áp và dễ chịu khi nằm trên giường mỗi buổi sáng (3)</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rong ví dụ này, tổng số điểm cho thấy hành vi mong muốn (tập thể dục buổi sáng hàng ngày) sẽ mang lại nhiều lợi ích hơn. Trong khi chỉ nghĩ về điều đó không giúp khách hàng thay đổi thì việc yêu cầu họ viết những suy nghĩ của họ ra giấy sẽ giúp họ dễ thay đổi hơn.  </a:t>
            </a:r>
            <a:endParaRPr b="0" lang="en-US" sz="1200" spc="-1" strike="noStrike">
              <a:solidFill>
                <a:srgbClr val="000000"/>
              </a:solidFill>
              <a:latin typeface="Times New Roman"/>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321E8-3999-4ECE-BE10-98D452D8ED4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6D8D-DA46-41F4-99BC-119929CCF18A}"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Nói: </a:t>
            </a:r>
            <a:r>
              <a:rPr b="0" i="1" lang="en-US" sz="1200" spc="-1" strike="noStrike">
                <a:solidFill>
                  <a:srgbClr val="000000"/>
                </a:solidFill>
                <a:latin typeface="Times New Roman"/>
              </a:rPr>
              <a:t>Nhìn chung, tại thời điểm này, bạn nên hạn chế cung cấp thêm thông tin. Khách hàng có thể bị quá tải về thông tin hoặc về cảm xúc. Lí tưởng nhất là lúc này khách hàng phải “biết” rõ về con đường tốt nhất mà họ nên đi.</a:t>
            </a:r>
            <a:r>
              <a:rPr b="1"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Times New Roman"/>
              </a:rPr>
              <a:t>Đây không phải là lúc để thảo luận về “CÁCH THỰC HIỆN” của một quyết định. Nếu như khách hàng băn khoăn về việc thực hiện quyết định đó bằng cách nào thì hãy trấn an họ rằng chỉ cần đưa ra một quyết định một cách chắc chắn vào thời điểm này, còn thực hiện bằng “CÁCH NÀO” thì sẽ thảo luận sau.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FCCB86-DBA6-4966-8E03-ACF7749D6017}"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65C72-7863-4711-A1F3-986B5FA543EE}"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A5BD-6461-4D48-82F9-D257450D3B07}"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F54F3-EAA3-4C3E-B20E-494CE0BAA0A3}"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02448-3D69-4D5A-ACEA-5AB05A4FD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464F7-E816-42E3-B4DA-345B69476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55A64-430A-49AA-B876-8D61A204F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1A019-83E8-48B4-86DE-02C6EFDB9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7E516-6F7B-4316-94D4-598083CE5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3A1A7-FB1A-4681-BE38-68446EAE6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34295-2B9D-4982-9167-C3CCE419E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F6F7C-1FE4-47C4-8D5E-C6FD8C5D7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0D3DB-6F13-437A-976A-F18532270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4F28C-21C8-4D8F-A2C6-F22B54B71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3E137-FA4B-46A0-9A06-C6DC67BB4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F4D0C-5B88-43C1-BAE7-1A9EE18E5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5CE2-984C-4971-A796-550DE3C01A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74EDC-73CF-4C81-8DEF-9E372E379F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6"/>
          <p:cNvSpPr/>
          <p:nvPr/>
        </p:nvSpPr>
        <p:spPr>
          <a:xfrm>
            <a:off x="1142280" y="2288160"/>
            <a:ext cx="7110360" cy="7034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Đánh giá ban đầu bệnh nhân</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9F407-52BE-4058-B3C7-919EBE15E3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Kiến thức thái độ hiện nay về </a:t>
            </a:r>
            <a:br>
              <a:rPr sz="3600"/>
            </a:br>
            <a:r>
              <a:rPr b="1" lang="en-US" sz="3600" spc="-1" strike="noStrike">
                <a:solidFill>
                  <a:srgbClr val="333399"/>
                </a:solidFill>
                <a:latin typeface="Arial"/>
              </a:rPr>
              <a:t>ĐTDT bằng methadone</a:t>
            </a:r>
            <a:endParaRPr b="0" lang="en-US" sz="3600" spc="-1" strike="noStrike">
              <a:solidFill>
                <a:srgbClr val="000000"/>
              </a:solidFill>
              <a:latin typeface="Arial"/>
            </a:endParaRPr>
          </a:p>
        </p:txBody>
      </p:sp>
      <p:sp>
        <p:nvSpPr>
          <p:cNvPr id="75" name="Rectangle 5"/>
          <p:cNvSpPr/>
          <p:nvPr/>
        </p:nvSpPr>
        <p:spPr>
          <a:xfrm>
            <a:off x="533520" y="2057400"/>
            <a:ext cx="8153280" cy="3506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H đã nghe những gì về methadone và chương trình điều trị bằng methadon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H có hiểu việc họ phải đến phòng khám và điều trị methadone hàng ngày để được uống thuốc trong thời gian dài khô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108F-6728-4615-84F7-91D6479DF5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ắm vai mẫu:</a:t>
            </a:r>
            <a:br>
              <a:rPr sz="4000"/>
            </a:br>
            <a:r>
              <a:rPr b="1" lang="en-US" sz="4000" spc="-1" strike="noStrike">
                <a:solidFill>
                  <a:srgbClr val="000000"/>
                </a:solidFill>
                <a:latin typeface="Arial"/>
              </a:rPr>
              <a:t>Lượng giá tiền sử sử dụng ma túy và chất gây nghiện</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BA80-2312-40B3-B921-3AF638DD0D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ành vi tình dục</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ạn thích quan hệ tình dục với bạn tình (nam/nữ) hơ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ện tại bạn có bạn tình thường xuyên khô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ạn tình thường xuyên của bạn có phải là người TCMT khô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ạn có đang “hành nghề” khô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ấn đề sử dụng bao cao su</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6DDE-E3FB-4733-832F-1AF91171D5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ắm vai mẫu: </a:t>
            </a:r>
            <a:br>
              <a:rPr sz="4000"/>
            </a:br>
            <a:r>
              <a:rPr b="1" lang="en-US" sz="4000" spc="-1" strike="noStrike">
                <a:solidFill>
                  <a:srgbClr val="000000"/>
                </a:solidFill>
                <a:latin typeface="Arial"/>
              </a:rPr>
              <a:t>Đánh giá hành vi tình dục</a:t>
            </a:r>
            <a:endParaRPr b="0" lang="en-US" sz="4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7FAD1-EEC5-4CEA-B8D4-559F0DAA00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Đánh giá về tình </a:t>
            </a:r>
            <a:r>
              <a:rPr b="1" lang="en-US" sz="4400" spc="-1" strike="noStrike">
                <a:solidFill>
                  <a:srgbClr val="000000"/>
                </a:solidFill>
                <a:latin typeface="Arial"/>
              </a:rPr>
              <a:t>trạng tài chính và các nguồn hỗ trợ</a:t>
            </a:r>
            <a:endParaRPr b="0" lang="en-US" sz="4400" spc="-1" strike="noStrike">
              <a:solidFill>
                <a:srgbClr val="000000"/>
              </a:solidFill>
              <a:latin typeface="Arial"/>
            </a:endParaRPr>
          </a:p>
        </p:txBody>
      </p:sp>
      <p:sp>
        <p:nvSpPr>
          <p:cNvPr id="85" name="PlaceHolder 2"/>
          <p:cNvSpPr>
            <a:spLocks noGrp="1"/>
          </p:cNvSpPr>
          <p:nvPr>
            <p:ph/>
          </p:nvPr>
        </p:nvSpPr>
        <p:spPr>
          <a:xfrm>
            <a:off x="609480" y="1874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ông ăn việc là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ông tin về khả năng tài chín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ấn đề nơi ăn 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nhu cầu thiết yếu có được đáp ứ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ương tiện đi l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ỗ trợ của gia đình và xã hội</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7BF7-01E4-47F5-B678-BA5D854102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Đánh giá về động cơ thay đổi</a:t>
            </a:r>
            <a:endParaRPr b="0" lang="en-US" sz="4400" spc="-1" strike="noStrike">
              <a:solidFill>
                <a:srgbClr val="000000"/>
              </a:solidFill>
              <a:latin typeface="Arial"/>
            </a:endParaRPr>
          </a:p>
        </p:txBody>
      </p:sp>
      <p:sp>
        <p:nvSpPr>
          <p:cNvPr id="88" name="PlaceHolder 2"/>
          <p:cNvSpPr>
            <a:spLocks noGrp="1"/>
          </p:cNvSpPr>
          <p:nvPr>
            <p:ph/>
          </p:nvPr>
        </p:nvSpPr>
        <p:spPr>
          <a:xfrm>
            <a:off x="151920" y="1371600"/>
            <a:ext cx="8915400" cy="5410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ững lợi ích của việc sử dụng heroin là gì?</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ầm quan trọng của từng lợi ích với bạn như thế nà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ững điều không mong muốn do việc sử dụng heroin đem lại là gì?</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ầm quan trọng của từng tác hại với bạn như thế nà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óm tắt, xác định cán cân, đưa ra quyết địn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ác định lý do chính cần thay đổ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4E7D6-9A6D-49A8-913E-9EC668E3C0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0" name="Picture 3" descr="2.1-1.ai"/>
          <p:cNvPicPr/>
          <p:nvPr/>
        </p:nvPicPr>
        <p:blipFill>
          <a:blip r:embed="rId1"/>
          <a:stretch/>
        </p:blipFill>
        <p:spPr>
          <a:xfrm>
            <a:off x="311040" y="152280"/>
            <a:ext cx="8604360" cy="6480360"/>
          </a:xfrm>
          <a:prstGeom prst="rect">
            <a:avLst/>
          </a:prstGeom>
          <a:ln w="0">
            <a:noFill/>
          </a:ln>
        </p:spPr>
      </p:pic>
      <p:sp>
        <p:nvSpPr>
          <p:cNvPr id="9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F9A748-495A-47B8-BADB-28C40442F752}"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2E2C-D33F-438A-AE1B-02AAB14C04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3" name="Picture 3" descr="2.1-1.ai"/>
          <p:cNvPicPr/>
          <p:nvPr/>
        </p:nvPicPr>
        <p:blipFill>
          <a:blip r:embed="rId1"/>
          <a:stretch/>
        </p:blipFill>
        <p:spPr>
          <a:xfrm>
            <a:off x="311040" y="152280"/>
            <a:ext cx="8604360" cy="6480360"/>
          </a:xfrm>
          <a:prstGeom prst="rect">
            <a:avLst/>
          </a:prstGeom>
          <a:ln w="0">
            <a:noFill/>
          </a:ln>
        </p:spPr>
      </p:pic>
      <p:sp>
        <p:nvSpPr>
          <p:cNvPr id="94"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D290ED-1A63-441B-BBDE-103E3E0C610D}"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738F-4856-44A7-84E8-B8073486E5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6" name="Picture 3" descr="2.1-1.ai"/>
          <p:cNvPicPr/>
          <p:nvPr/>
        </p:nvPicPr>
        <p:blipFill>
          <a:blip r:embed="rId1"/>
          <a:stretch/>
        </p:blipFill>
        <p:spPr>
          <a:xfrm>
            <a:off x="311040" y="152280"/>
            <a:ext cx="8604360" cy="6480360"/>
          </a:xfrm>
          <a:prstGeom prst="rect">
            <a:avLst/>
          </a:prstGeom>
          <a:ln w="0">
            <a:noFill/>
          </a:ln>
        </p:spPr>
      </p:pic>
      <p:sp>
        <p:nvSpPr>
          <p:cNvPr id="9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674C45-B248-40FF-96A8-87B2FE8B5953}"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E321-C172-4B56-A10C-9A394EE147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9" name="Picture 3" descr="2.1-1.ai"/>
          <p:cNvPicPr/>
          <p:nvPr/>
        </p:nvPicPr>
        <p:blipFill>
          <a:blip r:embed="rId1"/>
          <a:stretch/>
        </p:blipFill>
        <p:spPr>
          <a:xfrm>
            <a:off x="311040" y="152280"/>
            <a:ext cx="8604360" cy="6480360"/>
          </a:xfrm>
          <a:prstGeom prst="rect">
            <a:avLst/>
          </a:prstGeom>
          <a:ln w="0">
            <a:noFill/>
          </a:ln>
        </p:spPr>
      </p:pic>
      <p:sp>
        <p:nvSpPr>
          <p:cNvPr id="100"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74782D-D50B-4E69-A9BA-C3C0E09CEA96}"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16673-05FF-4282-AAA9-FADF73AA69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609480" y="228240"/>
            <a:ext cx="7772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Đánh giá bệnh nhân là gì</a:t>
            </a:r>
            <a:endParaRPr b="0" lang="en-US" sz="4000" spc="-1" strike="noStrike">
              <a:solidFill>
                <a:srgbClr val="000000"/>
              </a:solidFill>
              <a:latin typeface="Arial"/>
            </a:endParaRPr>
          </a:p>
        </p:txBody>
      </p:sp>
      <p:sp>
        <p:nvSpPr>
          <p:cNvPr id="52" name="PlaceHolder 2"/>
          <p:cNvSpPr>
            <a:spLocks noGrp="1"/>
          </p:cNvSpPr>
          <p:nvPr>
            <p:ph/>
          </p:nvPr>
        </p:nvSpPr>
        <p:spPr>
          <a:xfrm>
            <a:off x="380880" y="1142640"/>
            <a:ext cx="8305920" cy="4876920"/>
          </a:xfrm>
          <a:prstGeom prst="rect">
            <a:avLst/>
          </a:prstGeom>
          <a:noFill/>
          <a:ln w="0">
            <a:noFill/>
          </a:ln>
        </p:spPr>
        <p:txBody>
          <a:bodyPr anchor="t">
            <a:normAutofit fontScale="91000"/>
          </a:bodyPr>
          <a:p>
            <a:pPr marL="424440" indent="-4244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ước đầu tiên và quan trọng nhất trong việc quyết định sự tham gia chương trình điều trị bằng methadone. </a:t>
            </a:r>
            <a:endParaRPr b="0" lang="en-US" sz="2800" spc="-1" strike="noStrike">
              <a:solidFill>
                <a:srgbClr val="000000"/>
              </a:solidFill>
              <a:latin typeface="Arial"/>
            </a:endParaRPr>
          </a:p>
          <a:p>
            <a:pPr marL="424440" indent="-4244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ác định điều kiện tham gia điều trị, bao gồm </a:t>
            </a:r>
            <a:r>
              <a:rPr b="1" lang="en-US" sz="2800" spc="-1" strike="noStrike">
                <a:solidFill>
                  <a:srgbClr val="000000"/>
                </a:solidFill>
                <a:latin typeface="Arial"/>
              </a:rPr>
              <a:t>điều kiện lâm sàng</a:t>
            </a:r>
            <a:r>
              <a:rPr b="0" lang="en-US" sz="2800" spc="-1" strike="noStrike">
                <a:solidFill>
                  <a:srgbClr val="000000"/>
                </a:solidFill>
                <a:latin typeface="Arial"/>
              </a:rPr>
              <a:t> và điều kiện </a:t>
            </a:r>
            <a:r>
              <a:rPr b="1" lang="en-US" sz="2800" spc="-1" strike="noStrike">
                <a:solidFill>
                  <a:srgbClr val="000000"/>
                </a:solidFill>
                <a:latin typeface="Arial"/>
              </a:rPr>
              <a:t>xã hội</a:t>
            </a:r>
            <a:endParaRPr b="0" lang="en-US" sz="2800" spc="-1" strike="noStrike">
              <a:solidFill>
                <a:srgbClr val="000000"/>
              </a:solidFill>
              <a:latin typeface="Arial"/>
            </a:endParaRPr>
          </a:p>
          <a:p>
            <a:pPr marL="424440" indent="-4244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à một quá trình tìm hiểu tiền sử của bệnh nhân cũng như các </a:t>
            </a:r>
            <a:r>
              <a:rPr b="1" lang="en-US" sz="2800" spc="-1" strike="noStrike">
                <a:solidFill>
                  <a:srgbClr val="000000"/>
                </a:solidFill>
                <a:latin typeface="Arial"/>
              </a:rPr>
              <a:t>nguồn hỗ trợ </a:t>
            </a:r>
            <a:r>
              <a:rPr b="0" lang="en-US" sz="2800" spc="-1" strike="noStrike">
                <a:solidFill>
                  <a:srgbClr val="000000"/>
                </a:solidFill>
                <a:latin typeface="Arial"/>
              </a:rPr>
              <a:t>từ phía gia đình mà bệnh nhân có thể có.</a:t>
            </a:r>
            <a:endParaRPr b="0" lang="en-US" sz="2800" spc="-1" strike="noStrike">
              <a:solidFill>
                <a:srgbClr val="000000"/>
              </a:solidFill>
              <a:latin typeface="Arial"/>
            </a:endParaRPr>
          </a:p>
          <a:p>
            <a:pPr marL="424440" indent="-4244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 trọng đối với cán bộ tư vấn nhằm xác định những </a:t>
            </a:r>
            <a:r>
              <a:rPr b="1" lang="en-US" sz="2800" spc="-1" strike="noStrike">
                <a:solidFill>
                  <a:srgbClr val="000000"/>
                </a:solidFill>
                <a:latin typeface="Arial"/>
              </a:rPr>
              <a:t>khó khăn </a:t>
            </a:r>
            <a:r>
              <a:rPr b="0" lang="en-US" sz="2800" spc="-1" strike="noStrike">
                <a:solidFill>
                  <a:srgbClr val="000000"/>
                </a:solidFill>
                <a:latin typeface="Arial"/>
              </a:rPr>
              <a:t>cản trở sự thành công của chương trình điều trị, giữa việc đáp ứng các </a:t>
            </a:r>
            <a:r>
              <a:rPr b="1" lang="en-US" sz="2800" spc="-1" strike="noStrike">
                <a:solidFill>
                  <a:srgbClr val="000000"/>
                </a:solidFill>
                <a:latin typeface="Arial"/>
              </a:rPr>
              <a:t>nhu cầu trước mắt </a:t>
            </a:r>
            <a:r>
              <a:rPr b="0" lang="en-US" sz="2800" spc="-1" strike="noStrike">
                <a:solidFill>
                  <a:srgbClr val="000000"/>
                </a:solidFill>
                <a:latin typeface="Arial"/>
              </a:rPr>
              <a:t>của bệnh nhân và việc đạt </a:t>
            </a:r>
            <a:r>
              <a:rPr b="1" lang="en-US" sz="2800" spc="-1" strike="noStrike">
                <a:solidFill>
                  <a:srgbClr val="000000"/>
                </a:solidFill>
                <a:latin typeface="Arial"/>
              </a:rPr>
              <a:t>mục đích điều trị lâu dài</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AA0F2-E99B-4FB2-B123-5F46DE25EC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2" name="Picture 3" descr="2.1-1.ai"/>
          <p:cNvPicPr/>
          <p:nvPr/>
        </p:nvPicPr>
        <p:blipFill>
          <a:blip r:embed="rId1"/>
          <a:stretch/>
        </p:blipFill>
        <p:spPr>
          <a:xfrm>
            <a:off x="311040" y="152280"/>
            <a:ext cx="8604360" cy="6480360"/>
          </a:xfrm>
          <a:prstGeom prst="rect">
            <a:avLst/>
          </a:prstGeom>
          <a:ln w="0">
            <a:noFill/>
          </a:ln>
        </p:spPr>
      </p:pic>
      <p:sp>
        <p:nvSpPr>
          <p:cNvPr id="10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5C4655-A2D3-4BBD-8462-E5546CC8D561}"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8AF6-C4CD-4024-8E13-1960B1E4D1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5" name="Picture 3" descr="2.1-1.ai"/>
          <p:cNvPicPr/>
          <p:nvPr/>
        </p:nvPicPr>
        <p:blipFill>
          <a:blip r:embed="rId1"/>
          <a:stretch/>
        </p:blipFill>
        <p:spPr>
          <a:xfrm>
            <a:off x="311040" y="152280"/>
            <a:ext cx="8604360" cy="6480360"/>
          </a:xfrm>
          <a:prstGeom prst="rect">
            <a:avLst/>
          </a:prstGeom>
          <a:ln w="0">
            <a:noFill/>
          </a:ln>
        </p:spPr>
      </p:pic>
      <p:sp>
        <p:nvSpPr>
          <p:cNvPr id="106"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E546CA-B103-42F7-93A8-11A851CA5C8C}"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001D-3856-4D7A-AAEC-FAE1172FC0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ình trạng tâm lý, </a:t>
            </a:r>
            <a:br>
              <a:rPr sz="4400"/>
            </a:br>
            <a:r>
              <a:rPr b="1" lang="en-US" sz="4400" spc="-1" strike="noStrike">
                <a:solidFill>
                  <a:srgbClr val="000000"/>
                </a:solidFill>
                <a:latin typeface="Arial"/>
              </a:rPr>
              <a:t>sức khỏe tâm thần</a:t>
            </a:r>
            <a:endParaRPr b="0" lang="en-US" sz="4400" spc="-1" strike="noStrike">
              <a:solidFill>
                <a:srgbClr val="000000"/>
              </a:solidFill>
              <a:latin typeface="Arial"/>
            </a:endParaRPr>
          </a:p>
        </p:txBody>
      </p:sp>
      <p:sp>
        <p:nvSpPr>
          <p:cNvPr id="109" name="PlaceHolder 2"/>
          <p:cNvSpPr>
            <a:spLocks noGrp="1"/>
          </p:cNvSpPr>
          <p:nvPr>
            <p:ph/>
          </p:nvPr>
        </p:nvSpPr>
        <p:spPr>
          <a:xfrm>
            <a:off x="457200" y="164628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i trò chính trong việc đánh giá liệu khách hàng có trong tình trạng tâm lý không ổn định, cần được can thiệp ngay hay không</a:t>
            </a:r>
            <a:endParaRPr b="0" lang="en-US" sz="32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ồn bã, chán nản</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 lắng, hồi hộp</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Ý nghĩ tự tử</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ang tưởng</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8566F-24FC-400F-ABAB-C2F8815154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Đánh giá, sàng lọc trầm cảm theo thang điểm của Kessler</a:t>
            </a:r>
            <a:endParaRPr b="0" lang="en-US" sz="3600" spc="-1" strike="noStrike">
              <a:solidFill>
                <a:srgbClr val="000000"/>
              </a:solidFill>
              <a:latin typeface="Arial"/>
            </a:endParaRPr>
          </a:p>
        </p:txBody>
      </p:sp>
      <p:graphicFrame>
        <p:nvGraphicFramePr>
          <p:cNvPr id="112" name="Object 2252"/>
          <p:cNvGraphicFramePr/>
          <p:nvPr/>
        </p:nvGraphicFramePr>
        <p:xfrm>
          <a:off x="0" y="1752480"/>
          <a:ext cx="9144000" cy="4724640"/>
        </p:xfrm>
        <a:graphic>
          <a:graphicData uri="http://schemas.openxmlformats.org/presentationml/2006/ole">
            <p:oleObj progId="Excel.Sheet.12" r:id="rId1" spid="">
              <p:embed/>
              <p:pic>
                <p:nvPicPr>
                  <p:cNvPr id="113" name="Object 2252" descr=""/>
                  <p:cNvPicPr/>
                  <p:nvPr/>
                </p:nvPicPr>
                <p:blipFill>
                  <a:blip r:embed="rId2"/>
                  <a:stretch/>
                </p:blipFill>
                <p:spPr>
                  <a:xfrm>
                    <a:off x="0" y="1752480"/>
                    <a:ext cx="9144000" cy="472464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33E0-E06B-4BA1-88CC-FF220E154D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ú ý </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ước khi đánh giá bệnh nhân theo thang điểm kessler cần phải hỏi 2 câu hỏi sàng lọc.</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ần quan sát những dấu hiệu bên ngoài , những dấu hiệu không lời của BN:nét mặt, cử chỉ, tư thế ngồi, các đáp ứng khác…</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ần loại trừ các dấu hiệu này với biểu hiện phê hoặc vã thuốc</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5C91-76F2-4F4B-8158-22F1575816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38088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ắm vai mẫu</a:t>
            </a:r>
            <a:br>
              <a:rPr sz="4000"/>
            </a:br>
            <a:r>
              <a:rPr b="1" lang="en-US" sz="4000" spc="-1" strike="noStrike">
                <a:solidFill>
                  <a:srgbClr val="000000"/>
                </a:solidFill>
                <a:latin typeface="Arial"/>
              </a:rPr>
              <a:t>Đánh giá tình trạng sức khỏe tâm thần theo thang điểm của Kessler về sức khỏe tâm thầ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B27A-7D34-4157-B959-4C09C0B917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456840" y="1519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ổng kết và các bước tiếp theo</a:t>
            </a:r>
            <a:endParaRPr b="0" lang="en-US" sz="4400" spc="-1" strike="noStrike">
              <a:solidFill>
                <a:srgbClr val="000000"/>
              </a:solidFill>
              <a:latin typeface="Arial"/>
            </a:endParaRPr>
          </a:p>
        </p:txBody>
      </p:sp>
      <p:sp>
        <p:nvSpPr>
          <p:cNvPr id="121" name="PlaceHolder 2"/>
          <p:cNvSpPr>
            <a:spLocks noGrp="1"/>
          </p:cNvSpPr>
          <p:nvPr>
            <p:ph/>
          </p:nvPr>
        </p:nvSpPr>
        <p:spPr>
          <a:xfrm>
            <a:off x="228240" y="1523880"/>
            <a:ext cx="883908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ộng cơ điều trị của bệnh nhân là gì</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N có đáp ứng các tiêu chí về xã hội cho việc tham gia điều trị MMT không?</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ựa vào việc đánh giá các yếu tố xã hội, bạn có kết luận gì?</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ếu BN không đủ điều kiên tham gia, ghi rõ các khả năng điều trị khác</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ếu xét thấy BN phù hợp với chương trình MMT – nêu các vấn đề/khó khăn và các hỗ trợ cân có để giải quyế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vấn đề đáng lưu ý khác</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dịch vụ chuyển tiếp cần thiết đối với B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công việc tiếp theo và lịch hẹn tiếp theo</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2124-41D4-40F1-89EC-253C62CB45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Ghi nhớ </a:t>
            </a:r>
            <a:endParaRPr b="0" lang="en-US" sz="4400" spc="-1" strike="noStrike">
              <a:solidFill>
                <a:srgbClr val="000000"/>
              </a:solidFill>
              <a:latin typeface="Arial"/>
            </a:endParaRPr>
          </a:p>
        </p:txBody>
      </p:sp>
      <p:sp>
        <p:nvSpPr>
          <p:cNvPr id="124" name="PlaceHolder 2"/>
          <p:cNvSpPr>
            <a:spLocks noGrp="1"/>
          </p:cNvSpPr>
          <p:nvPr>
            <p:ph/>
          </p:nvPr>
        </p:nvSpPr>
        <p:spPr>
          <a:xfrm>
            <a:off x="151920" y="1752120"/>
            <a:ext cx="4038840" cy="48006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ột trong những yếu tố quan trọng nhất ảnh hưởng đến việc duy trì điều trị của khách hàng là sự tin tưởng và giao tiếp có hiệu quả của những nhà cung cấp dịch vụ chăm sóc sức khỏe.</a:t>
            </a:r>
            <a:endParaRPr b="0" lang="en-US" sz="2800" spc="-1" strike="noStrike">
              <a:solidFill>
                <a:srgbClr val="000000"/>
              </a:solidFill>
              <a:latin typeface="Arial"/>
            </a:endParaRPr>
          </a:p>
        </p:txBody>
      </p:sp>
      <p:pic>
        <p:nvPicPr>
          <p:cNvPr id="125" name="Picture 6" descr="Image197"/>
          <p:cNvPicPr/>
          <p:nvPr/>
        </p:nvPicPr>
        <p:blipFill>
          <a:blip r:embed="rId1"/>
          <a:stretch/>
        </p:blipFill>
        <p:spPr>
          <a:xfrm>
            <a:off x="4419720" y="2014560"/>
            <a:ext cx="4628880" cy="3471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80A1-E368-45A6-85BB-8A3723F6C0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hực hành nhóm (3 người)</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ỗi nhóm 3 người cho các vai</a:t>
            </a:r>
            <a:endParaRPr b="0" lang="en-US" sz="32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ư vấn viên đang đánh giá bệnh nhân</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ệnh nhân</a:t>
            </a:r>
            <a:endParaRPr b="0" lang="en-US" sz="2800" spc="-1" strike="noStrike">
              <a:solidFill>
                <a:srgbClr val="000000"/>
              </a:solidFill>
              <a:latin typeface="Arial"/>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 sát viên</a:t>
            </a:r>
            <a:endParaRPr b="0" lang="en-US" sz="28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ựa chọn một nội dung trong mẫu đánh giá khách hàng bạn cho là khó thực hiện nhất để thực hành trong 5 phút</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ành 1 phút để nhận xét, phản hồi</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ổi v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FA0F-028E-46D8-99A2-F950E1F0EC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38088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ỏi-đáp và thảo luận</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C58EA-67FF-4F5B-B7F6-A95513F6A5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Quá trình đánh giá bệnh nhân cần phải thực hiện bởi nhóm điều trị </a:t>
            </a:r>
            <a:endParaRPr b="0" lang="en-US" sz="3600" spc="-1" strike="noStrike">
              <a:solidFill>
                <a:srgbClr val="000000"/>
              </a:solidFill>
              <a:latin typeface="Arial"/>
            </a:endParaRPr>
          </a:p>
        </p:txBody>
      </p:sp>
      <p:sp>
        <p:nvSpPr>
          <p:cNvPr id="55" name="PlaceHolder 2"/>
          <p:cNvSpPr>
            <a:spLocks noGrp="1"/>
          </p:cNvSpPr>
          <p:nvPr>
            <p:ph/>
          </p:nvPr>
        </p:nvSpPr>
        <p:spPr>
          <a:xfrm>
            <a:off x="304920" y="1600200"/>
            <a:ext cx="8534160" cy="452592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ược thực hiện bởi bác sĩ và tư vấn viên</a:t>
            </a:r>
            <a:endParaRPr b="0" lang="en-US" sz="2800" spc="-1" strike="noStrike">
              <a:solidFill>
                <a:srgbClr val="000000"/>
              </a:solidFill>
              <a:latin typeface="Arial"/>
            </a:endParaRPr>
          </a:p>
          <a:p>
            <a:pPr marL="325800" indent="-32580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ác sĩ đánh giá tình trạng và khả năng đáp ứng các điều kiện lâm sàng của BN</a:t>
            </a:r>
            <a:endParaRPr b="0" lang="en-US" sz="2800" spc="-1" strike="noStrike">
              <a:solidFill>
                <a:srgbClr val="000000"/>
              </a:solidFill>
              <a:latin typeface="Arial"/>
            </a:endParaRPr>
          </a:p>
          <a:p>
            <a:pPr marL="325800" indent="-32580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ư vấn viên đánh giá về động cơ điều trị, giai đoạn thay đổi hành vi, mức độ lệ thuộc cũng như các tiêu chí về xã hội (bao gồm tiền sử SDMT cũng như trải nghiệm của bệnh nhân với các đợt điều trị trước đây)</a:t>
            </a:r>
            <a:endParaRPr b="0" lang="en-US" sz="2800" spc="-1" strike="noStrike">
              <a:solidFill>
                <a:srgbClr val="000000"/>
              </a:solidFill>
              <a:latin typeface="Arial"/>
            </a:endParaRPr>
          </a:p>
          <a:p>
            <a:pPr marL="325800" indent="-32580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u đó bác sĩ và tư vấn viên trao đổi nhằm quyết định xem bệnh nhân có đáp ứng đủ điều kiện tham gia điều trị sau đó chuyển hồ sơ lên ban xét duyệ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014BD-20E1-44FC-93DE-11C468F75D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609480" y="591840"/>
            <a:ext cx="777240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Mục tiêu của việc đánh giá</a:t>
            </a:r>
            <a:endParaRPr b="0" lang="en-US" sz="4000" spc="-1" strike="noStrike">
              <a:solidFill>
                <a:srgbClr val="000000"/>
              </a:solidFill>
              <a:latin typeface="Arial"/>
            </a:endParaRPr>
          </a:p>
        </p:txBody>
      </p:sp>
      <p:sp>
        <p:nvSpPr>
          <p:cNvPr id="58" name="PlaceHolder 2"/>
          <p:cNvSpPr>
            <a:spLocks noGrp="1"/>
          </p:cNvSpPr>
          <p:nvPr>
            <p:ph/>
          </p:nvPr>
        </p:nvSpPr>
        <p:spPr>
          <a:xfrm>
            <a:off x="380880" y="1676520"/>
            <a:ext cx="876312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ết lập mối quan hệ giữa nhân viên-bệnh nhân trong điều trị</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ác định mức độ lệ thuộc ma túy của bệnh nhâ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àm rõ bản chất và mức độ trầm trọng đối với các nhu cầu tâm lý, xã hội</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ắt đầu thảo luận các mục đích điều trị</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BC20-32EA-4937-842C-49F270ADD9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838080" y="1599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rình bày:</a:t>
            </a:r>
            <a:br>
              <a:rPr sz="4000"/>
            </a:br>
            <a:r>
              <a:rPr b="0" lang="en-US" sz="4000" spc="-1" strike="noStrike">
                <a:solidFill>
                  <a:srgbClr val="333399"/>
                </a:solidFill>
                <a:latin typeface="Arial"/>
              </a:rPr>
              <a:t>Biểu mẫu đánh giá khách hàng</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30182-8D2A-4761-B5F7-EDA47CBF87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PlaceHolder 1"/>
          <p:cNvSpPr>
            <a:spLocks noGrp="1"/>
          </p:cNvSpPr>
          <p:nvPr>
            <p:ph type="title"/>
          </p:nvPr>
        </p:nvSpPr>
        <p:spPr>
          <a:xfrm>
            <a:off x="761760" y="304560"/>
            <a:ext cx="7924680" cy="58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ác nội dung do tư vấn viên thực hiện</a:t>
            </a:r>
            <a:endParaRPr b="0" lang="en-US" sz="4000" spc="-1" strike="noStrike">
              <a:solidFill>
                <a:srgbClr val="000000"/>
              </a:solidFill>
              <a:latin typeface="Arial"/>
            </a:endParaRPr>
          </a:p>
        </p:txBody>
      </p:sp>
      <p:sp>
        <p:nvSpPr>
          <p:cNvPr id="63" name="PlaceHolder 2"/>
          <p:cNvSpPr>
            <a:spLocks noGrp="1"/>
          </p:cNvSpPr>
          <p:nvPr>
            <p:ph/>
          </p:nvPr>
        </p:nvSpPr>
        <p:spPr>
          <a:xfrm>
            <a:off x="533520" y="1405080"/>
            <a:ext cx="8534160" cy="484344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ông tin về thông tin chung của khách hàng</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ông tin về tiền sử SDMT và điều tri cai nghiện trước đây</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ìm hiều động cơ thay đổi của KH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tình trạng lệ thuộc CDTP và khả năng đáp ứng các tiêu chí xã hội đối với việc tham gia điều trị chương trình ĐTDT bằng methadone (MMT)</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hành vi nguy cơ của KH</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tình trạng sức khỏe tâm thần của KH</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Đánh giá nhu cầu hỗ trợ tâm lý</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ác định các nguồn hỗ trợ xã hội KH đang có</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u cầu nào của KH cần được ưu tiên? </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ến thức của KH về methadone</a:t>
            </a:r>
            <a:endParaRPr b="0" lang="en-US" sz="2400" spc="-1" strike="noStrike">
              <a:solidFill>
                <a:srgbClr val="000000"/>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35EFF-FAB2-469B-9644-D674E24F4C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762120" y="1828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iền sử sử dụng ma túy, chất gây nghiện và các đợt điều trị cai nghiện trước đây</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153E-CF6C-49BD-AA6B-7EF7C87E13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type="title"/>
          </p:nvPr>
        </p:nvSpPr>
        <p:spPr>
          <a:xfrm>
            <a:off x="914040" y="151920"/>
            <a:ext cx="734076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Unicode MS"/>
              </a:rPr>
              <a:t>Tiền sử SDMT</a:t>
            </a:r>
            <a:endParaRPr b="0" lang="en-US" sz="4400" spc="-1" strike="noStrike">
              <a:solidFill>
                <a:srgbClr val="000000"/>
              </a:solidFill>
              <a:latin typeface="Arial"/>
            </a:endParaRPr>
          </a:p>
        </p:txBody>
      </p:sp>
      <p:sp>
        <p:nvSpPr>
          <p:cNvPr id="68" name="PlaceHolder 2"/>
          <p:cNvSpPr>
            <a:spLocks noGrp="1"/>
          </p:cNvSpPr>
          <p:nvPr>
            <p:ph/>
          </p:nvPr>
        </p:nvSpPr>
        <p:spPr>
          <a:xfrm>
            <a:off x="304920" y="1143000"/>
            <a:ext cx="861048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ại ma túy sử dụng trong 12 tháng qua, tần xuất, đường dùng, liều lượ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 ai trong gia đình sử dụng ma túy? (vợ/chồng/người thâ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ố lần bị sốc thuố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ử dụng chung BK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tả các khó khăn liên quan đến sử dụng ma tú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ông tin về các đợt điều trị, cai nghiện trước đâ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ử dụng rượu</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46AE0-CBD7-4A6F-B047-F243FB4ED4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Lượng giá theo bảng kiểm </a:t>
            </a:r>
            <a:br>
              <a:rPr sz="4000"/>
            </a:br>
            <a:r>
              <a:rPr b="1" lang="en-US" sz="4000" spc="-1" strike="noStrike">
                <a:solidFill>
                  <a:srgbClr val="333399"/>
                </a:solidFill>
                <a:latin typeface="Arial"/>
              </a:rPr>
              <a:t>của IDC 10</a:t>
            </a:r>
            <a:endParaRPr b="0" lang="en-US" sz="4000" spc="-1" strike="noStrike">
              <a:solidFill>
                <a:srgbClr val="000000"/>
              </a:solidFill>
              <a:latin typeface="Arial"/>
            </a:endParaRPr>
          </a:p>
        </p:txBody>
      </p:sp>
      <p:graphicFrame>
        <p:nvGraphicFramePr>
          <p:cNvPr id="71" name="Object 2014"/>
          <p:cNvGraphicFramePr/>
          <p:nvPr/>
        </p:nvGraphicFramePr>
        <p:xfrm>
          <a:off x="380880" y="1905120"/>
          <a:ext cx="8534520" cy="4343400"/>
        </p:xfrm>
        <a:graphic>
          <a:graphicData uri="http://schemas.openxmlformats.org/presentationml/2006/ole">
            <p:oleObj progId="Excel.Sheet.12" r:id="rId1" spid="">
              <p:embed/>
              <p:pic>
                <p:nvPicPr>
                  <p:cNvPr id="72" name="Object 2014" descr=""/>
                  <p:cNvPicPr/>
                  <p:nvPr/>
                </p:nvPicPr>
                <p:blipFill>
                  <a:blip r:embed="rId2"/>
                  <a:stretch/>
                </p:blipFill>
                <p:spPr>
                  <a:xfrm>
                    <a:off x="380880" y="1905120"/>
                    <a:ext cx="8534520" cy="43434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5:51:58Z</dcterms:created>
  <dc:creator>rachel burdon</dc:creator>
  <dc:description/>
  <dc:language>en-US</dc:language>
  <cp:lastModifiedBy>Nhu Trang</cp:lastModifiedBy>
  <dcterms:modified xsi:type="dcterms:W3CDTF">2017-06-16T01:24:06Z</dcterms:modified>
  <cp:revision>226</cp:revision>
  <dc:subject/>
  <dc:title>No Slide Title</dc:title>
</cp:coreProperties>
</file>