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25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6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27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0FC-9039-4D29-8D23-2A3C740C9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D0BD-4784-4F76-88D9-5382DF75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2880" y="4576680"/>
            <a:ext cx="504972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2068-2281-4C52-B8D8-1F9BE3D48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BBA-5DA9-46A8-8AE0-942F4B236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037F-3F76-4433-988E-360F78E2C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C82-C6B0-43DF-9FA9-8D767C45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75B7-F948-4064-B1DB-C1E99E108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3E6B-6AE9-41DD-BE4A-6D568B280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07A2-1ADF-438F-AA42-C5E4F9A0F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2BB0-6C59-4CAC-A76E-92B645A8C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C38E-7538-406C-B6FA-3D716CC38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C534-3764-410A-9332-1B61C4C5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6A0-C39B-43EF-85AF-B900875F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44C-DF63-4294-AF5B-4F4232EC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273-1592-4CD5-B3F2-750FCEAF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client booklet re: methadone withdraw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5F26-E652-4805-B77D-C69E25475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92D2-8A07-47DB-8031-3968EE58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F915-E5A0-47D5-BA8E-0D43A82B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D463A07-8B9C-4D2E-B0F3-005D5BC6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A113FB-CBEE-4A9E-ADF4-2AE7F4D4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0EE3820-9939-489D-8C63-80E43EC63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F4FA039-865A-4935-834B-C984079E3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724EC92-CB95-465C-BC2D-E3CB531B2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245DD3D-7137-4AD3-BC23-D4E1E5CA3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4F11E6-A704-4503-B92A-68BD51EA1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E5FDD6-1565-4CAA-8276-2203455E5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B7E75B2-1705-44F8-B388-3B9243E81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6F15C13-0F96-44C7-BF59-9C14D0C1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150D9FD-E353-448B-B4BF-023CEDF3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A42770-E3FB-488A-ACBA-E382CA36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88480" y="914400"/>
            <a:ext cx="7417080" cy="3471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700" spc="-1" strike="noStrike">
                <a:solidFill>
                  <a:srgbClr val="000000"/>
                </a:solidFill>
                <a:latin typeface="Arial"/>
              </a:rPr>
              <a:t>Tư vấn khi giảm liều và dừng điều trị Methadon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Arial"/>
              </a:rPr>
              <a:t>Chỗ ở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5000"/>
          </a:bodyPr>
          <a:p>
            <a:pPr marL="3409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à một biện pháp giúp khách hàng tái hòa nhậ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ững người sống cùng nhà là nguồn hỗ trợ quan trọ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hông có nguy cơ bị mất nhà hoặc không có chỗ 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4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ó khả năng trả chậm tiền thuê nh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hó giảm liều methadone khi sống cùng cha m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092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4760">
              <a:spcBef>
                <a:spcPts val="700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Không có nhà ở là một yếu tố nguy cơ tái sử dụng ma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</a:rPr>
              <a:t>Chống chỉ định giảm liều/dừng điều trị methadon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Đang sử dụng hero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Có th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Trước các sự kiện quan trọ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Kỳ thi ở trườ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uy sụ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Công việc mớ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Quan hệ mớ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Đa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Sử dụng các thuốc khác không thường xuyê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hiến lược toàn diện để ra khỏi chương trình điều trị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5000"/>
          </a:bodyPr>
          <a:p>
            <a:pPr marL="340920" indent="-340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m liều từ từ, thường xuyên đánh giá và xem xét lại kế hoạch điều tr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 dõi sự xuất hiện các cảm giác khó chịu và trầm cảm và cách xử tr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ạn chế dùng các loại thuốc khác nếu không sẽ gia tăng khả năng dung nạp các tác động dược động học của các loại thuốc nà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0160" indent="-284760">
              <a:spcBef>
                <a:spcPts val="550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ong trường hợp cần sử dụng thuốc khác, việc giảm liều có thể sẽ là quá nha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920" indent="-340920">
              <a:spcBef>
                <a:spcPts val="726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nh hoạt – chấp nhận điều trị lạ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Giảm liều Methadone từ từ giúp giảm các triệu chứng ca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ần phải giảm liều từ từ: giảm liều từ từ giúp hạn chế tối đa và tránh được biểu hiện c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8120" indent="-348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ội chứng cai xuất hiện mạnh nhất khi liều giảm đến 20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6000" indent="-29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hiều khách hàng khi giảm đến liều nhất định (thường từ 10 – 30 mg) khó chịu sẽ tăng dần và tái sử dụng he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000" indent="-29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Ổn định liều với liều cao hơn là cần thiế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6000" indent="-29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 thể đạt tới liều 25mg trong 1 năm đối với hầu hết khách hàng nếu các yếu tố ổn định được duy trì – thậm chí nếu khách hàng chuyển chỗ ở sang vùng khá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iêu chí để giảm liều methadone </a:t>
            </a: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ự nguyệ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80520" y="1695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Khách hàng ổn định v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ố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nh trạng sử dụng ma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âm lý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Động cơ dừng điều trị của khách hà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VÀ thời gian điều trị methadone ít nhất là 12 th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Kế hoạch kết thúc điều trị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6000"/>
          </a:bodyPr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âm lý xã hộ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ư vấn phòng tái nghiệ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tâm l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hành vi nhận thứ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hỗ trợ / kể truyệ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760">
              <a:lnSpc>
                <a:spcPct val="80000"/>
              </a:lnSpc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iệu pháp gia đình / quan h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ác nhóm tự giúp đỡ/ nhóm hỗ trợ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Đào tạo nghề / hỗ trợ tìm việc là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Giáo dụ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Y tế – chống suy nhược / chất đối vận Naltrex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ỗ trợ thường xuyên về pháp luậ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ng cấp các cách giải quyết vấn đề và đặt mục tiêu để xây dựng kế hoạch cụ th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 dõi sau khi dừng điều trị methadone càng lâu càng tốt, tối thiểu là 6 thá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hông nên cho là điều trị không thành công trong trường hợp khách hàng không thể tiếp tục giảm liều hoặc bỏ dở điều trị MM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ẵn sàng đón nhận khách hàng muốn quay trở lạ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ần xuất tư vấn hỗ trợ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 lần/tuần trong tháng đầu tiên mới giả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lần/tháng từ tháng thứ 2 trở đi đến khi kết th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àng tháng trong ít nhất 6 tháng sau khi kết thúc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hi cần thiết, theo nhu cầu người bệ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hảo luận nhóm: nghiên cứu trường hợp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ảo luận các trường hợp trong nhóm nhỏ và đưa ý kiến phản h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cách xác định các vấn đề khi tham gia chương trình MMT và một số can thiệp về tâm lý xã hội cần thiế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Nghiên cứu trường hợp: kết thúc điều trị methadon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1000"/>
          </a:bodyPr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àng đã tham gia điều trị methadone tại phòng kh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 của bạn 18 th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. Anh ấy sử dụng heroin khoảng 1 lần mỗi th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á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v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uống 3-4 cốc bia mỗi tối. Liều methadone anh ấy đang d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ù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l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65mg. Đây là lần đầu tiên anh ấy tham gia điều trị methad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Anh ấy quyết định rằng anh ấy đã điều trị đủ methadone, đạt được mục tiêu đề ra. Anh ấy đang c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 mối quan hệ ổn định với một người không sử dụng heroin nhưng anh ấy chỉ có công việc bán thời gian trong 5 năm qu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o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à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nói với bạn rằng anh ấy muốn kết thúc điều trị methadone vào  sinh nhật của anh ấy (khoảng 4 tuần nữa) để anh ấy có thể c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ù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ng với bạn gái đến thăm bố mẹ cô ấy ở thành phố khác và anh ấy không muốn họ biết là anh đang tham gia điều trị metha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 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Vấn đề gì bạn quan tâm, và bạn sẽ khuyên anh ấy điều g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ì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Mục tiêu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5000"/>
          </a:bodyPr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ểu các triệu chứng lâm sàng gặp khi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ết các đặc điểm chính chứng tỏ sự sẵn sàng để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ưu ý các chống chỉ định cho việc giảm liều methadone và chỉ định áp dụng các can thiệp cần thiết khá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úp khách hàng lường trước được những điều sẽ xảy ra trong quá trình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Đánh giá được tình trạng sẵn sàng để kết thúc điều trị của khách hàng: bệnh lý, sử dụng ma túy, tâm lý xã hộ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êu chuẩn để giảm liều điều trị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úp khách hàng lập kế hoạch và chuẩn bị sẵn sàng cho giảm liều methad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55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ác định các hỗ trợ cần thiết giúp việc giảm liều tiến hành theo kế ho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3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iều gì sẽ xảy ra khi giảm liều methad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hững điều kiện cần có để bệnh nhân có thể được ra khỏi chương trình là gì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</a:rPr>
              <a:t>Cai Methadon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0000"/>
          </a:bodyPr>
          <a:p>
            <a:pPr marL="322920" indent="-322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Arial"/>
              </a:rPr>
              <a:t>Bạn sẽ không gặp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hội chứng cai </a:t>
            </a: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CCDTP”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trừ khi giảm liều quá nha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ững biểu hiện của cai methadone thường không dễ chị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ễ xúc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ễ nổi cá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ung hăng/ nóng gi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iếu sáng suố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ém khả năng chịu đựng sự bực tứ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ất kiểm soá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Arial"/>
              </a:rPr>
              <a:t>Dừng điều trị methadone đột ngộ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9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172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AU" sz="2500" spc="-1" strike="noStrike">
                <a:solidFill>
                  <a:srgbClr val="ff0000"/>
                </a:solidFill>
                <a:latin typeface="Arial"/>
              </a:rPr>
              <a:t>Phải tránh bằng mọi gi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499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hông gây tử vong trừ khi gây ra bởi sử dụng naltrexone / nalox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499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ội chứng cai xuất hiện sau 2 – 3 ngà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499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ội chứng cai lên đến đỉnh điểm vào tuần thứ 2 và tuần thứ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ất ng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ồn chồn, khó chị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Đau lư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hó chịu vì “nhớ một thứ gì đó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ức giận/ hung hă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rầm cả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4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ối loạn tâm thầ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93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Hội chứng cai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thường chấm dứt sau 6 – 12 tuần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ừng điều trị duy trì nghiện các chất dạng thuốc phiện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0000"/>
          </a:bodyPr>
          <a:p>
            <a:pPr marL="322920" indent="-3229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hi nà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9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ỷ lệ tái nghiện heroin cao trong nhóm khách hàng dừng điều trị methadone khi chưa đạt tới “tình trạng ổn địn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9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yếu tố hành vi của khách hà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i her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Ổn định về xã hội / các nguồn hỗ trợ / các mối quan h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-269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ác yếu tố liên quan đến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ều ổn địn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7120" indent="-215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hông bỏ liều và quan hệ tốt với phòng khá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920" indent="-32292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hông được ép buộc khách hàng tiếp tục điều trị metha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3600" spc="-1" strike="noStrike">
                <a:solidFill>
                  <a:srgbClr val="000099"/>
                </a:solidFill>
                <a:latin typeface="Arial"/>
              </a:rPr>
              <a:t>Các yếu tố dự báo điều trị thành công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2908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67000"/>
          </a:bodyPr>
          <a:p>
            <a:pPr marL="240120" indent="-240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ừng sử dụng heroin (ít nhất là 6 thá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 yếu tố hỗ trợ xã hội ổn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0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ông việ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0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ỗ 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00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uan h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0">
              <a:spcBef>
                <a:spcPts val="5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Nên là một biện pháp để phục hồi chứ không phải là liệt kê các việc cần là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ó khả năng chịu đựng được sự thất vọng về mặt tình cảm trong cuộc số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Arial"/>
              </a:rPr>
              <a:t>Việc làm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ọc tập hay làm việ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ử dụng thời gian có hiệu qu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từ phía mạng lưới đồng nghiệ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từ phía người sử dụng lao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àm việc giúp khách hàng có khả năng xử trí phù hợp và tích cực khi có cảm giác khó chịu và tức gi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400" spc="-1" strike="noStrike">
                <a:solidFill>
                  <a:srgbClr val="000099"/>
                </a:solidFill>
                <a:latin typeface="Arial"/>
              </a:rPr>
              <a:t>Quan hệ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4000"/>
          </a:bodyPr>
          <a:p>
            <a:pPr marL="301320" indent="-301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ỗ trợ từ các mối quan hệ thân thuộ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chỉ riêng tình yêu thương của cha m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và giúp phân tán suy nghĩ về việc SD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ỗ trợ về dinh dư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n cái đóng vai trò rất quan tr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480" indent="-25164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ó thể đạt tới giai đoạn ổn định và vượt qua các cảm giác buồn ch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01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ự đổ vỡ trong các mối quan hệ là một nguyên nhân phổ biến gây tái nghiệ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0">
              <a:spcBef>
                <a:spcPts val="601"/>
              </a:spcBef>
              <a:buNone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320" indent="-301320">
              <a:spcBef>
                <a:spcPts val="700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ất việc làm là một yếu tố nguy cơ cao gây tái sử dụ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4:27:08Z</dcterms:created>
  <dc:creator>David Jacka</dc:creator>
  <dc:description/>
  <dc:language>en-US</dc:language>
  <cp:lastModifiedBy>Admin</cp:lastModifiedBy>
  <cp:lastPrinted>2006-07-12T14:28:40Z</cp:lastPrinted>
  <dcterms:modified xsi:type="dcterms:W3CDTF">2013-08-12T14:54:44Z</dcterms:modified>
  <cp:revision>180</cp:revision>
  <dc:subject/>
  <dc:title>Slide 1</dc:title>
</cp:coreProperties>
</file>