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024373-5698-4619-B958-3403A75B1312}"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F22EB6-99E2-443B-9113-4D028C8CB0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Giảng viên: Chào mừng các học viên đến lớp học và mời học viên ngồi sao cho họ cảm thấy thoải mái.</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ảo đảm là bạn đã sắp xếp phòng học sẵn sàng. Tài liệu để sẵn trên bàn gồm:</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1. Biển tên</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2. Bút viết bảng và bút viết</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3. Tài liệu phát tay</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4. Sổ ghi chép</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ố trí lớp học sao cho thuận lợi cho việc trao đổi thảo luận giữa các học viên. Quyết định xem có nên bố trí dưới dạng lớp học như ở trường học, ghế xếp thành hình tròn hay hình chữ U để học viên có thể quan sát và trao đổi với nhau một cách thoải mái. Đồng thời cần bảo đảm học viên có thể nhìn rõ nội dung chiếu trên bản chiếu slide cho dù họ ngồi ở vị trí nào trong lớp học.</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huẩn bị sẵn sàng cho tất cả các việc hậu cần – nghĩa là kết nối máy chiếu LCD, màn hình và máy laptop ít nhất là 30 phút trước khi lớp học bắt đầu để đảm bảo máy móc hoạt động không có trục trặc gì.</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uôn luôn mang đến đủ số lượng tài liệu phát tay cho học viên. Ngoài ra, nếu không may máy chiếu LCD và máy laptop hoạt động thì bạn vẫn có thể tiến hành giảng bài bằng cách sử dụng các tài liệu phát tay.</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ếu bài học này là một bài riêng rẽ thì bổ sung câu nói dưới đây trong phần mở đầu.</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uối cùng, thực hiện phần các quy định của lớp học: đây là phần các giảng viên và học viên cùng thảo luận với nhau tại lớp. Nội quy chính thức của lớp học là do giảng viên quyết định. Một số nội quy có thể như sau:</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ôn trọng ý kiến nhận xét của các học viên khác</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i cũng có quyền nói lên quan điểm của mình</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Nếu có câu hỏi học viên có thể hỏi bất cứ lúc nào trong quá trình giảng</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ắt chuông điện thoại di động</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hỉ kiểm tra email và tin nhắn trong giờ nghỉ giải lao</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ếu bài học này là phần tiếp tục của các bài học khác trong khóa học thì </a:t>
            </a:r>
            <a:r>
              <a:rPr b="0" lang="en-US" sz="1100" spc="-1" strike="noStrike">
                <a:solidFill>
                  <a:srgbClr val="000000"/>
                </a:solidFill>
                <a:latin typeface="Calibri"/>
              </a:rPr>
              <a:t>NÓI,</a:t>
            </a:r>
            <a:endParaRPr b="0" lang="en-US" sz="1100" spc="-1" strike="noStrike">
              <a:solidFill>
                <a:srgbClr val="000000"/>
              </a:solidFill>
              <a:latin typeface="Calibri"/>
            </a:endParaRPr>
          </a:p>
          <a:p>
            <a:pPr indent="0">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r>
              <a:rPr b="1" lang="en-US" sz="1100" spc="-1" strike="noStrike">
                <a:solidFill>
                  <a:srgbClr val="000000"/>
                </a:solidFill>
                <a:latin typeface="Calibri"/>
              </a:rPr>
              <a:t>Nói:</a:t>
            </a:r>
            <a:r>
              <a:rPr b="1" i="1" lang="en-US" sz="1100" spc="-1" strike="noStrike">
                <a:solidFill>
                  <a:srgbClr val="000000"/>
                </a:solidFill>
                <a:latin typeface="Calibri"/>
              </a:rPr>
              <a:t> </a:t>
            </a:r>
            <a:r>
              <a:rPr b="0" i="1" lang="en-US" sz="1100" spc="-1" strike="noStrike">
                <a:solidFill>
                  <a:srgbClr val="000000"/>
                </a:solidFill>
                <a:latin typeface="Calibri"/>
              </a:rPr>
              <a:t>Trước khi chúng ta thảo luận và thực hành các kĩ năng và kĩ thuật tư vấn, tôi muốn giới thiệu và giúp các bạn hiểu rõ những nguyên tắc cơ bản trong tư vấn điều trị nghiện ma túy. </a:t>
            </a:r>
            <a:endParaRPr b="0" lang="en-US" sz="11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44B854-DE89-4EE3-B78B-9CDAED9ACA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 </a:t>
            </a:r>
            <a:r>
              <a:rPr b="0" i="1" lang="en-US" sz="1200" spc="-1" strike="noStrike">
                <a:solidFill>
                  <a:srgbClr val="000000"/>
                </a:solidFill>
                <a:latin typeface="Calibri"/>
              </a:rPr>
              <a:t>Tư vấn điều trị nghiện ma túy giúp mang lại sự ổn định cho nhiều khách hàng để nhờ đó họ có thể ứng phó với nhiều vấn đề liên quan khác nhau, có thể ngoài khả năng và chuyên môn của cơ sở cung cấp dịch vụ tư vấn. Cụ thể, những vấn đề như nơi ở, việc làm, những vấn đề liên quan đến sức khỏe như HIV và những vấn đề pháp lí có thể được giải quyết hiệu quả hơn nếu khách hàng đang tham gia dịch vụ tư vấn điều trị nghiện. Kết nối giữa dịch vụ tư vấn với các dịch vụ hỗ trợ khác là một yếu tố quan trọng của dịch vụ tư vấn điều trị nghiện ma túy hiệu quả.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32F90A-CE92-4C21-BB31-49A7F90E8E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Ôn lại những nội dung chính của bà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ông tin tham kh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iểu rõ và tuân thủ tuyệt đối bảy nguyên tắc đóng vai trò rất quan trọng giúp tư vấn viên thực hiện tốt tư vấn điều trị nghiện ma tú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ảy nguyên tắc nối kết qua lại và hỗ trợ lẫn nhau nhằm bảo đảm tư vấn thành cô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Cảm ơn học viên vì đã chú ý lắng nghe và tham gia nhiệt tình trong những phần thảo luận. Hỏi xem họ có còn câu hỏi nào nữa không. Nếu có thì hãy trả lời những câu hỏi liên quan tới nội dung bài giảng. Nếu câu hỏi liên quan tới những bài học khác, hãy trả lời rằng những nội dung đó sẽ được đề cập tới trong những phần sau, và đề nghị họ ghi lại các câu hỏi đó cho các bài học tiếp theo.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852DCB-1635-4ED0-AC98-CA79E19860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Trình bày trực tiếp nội dung bản chiếu.</a:t>
            </a: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E205AA-54FA-404D-8A50-38AFA8E12A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Giống như các dịch vụ HIV/AIDS khác, sự thành công của dịch vụ tư vấn điều trị nghiện ma túy tại cộng đồng phụ thuộc rất nhiều vào số lượng khách hàng đến và sử dụng dịch vụ. Hãy luôn nhớ rằng có những nguyên tắc nhất định mà các tư vấn viên bắt buộc phải tuân thủ để đảm bảo dịch vụ có chất lượng tốt, đó là:</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Tự nguyệ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Bảo mậ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Tin cậy</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Không phán xé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Tôn trọng</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An toà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Gắn kết với các dịch vụ khá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Sau đây, chúng ta sẽ cùng nhau thảo luận chi tiết về những nguyên tắc nà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 </a:t>
            </a: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E58559-5663-44CE-8ADA-A7B4ED87C3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Nói:</a:t>
            </a:r>
            <a:r>
              <a:rPr b="1" i="1" lang="en-US" sz="900" spc="-1" strike="noStrike">
                <a:solidFill>
                  <a:srgbClr val="000000"/>
                </a:solidFill>
                <a:latin typeface="Calibri"/>
              </a:rPr>
              <a:t> </a:t>
            </a:r>
            <a:r>
              <a:rPr b="0" i="1" lang="en-US" sz="900" spc="-1" strike="noStrike">
                <a:solidFill>
                  <a:srgbClr val="000000"/>
                </a:solidFill>
                <a:latin typeface="Calibri"/>
              </a:rPr>
              <a:t>Các bạn hiểu thế nào là "tự nguyệ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Hướng dẫn giảng dạy: </a:t>
            </a:r>
            <a:r>
              <a:rPr b="0" lang="en-US" sz="900" spc="-1" strike="noStrike">
                <a:solidFill>
                  <a:srgbClr val="000000"/>
                </a:solidFill>
                <a:latin typeface="Calibri"/>
              </a:rPr>
              <a:t>Dành thời gian cho học viên phát biểu ý kiến và tóm tắt lại.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r>
              <a:rPr b="1" lang="en-US" sz="900" spc="-1" strike="noStrike">
                <a:solidFill>
                  <a:srgbClr val="000000"/>
                </a:solidFill>
                <a:latin typeface="Calibri"/>
              </a:rPr>
              <a:t>Nói:</a:t>
            </a:r>
            <a:r>
              <a:rPr b="1" i="1" lang="en-US" sz="900" spc="-1" strike="noStrike">
                <a:solidFill>
                  <a:srgbClr val="000000"/>
                </a:solidFill>
                <a:latin typeface="Calibri"/>
              </a:rPr>
              <a:t> </a:t>
            </a:r>
            <a:r>
              <a:rPr b="0" i="1" lang="en-US" sz="900" spc="-1" strike="noStrike">
                <a:solidFill>
                  <a:srgbClr val="000000"/>
                </a:solidFill>
                <a:latin typeface="Calibri"/>
              </a:rPr>
              <a:t>Tự nguyện nghĩa là một người sẵn lòng thực hiện một công việc nào đó. Tư vấn viên chỉ giúp khách hàng tìm ra một giải pháp phù hợp trong quá trình thảo luận với họ chứ không có quyền bắt buộc họ phải làm bất cứ một điều gì. Tự nguyện là một nguyên tắc hết sức quan trọng của tư vấn.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Ví dụ, một khách hàng nam đến để tâm sự với tư vấn viên. Tư vấn viên giải thích về mục đích của buổi tư vấn và đưa ra các câu hỏi để đánh giá mức độ sử dụng ma túy của khách hàng, sau đó thảo luận về các giải pháp điều trị nghiện để khách hàng lựa chọn. Giả sử là khách hàng này không muốn thực hiện bất cứ kế hoạch nào cả. Trong tình huống này, tư vấn viên nên tôn trọng quyết định của khách hàng. Tư vấn viên có thể khuyến khích nhưng không thể ép buộc họ đăng kí tham gia vào chương trình điều trị.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Theo các bạn thì tại sao tư vấn cần phải tự nguyện?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Hướng dẫn giảng dạy: </a:t>
            </a:r>
            <a:r>
              <a:rPr b="0" lang="en-US" sz="900" spc="-1" strike="noStrike">
                <a:solidFill>
                  <a:srgbClr val="000000"/>
                </a:solidFill>
                <a:latin typeface="Calibri"/>
              </a:rPr>
              <a:t>Dành thời gian để học viên đưa ra câu trả lời. Đảm bảo rằng các ý kiến có đề cập tới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lvl="1" marL="457200">
              <a:lnSpc>
                <a:spcPct val="80000"/>
              </a:lnSpc>
              <a:spcBef>
                <a:spcPts val="33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Calibri"/>
              </a:rPr>
              <a:t>Khách hàng sẽ cởi mở và  cảm thấy thoải mái hơn </a:t>
            </a:r>
            <a:endParaRPr b="0" lang="en-US" sz="900" spc="-1" strike="noStrike">
              <a:solidFill>
                <a:srgbClr val="000000"/>
              </a:solidFill>
              <a:latin typeface="Calibri"/>
            </a:endParaRPr>
          </a:p>
          <a:p>
            <a:pPr lvl="1" marL="457200">
              <a:lnSpc>
                <a:spcPct val="80000"/>
              </a:lnSpc>
              <a:spcBef>
                <a:spcPts val="33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Calibri"/>
              </a:rPr>
              <a:t>Dịch vụ tư vấn trở nên thân thiện hơn đối với khách hàng </a:t>
            </a:r>
            <a:endParaRPr b="0" lang="en-US" sz="900" spc="-1" strike="noStrike">
              <a:solidFill>
                <a:srgbClr val="000000"/>
              </a:solidFill>
              <a:latin typeface="Calibri"/>
            </a:endParaRPr>
          </a:p>
          <a:p>
            <a:pPr lvl="1" marL="457200">
              <a:lnSpc>
                <a:spcPct val="80000"/>
              </a:lnSpc>
              <a:spcBef>
                <a:spcPts val="33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Calibri"/>
              </a:rPr>
              <a:t>Xây dựng và duy trì lòng tin </a:t>
            </a:r>
            <a:endParaRPr b="0" lang="en-US" sz="900" spc="-1" strike="noStrike">
              <a:solidFill>
                <a:srgbClr val="000000"/>
              </a:solidFill>
              <a:latin typeface="Calibri"/>
            </a:endParaRPr>
          </a:p>
          <a:p>
            <a:pPr lvl="1" marL="457200">
              <a:lnSpc>
                <a:spcPct val="80000"/>
              </a:lnSpc>
              <a:spcBef>
                <a:spcPts val="33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Calibri"/>
              </a:rPr>
              <a:t>Tiếng tăm tốt đẹp về dịch vụ sẽ được lan truyền rộng rãi trong nhóm đích </a:t>
            </a:r>
            <a:endParaRPr b="0" lang="en-US" sz="900" spc="-1" strike="noStrike">
              <a:solidFill>
                <a:srgbClr val="000000"/>
              </a:solidFill>
              <a:latin typeface="Calibri"/>
            </a:endParaRPr>
          </a:p>
          <a:p>
            <a:pPr lvl="1" marL="457200">
              <a:lnSpc>
                <a:spcPct val="80000"/>
              </a:lnSpc>
              <a:spcBef>
                <a:spcPts val="33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Calibri"/>
              </a:rPr>
              <a:t>Đôi khi khách hàng không sẵn lòng thay đổi hành vi ngay lập tức. Tuy nhiên, nếu họ có ấn tượng tốt về buổi tư vấn đầu tiên này thì nhiều khả năng là họ sẽ quay trở lại lần sau.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0925E6-EF09-49BC-976A-632A520892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Bảo mật cũng là một nguyên tắc rất quan trọng trong tư vấn. Đó là một trong những yếu tố quan trọng nhất trong mối quan hệ giữa tư vấn viên và khách hàng. Các bạn có thể đưa ra một số ví dụ, hoặc kinh nghiệm của chính bản thân các bạn hoặc của người khác về vấn đề bảo mật được không?</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Dành một vài phút cho học viên thảo luận và chia sẻ kinh nghiệm. Sau đó chiếu bản chiếu 5.</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Bảo mật là một yếu tố quan trọng khi làm việc với khách hàng là những người SDMT. Bạn phải luôn đảm bảo nguyên tắc bảo mật. Tư vấn viên phải luôn nhớ rằng các thông tin cá nhân của khách hàng phải được giữ bí mật tuyệt đối và không thể đưa ra trao đổi với người khác ngoài quan hệ chuyên môn. Bảo mật nghĩa là không tham khảo hoặc trao đổi về khách hàng với người khác trừ khi là với đồng nghiệp vì lí do chuyên môn, và chỉ được làm thế khi có sự đồng ý của khách hàng.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Tuy nhiên cần phá vỡ nguyên tắc bảo mật nếu tư vấn viên nhận thấy khách hàng tự làm hại bản thân hoặc gây hại cho người khác, bao gồm tình huống khách hàng nói với tư vấn viên về ý định tự tử. Trong tình huống đó, tư vấn viên cần thông báo cho cán bộ quản lý về nguy cơ và thảo luận tìm ra các hành động cần thực hiện.</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 </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8898A3-0CE4-4B00-9400-7603127CBC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Các bạn có nghĩ rằng là một tư vấn viên đáng tin cậy là một điều quan trọng không? Làm thế nào để biết được một người nào đó có đáng tin cậy hay không</a:t>
            </a:r>
            <a:r>
              <a:rPr b="1"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Hướng dẫn học viên thảo luận và viết lên giấy khổ lớn tất cả các ý kiến của họ.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Một tư vấn viên đáng tin cậy là một người mà khách hàng có thể cảm nhận được sự chân thành khi tiếp xúc. Người tư vấn viên tin cậy luôn đúng giờ, có kỉ luật và quan tâm tới khách hàng. Khách hàng cần phải cảm thấy là họ đang được lắng nghe và quan tâm. Bên cạnh đó, việc cung cấp những thông tin chính xác, giải thích rõ ràng và chuyển gửi khách hàng tới các dịch vụ phù hợp hơn sẽ làm tăng thêm sự tin cậy của khách hàng đối với tư vấn viê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Người tư vấn viên đáng tin cậy cũng luôn giữ bí mật các thông tin cá nhân của khách hà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C304E1-F8B4-42B7-8418-418BCA1F88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Hướng dẫn giảng dạy: </a:t>
            </a:r>
            <a:r>
              <a:rPr b="0" lang="en-US" sz="1000" spc="-1" strike="noStrike">
                <a:solidFill>
                  <a:srgbClr val="000000"/>
                </a:solidFill>
                <a:latin typeface="Calibri"/>
              </a:rPr>
              <a:t>Chỉ chiếu tiêu đề bản chiếu. Những nội dung cụ thể sẽ được chiếu sau phần thảo luận. Kể một câu chuyện hay đưa ra một ví dụ về sự phán xét người khác và những hậu quả của nó. </a:t>
            </a: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Thông tin tham khảo: </a:t>
            </a:r>
            <a:r>
              <a:rPr b="0" lang="en-US" sz="1000" spc="-1" strike="noStrike">
                <a:solidFill>
                  <a:srgbClr val="000000"/>
                </a:solidFill>
                <a:latin typeface="Calibri"/>
              </a:rPr>
              <a:t>Chúng ta hãy ví dụ một tình huống, khách hàng tâm sự với tư vấn viên rằng: "Tôi rất lo rằng tôi có thể quay trở lại dùng heroin mất. Lúc nào tôi cũng nghĩ đến chuyện quay lại với đám bạn cũ vẫn thường hay sử dụng ma túy với tôi trước đây. Tôi không thể ngăn nổi cảm giác thèm muốn dùng lại ma túy”. Ngay lập tức tư vấn viên ngắt lời anh ta và nói: “Anh làm sao thế? Anh không quan tâm đến những gì người khác mong muốn ở anh à?”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Hỏi </a:t>
            </a:r>
            <a:r>
              <a:rPr b="0" lang="en-US" sz="1000" spc="-1" strike="noStrike">
                <a:solidFill>
                  <a:srgbClr val="000000"/>
                </a:solidFill>
                <a:latin typeface="Calibri"/>
              </a:rPr>
              <a:t>học viên xem cách nói chuyện như vậy có thể mang đến những hậu quả gì.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au khi học viên thảo luận xong, hãy rút ra những thông điệp chính sau, đồng thời chiếu nội dung của bản chiếu 7: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457200">
              <a:lnSpc>
                <a:spcPct val="90000"/>
              </a:lnSpc>
              <a:spcBef>
                <a:spcPts val="37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Calibri"/>
              </a:rPr>
              <a:t>Luôn luôn ở vị thế trung lập, không đánh giá và cũng không được phản ứng đối với những vấn đề của khách hàng. Điều này giúp bạn kiểm soát được tình thế và luôn có một thái độ cởi mở. </a:t>
            </a:r>
            <a:endParaRPr b="0" lang="en-US" sz="1000" spc="-1" strike="noStrike">
              <a:solidFill>
                <a:srgbClr val="000000"/>
              </a:solidFill>
              <a:latin typeface="Calibri"/>
            </a:endParaRPr>
          </a:p>
          <a:p>
            <a:pPr lvl="1" marL="457200">
              <a:lnSpc>
                <a:spcPct val="90000"/>
              </a:lnSpc>
              <a:spcBef>
                <a:spcPts val="37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Calibri"/>
              </a:rPr>
              <a:t>Tư vấn viên chỉ có thể tư vấn tốt khi họ cũng học hỏi từ những kinh nghiệm của khách hàng. Sử dụng chính thông tin của khách hàng để dẫn dắt nội dung của buổi tư vấn.</a:t>
            </a:r>
            <a:endParaRPr b="0" lang="en-US" sz="1000" spc="-1" strike="noStrike">
              <a:solidFill>
                <a:srgbClr val="000000"/>
              </a:solidFill>
              <a:latin typeface="Calibri"/>
            </a:endParaRPr>
          </a:p>
          <a:p>
            <a:pPr lvl="1" marL="457200">
              <a:lnSpc>
                <a:spcPct val="90000"/>
              </a:lnSpc>
              <a:spcBef>
                <a:spcPts val="37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000" spc="-1" strike="noStrike">
                <a:solidFill>
                  <a:srgbClr val="000000"/>
                </a:solidFill>
                <a:latin typeface="Calibri"/>
              </a:rPr>
              <a:t>Hiểu rõ những chuẩn mực và quan điểm của khách hàng là rất quan trọng. Điều đó giúp bạn liên kết niềm tin của họ với những giải pháp khác nhau để họ có thể chọn lựa. </a:t>
            </a:r>
            <a:endParaRPr b="0" lang="en-US" sz="10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0DBBDF-211B-4451-8C4F-6EACF97C59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Không một nguyên tắc nào trong tư vấn được sử dụng riêng biệt. Nguyên tắc này bổ sung, hỗ trợ cho nguyên tắc kia. Chúng ta đã thảo luận về nhu cầu cung cấp dịch vụ có tính tự nguyện, bảo mật, không phán xét. Dịch vụ còn cần phải tuân thủ ba nguyên tắc nữa là tôn trọng và an toàn và kết nối với dịch vụ.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Tôn trọng nghĩa là bạn phải đối xử công bằng với tất cả các khách hàng bất kể tuổi tác, giới tính, hình thức, địa vị xã hội và khả năng tài chính của họ. Hãy tôn trọng họ theo cách mà bạn muốn người khác cũng tôn trọng chính bạ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Tôn trọng lẫn nhau sẽ mang lại hiệu quả trong giao tiếp và quan hệ tương tác giữa khách hàng và tư vấn viên. Khi hai bên tôn trọng lẫn nhau, khách hàng sẽ trở nên hợp tác, cởi mở và thoải mái hơn khi tâm sự về những “vấn đề thực sự” của họ với bạn, giúp bạn và khách hàng cùng xác định được giải pháp phù hợp.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F27CAD-2E3D-4E2B-BCF8-02C1AAF647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Khi chúng ta nói đến sự an toàn là nói đến an toàn cho những ai? Và cần phải làm gì để đảm bảo sự an toàn đó?”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Hướng dẫn học viên thảo luận về câu hỏi trên, đảm bảo ý kiến của học viên bao gồm những nội dung sau.</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ông tin tham khảo: </a:t>
            </a:r>
            <a:r>
              <a:rPr b="0" lang="en-US" sz="1200" spc="-1" strike="noStrike">
                <a:solidFill>
                  <a:srgbClr val="000000"/>
                </a:solidFill>
                <a:latin typeface="Calibri"/>
              </a:rPr>
              <a:t>Khi học viên trả lời, cần đảm bảo rằng các câu trả lời bao hàm các điểm trên bản chiếu, bao gồm an toàn ch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khách hàng và thông tin của họ</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tài sản của phòng tư vấn và</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môi trường xung quanh</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6C14BA-8792-4BAE-BF5A-2A151710C9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DC879-6493-4030-8305-BF0F0471D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FBD38-534E-4984-9489-DAF951D01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D6507-AC51-4CAE-81DE-EAD3D79D5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99A8C-DEA2-49D0-8811-55E6D74F4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C8EA0-9FE4-4CC9-B24E-C57DBB0E8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17B87-99C4-4EAF-BF2D-0F790E356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A139A-B1DF-4E06-B51C-E07922621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75DA3-A328-4074-8A7A-AB28E0332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DF983-C942-4AFF-95E7-6D5AEA725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CA82E-349E-4994-A0F2-A7A051469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080AA-8981-4794-8D1C-5F0DD2881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FBF06-77F6-4794-A270-7A9DB140D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C23281-C1C3-4488-9DFE-BAD0C447A23F}"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2B5791-5BD2-40A7-9512-6F8BA09F14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2.1-1.ai"/>
          <p:cNvPicPr/>
          <p:nvPr/>
        </p:nvPicPr>
        <p:blipFill>
          <a:blip r:embed="rId1"/>
          <a:stretch/>
        </p:blipFill>
        <p:spPr>
          <a:xfrm>
            <a:off x="311040" y="152280"/>
            <a:ext cx="8604360" cy="6480360"/>
          </a:xfrm>
          <a:prstGeom prst="rect">
            <a:avLst/>
          </a:prstGeom>
          <a:ln w="0">
            <a:noFill/>
          </a:ln>
        </p:spPr>
      </p:pic>
      <p:sp>
        <p:nvSpPr>
          <p:cNvPr id="4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6B8E14-3D27-44B2-BEDB-445354354153}"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2.1-1.ai"/>
          <p:cNvPicPr/>
          <p:nvPr/>
        </p:nvPicPr>
        <p:blipFill>
          <a:blip r:embed="rId1"/>
          <a:stretch/>
        </p:blipFill>
        <p:spPr>
          <a:xfrm>
            <a:off x="311040" y="152280"/>
            <a:ext cx="8604360" cy="6480360"/>
          </a:xfrm>
          <a:prstGeom prst="rect">
            <a:avLst/>
          </a:prstGeom>
          <a:ln w="0">
            <a:noFill/>
          </a:ln>
        </p:spPr>
      </p:pic>
      <p:sp>
        <p:nvSpPr>
          <p:cNvPr id="6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34A62A-8183-4EFF-838A-97E89161ACD4}"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2.1-1.ai"/>
          <p:cNvPicPr/>
          <p:nvPr/>
        </p:nvPicPr>
        <p:blipFill>
          <a:blip r:embed="rId1"/>
          <a:stretch/>
        </p:blipFill>
        <p:spPr>
          <a:xfrm>
            <a:off x="304920" y="152280"/>
            <a:ext cx="8604000" cy="6480360"/>
          </a:xfrm>
          <a:prstGeom prst="rect">
            <a:avLst/>
          </a:prstGeom>
          <a:ln w="0">
            <a:noFill/>
          </a:ln>
        </p:spPr>
      </p:pic>
      <p:sp>
        <p:nvSpPr>
          <p:cNvPr id="6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CEAB14-4E9B-4E20-8907-52621C92811D}"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2.1-1.ai"/>
          <p:cNvPicPr/>
          <p:nvPr/>
        </p:nvPicPr>
        <p:blipFill>
          <a:blip r:embed="rId1"/>
          <a:stretch/>
        </p:blipFill>
        <p:spPr>
          <a:xfrm>
            <a:off x="311040" y="152280"/>
            <a:ext cx="8604360" cy="6480360"/>
          </a:xfrm>
          <a:prstGeom prst="rect">
            <a:avLst/>
          </a:prstGeom>
          <a:ln w="0">
            <a:noFill/>
          </a:ln>
        </p:spPr>
      </p:pic>
      <p:sp>
        <p:nvSpPr>
          <p:cNvPr id="5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0818C4-8092-4AB5-823F-2A8CF24C43A7}"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2.1-1.ai"/>
          <p:cNvPicPr/>
          <p:nvPr/>
        </p:nvPicPr>
        <p:blipFill>
          <a:blip r:embed="rId1"/>
          <a:stretch/>
        </p:blipFill>
        <p:spPr>
          <a:xfrm>
            <a:off x="311040" y="152280"/>
            <a:ext cx="8604360" cy="6480360"/>
          </a:xfrm>
          <a:prstGeom prst="rect">
            <a:avLst/>
          </a:prstGeom>
          <a:ln w="0">
            <a:noFill/>
          </a:ln>
        </p:spPr>
      </p:pic>
      <p:sp>
        <p:nvSpPr>
          <p:cNvPr id="5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2DC197-63FA-47CA-BDF8-CB6634D8B4A3}"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2.1-1.ai"/>
          <p:cNvPicPr/>
          <p:nvPr/>
        </p:nvPicPr>
        <p:blipFill>
          <a:blip r:embed="rId1"/>
          <a:stretch/>
        </p:blipFill>
        <p:spPr>
          <a:xfrm>
            <a:off x="311040" y="152280"/>
            <a:ext cx="8604360" cy="6480360"/>
          </a:xfrm>
          <a:prstGeom prst="rect">
            <a:avLst/>
          </a:prstGeom>
          <a:ln w="0">
            <a:noFill/>
          </a:ln>
        </p:spPr>
      </p:pic>
      <p:sp>
        <p:nvSpPr>
          <p:cNvPr id="5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CA390D-E2D3-4500-BBCC-61360B8E32E8}"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2.1-1.ai"/>
          <p:cNvPicPr/>
          <p:nvPr/>
        </p:nvPicPr>
        <p:blipFill>
          <a:blip r:embed="rId1"/>
          <a:stretch/>
        </p:blipFill>
        <p:spPr>
          <a:xfrm>
            <a:off x="311040" y="152280"/>
            <a:ext cx="8604360" cy="6480360"/>
          </a:xfrm>
          <a:prstGeom prst="rect">
            <a:avLst/>
          </a:prstGeom>
          <a:ln w="0">
            <a:noFill/>
          </a:ln>
        </p:spPr>
      </p:pic>
      <p:sp>
        <p:nvSpPr>
          <p:cNvPr id="5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EC1C4D-0F64-4B19-B7BD-1793F46B5EDA}"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2.1-1.ai"/>
          <p:cNvPicPr/>
          <p:nvPr/>
        </p:nvPicPr>
        <p:blipFill>
          <a:blip r:embed="rId1"/>
          <a:stretch/>
        </p:blipFill>
        <p:spPr>
          <a:xfrm>
            <a:off x="311040" y="152280"/>
            <a:ext cx="8604360" cy="6480360"/>
          </a:xfrm>
          <a:prstGeom prst="rect">
            <a:avLst/>
          </a:prstGeom>
          <a:ln w="0">
            <a:noFill/>
          </a:ln>
        </p:spPr>
      </p:pic>
      <p:sp>
        <p:nvSpPr>
          <p:cNvPr id="5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B04A7E-A812-4281-A81D-082AB121AF11}"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2.1-1.ai"/>
          <p:cNvPicPr/>
          <p:nvPr/>
        </p:nvPicPr>
        <p:blipFill>
          <a:blip r:embed="rId1"/>
          <a:stretch/>
        </p:blipFill>
        <p:spPr>
          <a:xfrm>
            <a:off x="311040" y="152280"/>
            <a:ext cx="8604360" cy="6480360"/>
          </a:xfrm>
          <a:prstGeom prst="rect">
            <a:avLst/>
          </a:prstGeom>
          <a:ln w="0">
            <a:noFill/>
          </a:ln>
        </p:spPr>
      </p:pic>
      <p:sp>
        <p:nvSpPr>
          <p:cNvPr id="6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CF46EB-2FF5-46F5-A796-4FE21E5EF9F4}"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2.1-1.ai"/>
          <p:cNvPicPr/>
          <p:nvPr/>
        </p:nvPicPr>
        <p:blipFill>
          <a:blip r:embed="rId1"/>
          <a:stretch/>
        </p:blipFill>
        <p:spPr>
          <a:xfrm>
            <a:off x="311040" y="152280"/>
            <a:ext cx="8604360" cy="6480360"/>
          </a:xfrm>
          <a:prstGeom prst="rect">
            <a:avLst/>
          </a:prstGeom>
          <a:ln w="0">
            <a:noFill/>
          </a:ln>
        </p:spPr>
      </p:pic>
      <p:sp>
        <p:nvSpPr>
          <p:cNvPr id="6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96ADE0-126F-4DF3-9570-9812118D9FFA}"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2.1-1.ai"/>
          <p:cNvPicPr/>
          <p:nvPr/>
        </p:nvPicPr>
        <p:blipFill>
          <a:blip r:embed="rId1"/>
          <a:stretch/>
        </p:blipFill>
        <p:spPr>
          <a:xfrm>
            <a:off x="311040" y="152280"/>
            <a:ext cx="8604360" cy="6480360"/>
          </a:xfrm>
          <a:prstGeom prst="rect">
            <a:avLst/>
          </a:prstGeom>
          <a:ln w="0">
            <a:noFill/>
          </a:ln>
        </p:spPr>
      </p:pic>
      <p:sp>
        <p:nvSpPr>
          <p:cNvPr id="6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3F2F15-CCAB-409E-A5B1-D655B2120EC4}"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04:31:11Z</dcterms:created>
  <dc:creator>Hoang Anh</dc:creator>
  <dc:description/>
  <dc:language>en-US</dc:language>
  <cp:lastModifiedBy>Nhu Trang</cp:lastModifiedBy>
  <dcterms:modified xsi:type="dcterms:W3CDTF">2017-06-16T01:23:41Z</dcterms:modified>
  <cp:revision>24</cp:revision>
  <dc:subject/>
  <dc:title>1</dc:title>
</cp:coreProperties>
</file>