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1D87-8248-400C-A254-0450E97BB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15E5-1204-4FFA-AD0E-5D456AE39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FEAF2-7783-4E3E-B179-DF89F8BE4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5B3AD-33B3-469E-AB17-6BD939564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EA8B9-C77F-42A3-A593-51AC0D5D5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A1815-5D6A-4A88-B90A-E89F9CA65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9EB4B-6370-4BDC-B5C7-1548A1661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B7621-597E-4164-A53E-551D68E93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FCFB7-455C-48BC-A6D2-E4052A5C8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E53DD-24B7-4A8D-B214-D559AD85B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3824A-7653-4604-9FE4-3F9B4F2FC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D239A-4FF3-4D6E-844B-3BB7D4AC5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46EDE-7B4E-4428-B53A-0D610CF18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A1247-B79D-4A00-B15D-3F46ED7A45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6A798-C502-4F28-97B7-81123EAB65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58760"/>
            <a:ext cx="7925040" cy="14698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ư vấn Đánh giá toàn diện tuân thủ điều trị duy trì bằng methadone (ĐTDTMT) và nhu cầu hỗ trợ tâm lý xã hội cho bệnh nhâ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đánh giá toàn diện</a:t>
            </a:r>
            <a:endParaRPr b="0" lang="en-US" sz="4000" spc="-1" strike="noStrike">
              <a:solidFill>
                <a:srgbClr val="000000"/>
              </a:solidFill>
              <a:latin typeface="Arial"/>
            </a:endParaRPr>
          </a:p>
        </p:txBody>
      </p:sp>
      <p:sp>
        <p:nvSpPr>
          <p:cNvPr id="6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4: Hỗ trợ từ phía gia đình và xã hội</a:t>
            </a:r>
            <a:endParaRPr b="0" lang="en-US" sz="32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m lại các hỗ trợ từ phía gia đình và xã hội mà khách hàng nhận được hoặc có thể có – ai là người đang hỗ trợ chính cho khách hàng và việc hỗ trợ đó có gì thay đổi hay khô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ổng kết xem khách hàng có nhận được hỗ trợ xã hội cần có hay không</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việc đánh giá toàn diện</a:t>
            </a:r>
            <a:endParaRPr b="0" lang="en-US" sz="4000" spc="-1" strike="noStrike">
              <a:solidFill>
                <a:srgbClr val="000000"/>
              </a:solidFill>
              <a:latin typeface="Arial"/>
            </a:endParaRPr>
          </a:p>
        </p:txBody>
      </p:sp>
      <p:sp>
        <p:nvSpPr>
          <p:cNvPr id="67" name="PlaceHolder 2"/>
          <p:cNvSpPr>
            <a:spLocks noGrp="1"/>
          </p:cNvSpPr>
          <p:nvPr>
            <p:ph/>
          </p:nvPr>
        </p:nvSpPr>
        <p:spPr>
          <a:xfrm>
            <a:off x="533520" y="1523880"/>
            <a:ext cx="8229600" cy="45259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5: Các thông tin hỗ trợ khác</a:t>
            </a:r>
            <a:endParaRPr b="0" lang="en-US" sz="32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ơi ăn ở – có thay đổi không, có ổn định hoặc có chấp nhận được đối với khách hàng khô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ương tiện đi lại  – hàng ngày khách hàng đến uống thuốc bằng phương tiện gì, có khó khăn gì hay khô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 tội phạm – hiện tại khách hàng có hành vi phạm tội gì không, có gặp rắc rối gì với phía công an hay không</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việc đánh giá toàn diện</a:t>
            </a:r>
            <a:endParaRPr b="0" lang="en-US" sz="4000" spc="-1" strike="noStrike">
              <a:solidFill>
                <a:srgbClr val="000000"/>
              </a:solidFill>
              <a:latin typeface="Arial"/>
            </a:endParaRPr>
          </a:p>
        </p:txBody>
      </p:sp>
      <p:sp>
        <p:nvSpPr>
          <p:cNvPr id="69" name="PlaceHolder 2"/>
          <p:cNvSpPr>
            <a:spLocks noGrp="1"/>
          </p:cNvSpPr>
          <p:nvPr>
            <p:ph/>
          </p:nvPr>
        </p:nvSpPr>
        <p:spPr>
          <a:xfrm>
            <a:off x="304560" y="1447920"/>
            <a:ext cx="88390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ần 6: Tình trạng sức khỏe tâm thần</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ỏi (quan sát) xem khách hàng có biểu hiện các triệu chứng trầm cảm, lo lắng, hồi hộp, vv gì khô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ử dụng thang điểm Kessler về bệnh trầm cảm để đánh giá tình trạng bệnh nhân (Kessler Distress sco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xem liệu bệnh nhân có cần bác sĩ chuyên khoa đánh giá và chẩn đoán tình trạng sức khỏe tâm thần hay khô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m bệnh đa khoa/toàn phần hàng quí cho bệnh nhâ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Đánh giá, tổng kết và xác định tiến bộ của khách hàng</a:t>
            </a:r>
            <a:endParaRPr b="0" lang="en-US" sz="4000" spc="-1" strike="noStrike">
              <a:solidFill>
                <a:srgbClr val="000000"/>
              </a:solidFill>
              <a:latin typeface="Arial"/>
            </a:endParaRPr>
          </a:p>
        </p:txBody>
      </p:sp>
      <p:sp>
        <p:nvSpPr>
          <p:cNvPr id="71" name="PlaceHolder 2"/>
          <p:cNvSpPr>
            <a:spLocks noGrp="1"/>
          </p:cNvSpPr>
          <p:nvPr>
            <p:ph/>
          </p:nvPr>
        </p:nvSpPr>
        <p:spPr>
          <a:xfrm>
            <a:off x="304920" y="1447920"/>
            <a:ext cx="8534160" cy="4830480"/>
          </a:xfrm>
          <a:prstGeom prst="rect">
            <a:avLst/>
          </a:prstGeom>
          <a:noFill/>
          <a:ln w="0">
            <a:noFill/>
          </a:ln>
        </p:spPr>
        <p:txBody>
          <a:bodyPr anchor="t">
            <a:normAutofit fontScale="91000"/>
          </a:bodyPr>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Xem xét lại các trở ngại và giải pháp khắc phục việc tuân thủ điều trị của bệnh nhân. </a:t>
            </a:r>
            <a:endParaRPr b="0" lang="en-US" sz="2400" spc="-1" strike="noStrike">
              <a:solidFill>
                <a:srgbClr val="000000"/>
              </a:solidFill>
              <a:latin typeface="Arial"/>
            </a:endParaRPr>
          </a:p>
          <a:p>
            <a:pPr lvl="1" marL="901440" indent="-4852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ửa đổi bảng danh sách trở ngại và đánh giá lại các giải pháp khắc phục một số các trở ngại đó</a:t>
            </a:r>
            <a:endParaRPr b="0" lang="en-US" sz="2000" spc="-1" strike="noStrike">
              <a:solidFill>
                <a:srgbClr val="000000"/>
              </a:solidFill>
              <a:latin typeface="Arial"/>
            </a:endParaRPr>
          </a:p>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hảo luận các vấn đề quan trọng được xác định trong quá trình đánh giá tiến bộ. </a:t>
            </a:r>
            <a:endParaRPr b="0" lang="en-US" sz="2400" spc="-1" strike="noStrike">
              <a:solidFill>
                <a:srgbClr val="000000"/>
              </a:solidFill>
              <a:latin typeface="Arial"/>
            </a:endParaRPr>
          </a:p>
          <a:p>
            <a:pPr lvl="1" marL="901440" indent="-4852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ỉnh sửa danh sách các giải pháp nếu cần thiets và đánh giá lại tác động của các giải pháp đó đối với việc tuân thủ điều trị của bệnh nhân và liệu có tiếp tục được ưu tiên không.</a:t>
            </a:r>
            <a:endParaRPr b="0" lang="en-US" sz="2000" spc="-1" strike="noStrike">
              <a:solidFill>
                <a:srgbClr val="000000"/>
              </a:solidFill>
              <a:latin typeface="Arial"/>
            </a:endParaRPr>
          </a:p>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ổng kết tiến bộ của khách hàng cho đến thời điểm đánh giá. </a:t>
            </a:r>
            <a:endParaRPr b="0" lang="en-US" sz="2400" spc="-1" strike="noStrike">
              <a:solidFill>
                <a:srgbClr val="000000"/>
              </a:solidFill>
              <a:latin typeface="Arial"/>
            </a:endParaRPr>
          </a:p>
          <a:p>
            <a:pPr lvl="1" marL="901440" indent="-4852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ông kết khách khác đã có những tiến bộ như thế nào liên quan đến việc ổn định liều, chất lượng sống, tuân thủ điều trị, vv. Đánh giá tiến bộ so với mục đích điều trị mà khách hàng để ra</a:t>
            </a:r>
            <a:endParaRPr b="0" lang="en-US" sz="2000" spc="-1" strike="noStrike">
              <a:solidFill>
                <a:srgbClr val="000000"/>
              </a:solidFill>
              <a:latin typeface="Arial"/>
            </a:endParaRPr>
          </a:p>
          <a:p>
            <a:pPr marL="554400" indent="-554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Các vấn đề ưu tiên cần được giải quyết. </a:t>
            </a:r>
            <a:endParaRPr b="0" lang="en-US" sz="2400" spc="-1" strike="noStrike">
              <a:solidFill>
                <a:srgbClr val="000000"/>
              </a:solidFill>
              <a:latin typeface="Arial"/>
            </a:endParaRPr>
          </a:p>
          <a:p>
            <a:pPr lvl="1" marL="901440" indent="-4852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ổng kết các vấn đề ưu tiên – về lâm sàng, tâm lý xã hội liên quan đến tuân thủ điều trị. Liệt kê các giải pháp khắc phục, bao gồm việc khách hàng cần được hỗ trợ g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ực hàn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hận xét/phản hồi về phần thực hành</a:t>
            </a:r>
            <a:endParaRPr b="0" lang="en-US" sz="4000" spc="-1" strike="noStrike">
              <a:solidFill>
                <a:srgbClr val="000000"/>
              </a:solidFill>
              <a:latin typeface="Arial"/>
            </a:endParaRPr>
          </a:p>
        </p:txBody>
      </p:sp>
      <p:sp>
        <p:nvSpPr>
          <p:cNvPr id="74" name="PlaceHolder 2"/>
          <p:cNvSpPr>
            <a:spLocks noGrp="1"/>
          </p:cNvSpPr>
          <p:nvPr>
            <p:ph/>
          </p:nvPr>
        </p:nvSpPr>
        <p:spPr>
          <a:xfrm>
            <a:off x="456840" y="1600200"/>
            <a:ext cx="85345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Bạn cảm thấy thế nào khi thực hiện phần tư vấn đánh giá toàn diện tuân thủ điều trị và các nhu cầu hỗ trợ tâm lý xã hội cho bệnh nhân như thế nà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Bạn thấy nội dung nào dễ thực hiện nhất trong buổi tư vấn đ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ạn thấy nội dung nào khó thực hiện nhấ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Bạn có thể làm gì khác đi cho lần thực hành sa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Phần nội dung nào bạn thấy cần thực hành nhiều hơ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Bạn có câu hỏi gì khô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ự khác nhau giữa đánh giá toàn diện với tư vấn đánh giá tuân thủ ĐTDTMT</a:t>
            </a:r>
            <a:endParaRPr b="0" lang="en-US" sz="3400" spc="-1" strike="noStrike">
              <a:solidFill>
                <a:srgbClr val="000000"/>
              </a:solidFill>
              <a:latin typeface="Arial"/>
            </a:endParaRPr>
          </a:p>
        </p:txBody>
      </p:sp>
      <p:sp>
        <p:nvSpPr>
          <p:cNvPr id="50" name="PlaceHolder 2"/>
          <p:cNvSpPr>
            <a:spLocks noGrp="1"/>
          </p:cNvSpPr>
          <p:nvPr>
            <p:ph/>
          </p:nvPr>
        </p:nvSpPr>
        <p:spPr>
          <a:xfrm>
            <a:off x="457200" y="17226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hằm vào đánh giá nhu cầu tổng thể của khách hàng một cách chi tiết và xác định những nhu cầu đó có ảnh hưởng như thế nào đến sự tuân thủ điều trị methadone cũng như chất lượng cuộc sống của khách hàng</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Khi thực hiện đánh giá tổng thể, tư vấn viên cập nhật được tình trạng và nhu cầu hỗ trợ tâm lý của khách hàng đồng thời tìm ra tác động của chúng đối với sự tiến bộ của khách hàng trong quá trình tham gia ĐTDTMT, bao gồm việc uống thuốc, thay đổi cách sống và khả năng đạt được mục đích điều tr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304920" y="1752480"/>
            <a:ext cx="8610480" cy="45259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ư vấn viên tại phòng khám và điều tri methadone cũng đóng vai trò giới thiệu chuyển gửi các dịch vụ hỗ trợ mà bệnh nhân điều trị Methadone cần tới</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ông qua đánh giá toàn diện để đảm bảo bệnh nhân nhận được dịch vụ chăm sóc toàn diên</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Việc đánh giá toàn diện đòi hỏi sự hợp tác của bệnh nhân, nhân viên của chương trình, mạng lưới hỗ trợ bệnh nhân, và các nhà cung cấp dịch vụ khác nhằm tối đa hóa kết quả điều trị bằng methadone.</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VV làm việc cùng với bệnh nhân, (người hỗ trợ điều trị của bệnh nhân và gia đình họ) trong việc giúp đỡ bệnh nhân dần đạt được mục đích điều trị như nhằm “kiêng nhịn ma túy, giữ được công ăn việc làm, tránh xa hành vi vi tội phạm và duy trì/cải thiện mối quan hệ với gia đình</a:t>
            </a:r>
            <a:endParaRPr b="0" lang="en-US" sz="2000" spc="-1" strike="noStrike">
              <a:solidFill>
                <a:srgbClr val="000000"/>
              </a:solidFill>
              <a:latin typeface="Arial"/>
            </a:endParaRPr>
          </a:p>
        </p:txBody>
      </p:sp>
      <p:sp>
        <p:nvSpPr>
          <p:cNvPr id="52" name="PlaceHolder 2"/>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ự khác nhau giữa tư vấn đánh giá toàn diện với tư vấn đánh giá tuân thủ ĐTDTM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04920"/>
            <a:ext cx="7772400" cy="50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Mục tiêu của việc đánh giá toàn diện nhu cầu tâm lý và sự tuân thủ điều trị</a:t>
            </a:r>
            <a:endParaRPr b="0" lang="en-US" sz="3200" spc="-1" strike="noStrike">
              <a:solidFill>
                <a:srgbClr val="000000"/>
              </a:solidFill>
              <a:latin typeface="Arial"/>
            </a:endParaRPr>
          </a:p>
        </p:txBody>
      </p:sp>
      <p:sp>
        <p:nvSpPr>
          <p:cNvPr id="54" name="PlaceHolder 2"/>
          <p:cNvSpPr>
            <a:spLocks noGrp="1"/>
          </p:cNvSpPr>
          <p:nvPr>
            <p:ph/>
          </p:nvPr>
        </p:nvSpPr>
        <p:spPr>
          <a:xfrm>
            <a:off x="304560" y="1295280"/>
            <a:ext cx="8762760" cy="4648320"/>
          </a:xfrm>
          <a:prstGeom prst="rect">
            <a:avLst/>
          </a:prstGeom>
          <a:noFill/>
          <a:ln w="0">
            <a:noFill/>
          </a:ln>
        </p:spPr>
        <p:txBody>
          <a:bodyPr anchor="t">
            <a:normAutofit fontScale="89000"/>
          </a:bodyPr>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Đánh giá và theo dõi quá trình ĐTDTMT của bệnh nhân</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ạo động cơ và khích lệ bệnh nhân duy trì điều trị, bao gồm cả việc hỗ trợ bệnh nhân trong giai đoạn khó khăn hơn khi bệnh nhân đã ổn định điều trị bằng methadone</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em xét các tác dụng phụ và triệu chứng cai thuốc để xác định thời điểm thích hợp chuyển bệnh nhân đến bác sĩ điều trị điều chỉnh (tăng/giảm) liều methadone</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Xác định các trở ngại của bệnh nhân trong việc thực hiện lịch hẹn với phòng khám để được uống thuốc hàng ngày</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ảo luận lại các biện pháp giải quyết trở ngại của khách hàng trong việc tuân thủ điều trị, bao gồm cả việc thực hiện các lịch hẹn</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ực hiện đánh giá toàn diện về nhu cầu hỗ trợ tâm lý cũng như thu xếp các dịch vụ khách hàng cần chuyển gửi</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o dõi tiến độ của bệnh nhân trong việc đạt được mục đích điều trị</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ông tin, tạo động cơ và hỗ trợ khách hàng thay đổi hành vi để “sống tích cực”</a:t>
            </a:r>
            <a:endParaRPr b="0" lang="en-US" sz="2000" spc="-1" strike="noStrike">
              <a:solidFill>
                <a:srgbClr val="000000"/>
              </a:solidFill>
              <a:latin typeface="Arial"/>
            </a:endParaRPr>
          </a:p>
          <a:p>
            <a:pPr marL="305280" indent="-305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riển khai, tạo động cơ và theo dõi tác động của các can thiệp thay đổi hành vi đối với khách hàng nhằm phòng tránh tái nghiệ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ịch hẹn tư vấn đánh giá</a:t>
            </a:r>
            <a:endParaRPr b="0" lang="en-US" sz="4400" spc="-1" strike="noStrike">
              <a:solidFill>
                <a:srgbClr val="000000"/>
              </a:solidFill>
              <a:latin typeface="Arial"/>
            </a:endParaRPr>
          </a:p>
        </p:txBody>
      </p:sp>
      <p:sp>
        <p:nvSpPr>
          <p:cNvPr id="56" name="PlaceHolder 2"/>
          <p:cNvSpPr>
            <a:spLocks noGrp="1"/>
          </p:cNvSpPr>
          <p:nvPr>
            <p:ph/>
          </p:nvPr>
        </p:nvSpPr>
        <p:spPr>
          <a:xfrm>
            <a:off x="380520" y="1371240"/>
            <a:ext cx="8458200" cy="4419720"/>
          </a:xfrm>
          <a:prstGeom prst="rect">
            <a:avLst/>
          </a:prstGeom>
          <a:noFill/>
          <a:ln w="0">
            <a:noFill/>
          </a:ln>
        </p:spPr>
        <p:txBody>
          <a:bodyPr anchor="t">
            <a:normAutofit fontScale="91000"/>
          </a:bodyPr>
          <a:p>
            <a:pPr marL="312120" indent="-31212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iệc đánh giá toàn diện về nhu cầu hỗ trợ tâm lý và tư vấn tuân thủ ĐTDTMT được thực hiện sau hai tuần trong tháng đầu tiên bệnh nhân tham gia chương trình ĐTDTMT</a:t>
            </a:r>
            <a:endParaRPr b="0" lang="en-US" sz="2400" spc="-1" strike="noStrike">
              <a:solidFill>
                <a:srgbClr val="000000"/>
              </a:solidFill>
              <a:latin typeface="Arial"/>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u tháng đầu tiên, đánh giá toàn diện về nhu cầu hỗ trợ tâm lý và tư vấn tuân thủ ĐTDTMT được thực hiện hàng tháng</a:t>
            </a:r>
            <a:endParaRPr b="0" lang="en-US" sz="2400" spc="-1" strike="noStrike">
              <a:solidFill>
                <a:srgbClr val="000000"/>
              </a:solidFill>
              <a:latin typeface="Arial"/>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Được thực hiện vào bất cứ thời điểm nào tư vấn viên, bác sĩ hoặc nhân viên chăm sóc y tế cũng như giáo dục viên đồng đẳng cảm thấy cần thiết</a:t>
            </a:r>
            <a:endParaRPr b="0" lang="en-US" sz="2400" spc="-1" strike="noStrike">
              <a:solidFill>
                <a:srgbClr val="000000"/>
              </a:solidFill>
              <a:latin typeface="Arial"/>
            </a:endParaRPr>
          </a:p>
          <a:p>
            <a:pPr marL="3121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Được thực hiện thường xuyên hơn nếu như bệnh nhân gặp khó khăn trong việc ổn định điều trị hoặc bắt đầu (hoặc liên tục) bỏ uống tuốc hoặc lịch hẹn đến phòng khám và điều trị methad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hổ biến và đánh giá kết quả của buổi tư vấn đánh giá toàn diện về tuân thủ ĐTDTMT và nhu hỗ trợ tâm lý xã hội của bệnh nhân</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đánh giá toàn diện</a:t>
            </a:r>
            <a:endParaRPr b="0" lang="en-US" sz="4000" spc="-1" strike="noStrike">
              <a:solidFill>
                <a:srgbClr val="000000"/>
              </a:solidFill>
              <a:latin typeface="Arial"/>
            </a:endParaRPr>
          </a:p>
        </p:txBody>
      </p:sp>
      <p:sp>
        <p:nvSpPr>
          <p:cNvPr id="59" name="PlaceHolder 2"/>
          <p:cNvSpPr>
            <a:spLocks noGrp="1"/>
          </p:cNvSpPr>
          <p:nvPr>
            <p:ph/>
          </p:nvPr>
        </p:nvSpPr>
        <p:spPr>
          <a:xfrm>
            <a:off x="457200" y="1447920"/>
            <a:ext cx="8229600" cy="4525920"/>
          </a:xfrm>
          <a:prstGeom prst="rect">
            <a:avLst/>
          </a:prstGeom>
          <a:noFill/>
          <a:ln w="0">
            <a:noFill/>
          </a:ln>
        </p:spPr>
        <p:txBody>
          <a:bodyPr anchor="t">
            <a:normAutofit fontScale="86000"/>
          </a:bodyPr>
          <a:p>
            <a:pPr marL="294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ần 1</a:t>
            </a:r>
            <a:r>
              <a:rPr b="0" lang="en-US" sz="2800" spc="-1" strike="noStrike">
                <a:solidFill>
                  <a:srgbClr val="000000"/>
                </a:solidFill>
                <a:latin typeface="Arial"/>
              </a:rPr>
              <a:t>: </a:t>
            </a:r>
            <a:r>
              <a:rPr b="1" lang="en-US" sz="2800" spc="-1" strike="noStrike">
                <a:solidFill>
                  <a:srgbClr val="000000"/>
                </a:solidFill>
                <a:latin typeface="Arial"/>
              </a:rPr>
              <a:t>Tuân thủ điều trị/Tác dụng phụ/Tương tác thuốc</a:t>
            </a:r>
            <a:endParaRPr b="0" lang="en-US" sz="2800" spc="-1" strike="noStrike">
              <a:solidFill>
                <a:srgbClr val="000000"/>
              </a:solidFill>
              <a:latin typeface="Arial"/>
            </a:endParaRPr>
          </a:p>
          <a:p>
            <a:pPr marL="294840" indent="-294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ạn cảm nhận thế nào về việc điều trị methadone của bạn?</a:t>
            </a:r>
            <a:endParaRPr b="0" lang="en-US" sz="2800" spc="-1" strike="noStrike">
              <a:solidFill>
                <a:srgbClr val="000000"/>
              </a:solidFill>
              <a:latin typeface="Arial"/>
            </a:endParaRPr>
          </a:p>
          <a:p>
            <a:pPr marL="294840" indent="-294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ạn bỏ uống thuốc bao nhiêu lần? (bao nhiêu lần liên tục và lần cuối cùng là vào khi nào?) </a:t>
            </a:r>
            <a:endParaRPr b="0" lang="en-US" sz="2800" spc="-1" strike="noStrike">
              <a:solidFill>
                <a:srgbClr val="000000"/>
              </a:solidFill>
              <a:latin typeface="Arial"/>
            </a:endParaRPr>
          </a:p>
          <a:p>
            <a:pPr marL="294840" indent="-294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ý do bạn bỏ uống thuốc?</a:t>
            </a:r>
            <a:endParaRPr b="0" lang="en-US" sz="2800" spc="-1" strike="noStrike">
              <a:solidFill>
                <a:srgbClr val="000000"/>
              </a:solidFill>
              <a:latin typeface="Arial"/>
            </a:endParaRPr>
          </a:p>
          <a:p>
            <a:pPr marL="294840" indent="-294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ảo luận toàn diện về các tác dụng phụ (bao gồm cả các gợi ý về cách xử trí)</a:t>
            </a:r>
            <a:endParaRPr b="0" lang="en-US" sz="2800" spc="-1" strike="noStrike">
              <a:solidFill>
                <a:srgbClr val="000000"/>
              </a:solidFill>
              <a:latin typeface="Arial"/>
            </a:endParaRPr>
          </a:p>
          <a:p>
            <a:pPr marL="294840" indent="-294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loại thuốc đang sử dụng – tương tác thuốc có thể c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việc đánh giá toàn diện</a:t>
            </a:r>
            <a:endParaRPr b="0" lang="en-US" sz="4000" spc="-1" strike="noStrike">
              <a:solidFill>
                <a:srgbClr val="000000"/>
              </a:solidFill>
              <a:latin typeface="Arial"/>
            </a:endParaRPr>
          </a:p>
        </p:txBody>
      </p:sp>
      <p:sp>
        <p:nvSpPr>
          <p:cNvPr id="6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ần 2: Ma túy, rượu và các hành vi nguy cơ liên quan</a:t>
            </a:r>
            <a:endParaRPr b="0" lang="en-US" sz="32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h vi sử dụng ma túy, rượu kể từ lần gặp trước</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 tiết về các loại ma túy sử dụng</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á liều</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ử dụng chung dụng cụ tiêm chích</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ạn bè, gia đình tiếp tục sử dụng heroi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 hệ tình dục không an toà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ử dụng rượ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ực hiện việc đánh giá toàn diện</a:t>
            </a:r>
            <a:endParaRPr b="0" lang="en-US" sz="4000" spc="-1" strike="noStrike">
              <a:solidFill>
                <a:srgbClr val="000000"/>
              </a:solidFill>
              <a:latin typeface="Arial"/>
            </a:endParaRPr>
          </a:p>
        </p:txBody>
      </p:sp>
      <p:sp>
        <p:nvSpPr>
          <p:cNvPr id="63" name="PlaceHolder 2"/>
          <p:cNvSpPr>
            <a:spLocks noGrp="1"/>
          </p:cNvSpPr>
          <p:nvPr>
            <p:ph/>
          </p:nvPr>
        </p:nvSpPr>
        <p:spPr>
          <a:xfrm>
            <a:off x="380520" y="1371600"/>
            <a:ext cx="86108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ần 3: Công ăn việc làm, tài chính và các nhu cầu cơ bả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tình trạng việc làm, công việc hiện nay, loại công việ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ng thu nhập hàng thá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ánh giá nhu cầu cơ bản – khách hàng có đủ điều kiện đáp ứng các nhu cầu sống cơ bản khô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0T03:08:06Z</dcterms:created>
  <dc:creator>rachel</dc:creator>
  <dc:description/>
  <dc:language>en-US</dc:language>
  <cp:lastModifiedBy>Admin</cp:lastModifiedBy>
  <dcterms:modified xsi:type="dcterms:W3CDTF">2013-08-12T10:24:48Z</dcterms:modified>
  <cp:revision>34</cp:revision>
  <dc:subject/>
  <dc:title>Overview of Individual Counseling Sessions</dc:title>
</cp:coreProperties>
</file>