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25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26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27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A996-B8B1-4B4D-8223-3B4A3DC70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D3F-6505-49E7-8B97-7927CAA8A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022400" y="722160"/>
            <a:ext cx="4815000" cy="36118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2880" y="4576680"/>
            <a:ext cx="504972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033D-E8EC-4387-AF24-AE1DD24A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B55F-826C-49BD-9AB0-0E7F91E1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E0A3-C828-42C3-AB11-85C1BB864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CCB-79D0-43CC-9EF4-DA3824DCC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 out names of local prepa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153-1A94-4195-8373-2DD6075F0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072A-D97D-4ACA-B31D-7B33E12C2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5447-789A-45D5-8D8E-ED42915DE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pioid depend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388296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/08/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0993-EC68-4C52-A8BB-DB418EC3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77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384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95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384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695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384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92419F-7BBA-45CB-9F38-F2EC82CE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74A245-565F-4940-AE30-5EC3C931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7519BA4-81E0-4C77-9821-A142046D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B00E7C-47BA-402F-9825-4C6B2575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CECFFF4-D23D-468E-996B-B86DACC6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D826CCA-4B7F-4B0A-8C1A-80609FF7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9B77B5D-B06C-451B-9A78-BDF37155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7946C4C-7A54-404D-BCB4-1C555C19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217ADB4-ADDE-4C33-930E-A64AEEDD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B80097E-D81C-403B-848B-A1C2DA4F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9442483-0A3E-4BE2-83AB-119FF5C9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6553080" y="6324480"/>
            <a:ext cx="19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B4AFE93-5588-4E1E-928B-76429E5C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6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97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3054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9880" y="2057400"/>
            <a:ext cx="8255160" cy="3471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800" spc="-1" strike="noStrike">
                <a:solidFill>
                  <a:srgbClr val="000099"/>
                </a:solidFill>
                <a:latin typeface="Arial"/>
              </a:rPr>
              <a:t>Tác dụng phụ và xử tr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ác tác dụng không mong muốn thường gặp tại Việt Nam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17" name="Object 4"/>
          <p:cNvGraphicFramePr/>
          <p:nvPr/>
        </p:nvGraphicFramePr>
        <p:xfrm>
          <a:off x="330120" y="1752480"/>
          <a:ext cx="858528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752480"/>
                    <a:ext cx="85852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Điểm cần ghi nhớ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ất cả mọi thuốc đều có tác dụng không mong muố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ột số tác dụng phổ biến, một số tác dụng không phổ biế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ần phát hiện các tác dụng này sớ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Xác định mức độ và bản chất của từng tác dụng, khác biệt so với giai đoạn sử dụng heroin thế nà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ư vấn tìm ra giải pháp xử trí đơn giản trước khi cần đến sự can thiệp của Bác s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ấn an bệnh nhân – mọi việc đều có thể giải quyế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ỷ lệ cần có can thiệp y tế rất nhỏ. Đa số có thể xử trí đơn giản hoặc cần giải quyết về tâm l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6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ục đích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át hiện các tác dụng không mong muố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ức độ nghiêm trọng với người bện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hân biệt xem tác dụng này có liên quan trực tiếp/gián tiếp/không liên quan tới điều trị Methad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ác biện pháp đơn giản xử trí/giảm thiểu các tác dụng nà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Tác dụng phụ và xử trí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5000"/>
          </a:bodyPr>
          <a:p>
            <a:pPr marL="304920" indent="-304920" algn="just">
              <a:spcBef>
                <a:spcPts val="5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ột số tác dụng phụ là mãn tính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ở 70% bệnh nhâ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áo bón, đổ mồ hôi, rối loạn giấc ngủ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ay đổi nội tiết (giảm khả năng tình dục, rối loạn kinh nguyệ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hô miệng và sâu răn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just">
              <a:spcBef>
                <a:spcPts val="524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 algn="just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500" spc="-1" strike="noStrike">
                <a:solidFill>
                  <a:srgbClr val="000000"/>
                </a:solidFill>
                <a:latin typeface="Arial"/>
              </a:rPr>
              <a:t>Bài tập nhóm nhỏ (10 phút): Chia học viên làm 3 nhóm, mỗi nhóm thảo luận 1 vấn đề trong 3 vấn đề nêu trê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iệt kê các câu hỏi để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17360" indent="-2037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Xác định tác dụng không mong muố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360" indent="-20376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Xác định bản chất và mức độ nghiêm trọng với người bện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Liệt kê các biện pháp đơn giản tại địa phương để xử tr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-254880" algn="just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100" spc="-1" strike="noStrike">
                <a:solidFill>
                  <a:srgbClr val="000000"/>
                </a:solidFill>
                <a:latin typeface="Arial"/>
              </a:rPr>
              <a:t>Biện pháp nào là phổ biến nhất và dễ được người bệnh chấp nhận nhấ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ác vấn đề về răng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Khô miệng/sâu răng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6000"/>
          </a:bodyPr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m ăn kẹo bánh, đường/đồ uống có 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ệ sinh răng miệng/đánh ră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ăm sóc răng (nha sĩ)/ hàn răng/ nhổ ră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ẹo cao su không đường (xylit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ực phẩm tốt cho sức khỏ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iện pháp nào khác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hiều khi vấn đề răng miệng có từ trước khi tham gia điều trị, nhưng người bệnh không để 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Táo bón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Đau bụ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ếng 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ô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ụt c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ợi 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Đồ ăn lỏng để giảm mất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ế độ ăn nhiều chất x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u và hoa qu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ác chất xơ metamucil ®, vỏ hạt mã đề (2 – 8 tsp B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tulose – actilax ® (30 – 60mls 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312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bi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ập thể dụ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-27864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ống nhiều nư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òn cách nào khá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ưu ý, táo bón khác gì so với trước khi được điều trị - gây khó chịu mức độ nà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ã mồ hôi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7000"/>
          </a:bodyPr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ã mồ hôi mức độ nà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 là vấn đề nghiêm trọ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ấn an người bệnh: quần áo thoáng, tắm thường xuyên, quạt, điều hòa nhiệt độ, nơi sinh hoạt và làm việc thoáng mát, khăn lau thường xuyê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6120" indent="-2761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ột số biện pháp khá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Điều chỉnh liề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ùng thuốc chống ra mồ hô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óc mô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ni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spcBef>
                <a:spcPts val="60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3076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òn biện pháp nào khá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Buồn ngủ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9000"/>
          </a:bodyPr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Có liên quan đến thuốc? - Có thể xảy ra 1 – 3 tiếng và tới 8 tiếng sau khi uống methad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ình trạng tồi tệ hơn nếu cơ thể mệt mỏi hoặc ngồi bất động/buồn chá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ia tăng sau khi ăn hoặc dùng đồ uống có cồ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Khuyê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ời điểm uống (chiều muộ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ia 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ận động, làm việc khác khi buồn ng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6880">
              <a:spcBef>
                <a:spcPts val="601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nên vận hành máy móc, lái xe khi thấy buồn ngủ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3320" indent="-283320">
              <a:spcBef>
                <a:spcPts val="601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Còn gì khác khô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AU" sz="4000" spc="-1" strike="noStrike">
                <a:solidFill>
                  <a:srgbClr val="000099"/>
                </a:solidFill>
                <a:latin typeface="Arial"/>
              </a:rPr>
              <a:t>Các tác dụng phụ ít gặp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Hội chứng chẹn rãnh cổ tay gây tê bì ngón t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Giữ nướ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Đau khớ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ị ứng do phóng thích histamin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Buồn nôn dai dẳ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649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AU" sz="2600" spc="-1" strike="noStrike">
                <a:solidFill>
                  <a:srgbClr val="ff0000"/>
                </a:solidFill>
                <a:latin typeface="Arial"/>
              </a:rPr>
              <a:t>Những cách thông thường và chuyên sâu nào có thể sử dụng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Rối loạn hóc-mô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0998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72000"/>
          </a:bodyPr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iảm ham muốn tình dụ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ội chứng mãn ki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ếu hụt testostero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ệt dươ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ảm lượng tinh trùng xuất 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172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ảm khoái cảm/ mệt mỏ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ăng câ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ất kin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hục hồi khả năng sinh sả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ần có các biện pháp tránh tha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>
              <a:spcBef>
                <a:spcPts val="624"/>
              </a:spcBef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Phân biệt giữa tâm lý và thực th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Giải pháp tâm lý – tình dục học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15640">
              <a:spcBef>
                <a:spcPts val="524"/>
              </a:spcBef>
              <a:buClr>
                <a:srgbClr val="009900"/>
              </a:buClr>
              <a:buSzPct val="60000"/>
              <a:buFont typeface="Monotype Sorts" charset="2"/>
              <a:buChar char="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Giải pháp điều trị: bổ sung Testosterone hoặc liệu pháp thay thế hóc mô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3T14:27:08Z</dcterms:created>
  <dc:creator>David Jacka</dc:creator>
  <dc:description/>
  <dc:language>en-US</dc:language>
  <cp:lastModifiedBy>Admin</cp:lastModifiedBy>
  <cp:lastPrinted>2006-07-12T14:28:40Z</cp:lastPrinted>
  <dcterms:modified xsi:type="dcterms:W3CDTF">2013-08-12T14:40:07Z</dcterms:modified>
  <cp:revision>93</cp:revision>
  <dc:subject/>
  <dc:title>Slide 1</dc:title>
</cp:coreProperties>
</file>