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53453-2B18-4A38-9892-F34DD611141D}"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CF0A1-3F6B-45D9-AB42-237FF9CA327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04840" y="696960"/>
            <a:ext cx="4648320" cy="3486240"/>
          </a:xfrm>
          <a:prstGeom prst="rect">
            <a:avLst/>
          </a:prstGeom>
          <a:ln w="0">
            <a:noFill/>
          </a:ln>
        </p:spPr>
      </p:sp>
      <p:sp>
        <p:nvSpPr>
          <p:cNvPr id="4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iảng viên: Chào mừng các học viên đến lớp học và mời học viên ngồi sao cho họ cảm thấy thoải mái.</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ảo đảm là bạn đã sắp xếp phòng học sẵn sàng. Tài liệu để sẵn trên bàn gồm:</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1. Biển tên</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2. Bút viết bảng và bút viết</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3. Tài liệu phát tay</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r>
              <a:rPr b="0" lang="en-US" sz="1000" spc="-1" strike="noStrike">
                <a:solidFill>
                  <a:srgbClr val="000000"/>
                </a:solidFill>
                <a:latin typeface="Calibri"/>
              </a:rPr>
              <a:t>4. Sổ ghi chép</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Bố trí lớp học sao cho thuận lợi cho việc trao đổi thảo luận giữa các học viên. Quyết định xem có nên bố trí dưới dạng lớp học như ở trường học, ghế xếp thành hình tròn hay hình chữ U để học viên có thể quan sát và trao đổi với nhau một cách thoải mái. Đồng thời cần bảo đảm học viên có thể nhìn rõ nội dung chiếu trên bản chiếu slide cho dù họ ngồi ở vị trí nào trong lớp học.</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uẩn bị sẵn sàng cho tất cả các việc hậu cần – nghĩa là kết nối máy chiếu LCD, màn hình và máy laptop ít nhất là 30 phút trước khi lớp học bắt đầu để đảm bảo máy móc hoạt động không có trục trặc gì.</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Luôn luôn mang đến đủ số lượng tài liệu phát tay cho học viên. Ngoài ra, nếu không may máy chiếu LCD và máy laptop hoạt động thì bạn vẫn có thể tiến hành giảng bài bằng cách sử dụng các tài liệu phát tay.</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ếu bài học này là một bài riêng rẽ thì bổ sung câu nói dưới đây trong phần mở đầu.</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uối cùng, thực hiện phần các quy định của lớp học: đây là phần các giảng viên và học viên cùng thảo luận với nhau tại lớp. Nội quy chính thức của lớp học là do giảng viên quyết định. Một số nội quy có thể như sau:</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ôn trọng ý kiến nhận xét của các học viên khác</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i cũng có quyền nói lên quan điểm của mình</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ếu có câu hỏi học viên có thể hỏi bất cứ lúc nào trong quá trình giả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ắt chuông điện thoại di động</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hỉ kiểm tra email và tin nhắn trong giờ nghỉ giải lao</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ếu bài học này là phần tiếp tục của các bài học khác trong khóa học thì </a:t>
            </a:r>
            <a:r>
              <a:rPr b="0" lang="en-US" sz="1000" spc="-1" strike="noStrike">
                <a:solidFill>
                  <a:srgbClr val="000000"/>
                </a:solidFill>
                <a:latin typeface="Calibri"/>
              </a:rPr>
              <a:t>NÓI,</a:t>
            </a:r>
            <a:endParaRPr b="0" lang="en-US" sz="10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Nói:</a:t>
            </a:r>
            <a:r>
              <a:rPr b="1" i="1" lang="en-US" sz="1000" spc="-1" strike="noStrike">
                <a:solidFill>
                  <a:srgbClr val="000000"/>
                </a:solidFill>
                <a:latin typeface="Calibri"/>
              </a:rPr>
              <a:t> </a:t>
            </a:r>
            <a:r>
              <a:rPr b="0" i="1" lang="en-US" sz="1000" spc="-1" strike="noStrike">
                <a:solidFill>
                  <a:srgbClr val="000000"/>
                </a:solidFill>
                <a:latin typeface="Calibri"/>
              </a:rPr>
              <a:t>Trong bài này chúng ta sẽ dành thời gian để tìm hiểu về khái niệm tư vấn nói chung và sau đó sẽ thảo luận chi tiết hơn về những nguyên tắc và khái niệm cơ bản của tư vấn điều trị nghiện ma túy. Hãy nhớ rằng tư vấn điều trị nghiện ma túy mới là nội dung chính cần được chú trọng trong khóa tập huấn này.</a:t>
            </a:r>
            <a:endParaRPr b="0" lang="en-US" sz="1000" spc="-1" strike="noStrike">
              <a:solidFill>
                <a:srgbClr val="000000"/>
              </a:solidFill>
              <a:latin typeface="Calibri"/>
            </a:endParaRPr>
          </a:p>
        </p:txBody>
      </p:sp>
      <p:sp>
        <p:nvSpPr>
          <p:cNvPr id="4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D5784-71AD-4813-B524-1C55C6AC5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04840" y="696960"/>
            <a:ext cx="4648320" cy="3486240"/>
          </a:xfrm>
          <a:prstGeom prst="rect">
            <a:avLst/>
          </a:prstGeom>
          <a:ln w="0">
            <a:noFill/>
          </a:ln>
        </p:spPr>
      </p:sp>
      <p:sp>
        <p:nvSpPr>
          <p:cNvPr id="4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ỉ chiếu tiêu đề của bản chiếu 9. Lần lượt chiếu các nội dung của bản chiếu 9 và 10 sau khi đã hướng dẫn học viên thảo luận nhóm nhỏ và nhóm lớn về sự khác nhau giữa Giáo dục viên sức khỏe và Tư vấn viê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ảo luận nhóm nhỏ: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ia học viên thành 2 nhóm. Yêu cầu các nhóm thảo luận trong 5 phút về sự khác nhau giữa tư vấn và giáo dục sức khỏe. Đề nghị một nhóm trình bày kết quả thảo luận (trong 2 -3 phút). Sau đó yêu cầu nhóm thứ hai bổ sung những điểm còn thiếu. Chiếu bản chiếu và thảo luận tất cả những nội dung nào mà học viên chưa đề cập đến. Đảm bảo học viên hiểu rằng bảo mật là một nguyên tắc quan trọng mà tư vấn viên luôn phải tuân theo mọi lúc, mọi nơi. </a:t>
            </a:r>
            <a:endParaRPr b="0" lang="en-US" sz="1200" spc="-1" strike="noStrike">
              <a:solidFill>
                <a:srgbClr val="000000"/>
              </a:solidFill>
              <a:latin typeface="Calibri"/>
            </a:endParaRPr>
          </a:p>
        </p:txBody>
      </p:sp>
      <p:sp>
        <p:nvSpPr>
          <p:cNvPr id="4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C5B82-60FB-4711-A1CB-B259267E27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  </a:t>
            </a:r>
            <a:r>
              <a:rPr b="0" i="1" lang="en-US" sz="1200" spc="-1" strike="noStrike">
                <a:solidFill>
                  <a:srgbClr val="000000"/>
                </a:solidFill>
                <a:latin typeface="Calibri"/>
              </a:rPr>
              <a:t>Một người có thể vừa làm nhiệm vụ tư vấn, vừa là giáo dục viên sức khỏe (GDVSK). Tuy nhiên, điều quan trọng nhất là cần biết là mình đang thực hiện nhiệm vụ nào. Những tư vấn viên trước đây từng là GDVSK thường hay bị lẫn lộn giữa hai công việc này. Nên đặt ra một số quy định với khách hàng trước khi bạn bắt đầu buổi tư vấn. Trong một buổi tư vấn bạn vẫn có thể vừa tư vấn, vừa cung cấp thông tin về giáo dục sức khỏe cho khách hà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húng ta hãy xem xét ví dụ sau để thấy sự khác nhau giữa tư vấn và giáo dục sức khỏe. Trong một buổi nói về an toàn tình dục, giáo dục sức khỏe là hướng dẫn sử dụng bao cao su đúng cách, còn khi bạn thảo luận về lo ngại của khách hàng rằng dương vật khó cương cứng khi đeo bao cao su thì đó lại thuộc về phạm trù tư vấ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ỉ thảo luận về những điểm mà học viên chưa đề cập cụ thể.</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77913-EA0B-4DA1-979A-D179C3505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04840" y="696960"/>
            <a:ext cx="4648320" cy="3486240"/>
          </a:xfrm>
          <a:prstGeom prst="rect">
            <a:avLst/>
          </a:prstGeom>
          <a:ln w="0">
            <a:noFill/>
          </a:ln>
        </p:spPr>
      </p:sp>
      <p:sp>
        <p:nvSpPr>
          <p:cNvPr id="44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Hướng dẫn giảng dạy: Chỉ chiếu tiêu đề của bản chiếu. Lần lượt chiếu từng nội dung trong lúc thảo luận.</a:t>
            </a:r>
            <a:r>
              <a:rPr b="1"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Nói:</a:t>
            </a:r>
            <a:r>
              <a:rPr b="1" i="1" lang="en-US" sz="900" spc="-1" strike="noStrike">
                <a:solidFill>
                  <a:srgbClr val="000000"/>
                </a:solidFill>
                <a:latin typeface="Calibri"/>
              </a:rPr>
              <a:t> </a:t>
            </a:r>
            <a:r>
              <a:rPr b="0" i="1" lang="en-US" sz="900" spc="-1" strike="noStrike">
                <a:solidFill>
                  <a:srgbClr val="000000"/>
                </a:solidFill>
                <a:latin typeface="Calibri"/>
              </a:rPr>
              <a:t>Có những điều bạn cần tránh khi tư vấn điều trị nghiện ma tú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Lên mặt đạo đức. </a:t>
            </a:r>
            <a:r>
              <a:rPr b="0" i="1" lang="en-US" sz="900" spc="-1" strike="noStrike">
                <a:solidFill>
                  <a:srgbClr val="000000"/>
                </a:solidFill>
                <a:latin typeface="Calibri"/>
              </a:rPr>
              <a:t>Hãy nhớ rằng mục đích công việc của bạn là giúp khách hàng giải quyết các vấn đề của họ chứ không phải thuyết giảng về đạo đức. Không bao giờ được lên mặt dạy đời về cuộc sống và hành vi của họ.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Ra lệnh. </a:t>
            </a:r>
            <a:r>
              <a:rPr b="0" i="1" lang="en-US" sz="900" spc="-1" strike="noStrike">
                <a:solidFill>
                  <a:srgbClr val="000000"/>
                </a:solidFill>
                <a:latin typeface="Calibri"/>
              </a:rPr>
              <a:t>Bạn là tư vấn viên chứ không phải là cấp trên hoặc ông chủ của họ. Bạn không có quyền ra lệnh cho họ làm điều này điều kia</a:t>
            </a:r>
            <a:r>
              <a:rPr b="1" i="1" lang="en-US" sz="900" spc="-1" strike="noStrike">
                <a:solidFill>
                  <a:srgbClr val="000000"/>
                </a:solidFill>
                <a:latin typeface="Calibri"/>
              </a:rPr>
              <a:t>.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Đe dọa. </a:t>
            </a:r>
            <a:r>
              <a:rPr b="0" i="1" lang="en-US" sz="900" spc="-1" strike="noStrike">
                <a:solidFill>
                  <a:srgbClr val="000000"/>
                </a:solidFill>
                <a:latin typeface="Calibri"/>
              </a:rPr>
              <a:t>Tránh tỏ thái độ hoặc có những lời nói khiến khách hàng cảm thấy họ đang bị đe dọa. Bạn cần đảm bảo một môi trường hỗ trợ để khách hàng cảm thấy yên tâm khi chia sẻ những vấn đề của mình.</a:t>
            </a:r>
            <a:r>
              <a:rPr b="1" i="1" lang="en-US" sz="900" spc="-1" strike="noStrike">
                <a:solidFill>
                  <a:srgbClr val="000000"/>
                </a:solidFill>
                <a:latin typeface="Calibri"/>
              </a:rPr>
              <a:t>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Tranh cãi. </a:t>
            </a:r>
            <a:r>
              <a:rPr b="0" i="1" lang="en-US" sz="900" spc="-1" strike="noStrike">
                <a:solidFill>
                  <a:srgbClr val="000000"/>
                </a:solidFill>
                <a:latin typeface="Calibri"/>
              </a:rPr>
              <a:t>Khách hàng có thể không nghe những lời khuyên của bạn và họ có thể có lời lẽ xúc phạm tới bạn. Hãy bình tĩnh và giúp họ hiểu rằng họ có quyền được tự quyết định và bạn tôn trọng những quyết định đó. </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Phản đối. </a:t>
            </a:r>
            <a:r>
              <a:rPr b="0" i="1" lang="en-US" sz="900" spc="-1" strike="noStrike">
                <a:solidFill>
                  <a:srgbClr val="000000"/>
                </a:solidFill>
                <a:latin typeface="Calibri"/>
              </a:rPr>
              <a:t>Nhiệm vụ của bạn không phải là đánh giá đúng hay sai. Những nhận định kiểu đó có thể dẫn tới bất đồng với khách hàng và ảnh hưởng xấu đến quá trình tư vấn.</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Suy diễn thái quá. </a:t>
            </a:r>
            <a:r>
              <a:rPr b="0" i="1" lang="en-US" sz="900" spc="-1" strike="noStrike">
                <a:solidFill>
                  <a:srgbClr val="000000"/>
                </a:solidFill>
                <a:latin typeface="Calibri"/>
              </a:rPr>
              <a:t>Nhiệm vụ của tư vấn viên là hiểu khách hàng của mình và kết nối suy nghĩ và mục đích của họ tới một kế hoạch thống nhất. Tuy nhiên, bạn không nên suy diễn thái quá về những điều họ nói với bạn. Suy diễn thái quá có thể dẫn đến những hiểu lầm hoặc thiếu tập trung vào những yếu tố ảnh hưởng quan trọng đến thay đổi hành vi.</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Đồng cảm. </a:t>
            </a:r>
            <a:r>
              <a:rPr b="0" i="1" lang="en-US" sz="900" spc="-1" strike="noStrike">
                <a:solidFill>
                  <a:srgbClr val="000000"/>
                </a:solidFill>
                <a:latin typeface="Calibri"/>
              </a:rPr>
              <a:t>Chúng ta sẽ thảo luận về khái niệm đồng cảm và thấu cảm sau. Một tư vấn viên chuyên nghiệp luôn biết cách tránh đồng cảm với khách hàng. Không bao giờ được đứng hẳn về phía khách hàng hoặc để cho mình quá xúc động khi đang tiến hành một buổi tư vấn.</a:t>
            </a:r>
            <a:endParaRPr b="0" lang="en-US" sz="900" spc="-1" strike="noStrike">
              <a:solidFill>
                <a:srgbClr val="000000"/>
              </a:solidFill>
              <a:latin typeface="Calibri"/>
            </a:endParaRPr>
          </a:p>
          <a:p>
            <a:pPr lvl="1" marL="457200">
              <a:lnSpc>
                <a:spcPct val="80000"/>
              </a:lnSpc>
              <a:spcBef>
                <a:spcPts val="33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900" spc="-1" strike="noStrike">
                <a:solidFill>
                  <a:srgbClr val="000000"/>
                </a:solidFill>
                <a:latin typeface="Calibri"/>
              </a:rPr>
              <a:t>Phán xét. </a:t>
            </a:r>
            <a:r>
              <a:rPr b="0" i="1" lang="en-US" sz="900" spc="-1" strike="noStrike">
                <a:solidFill>
                  <a:srgbClr val="000000"/>
                </a:solidFill>
                <a:latin typeface="Calibri"/>
              </a:rPr>
              <a:t>Nhiệm vụ của bạn là giúp khách hàng xác định xem điều gì khiến họ có nguy cơ. Phán xét khách hàng sẽ làm họ mất lòng tin và phủ nhận những vấn đề gặp phải. Bạn nên lắng nghe và không được phán xét, chỉ trích hoặc khiển trách khách hàng, và cố gắng tìm hiểu rõ hơn quan điểm của họ. </a:t>
            </a:r>
            <a:endParaRPr b="0" lang="en-US" sz="900" spc="-1" strike="noStrike">
              <a:solidFill>
                <a:srgbClr val="000000"/>
              </a:solidFill>
              <a:latin typeface="Calibri"/>
            </a:endParaRPr>
          </a:p>
        </p:txBody>
      </p:sp>
      <p:sp>
        <p:nvSpPr>
          <p:cNvPr id="44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60BE3-7B01-4320-9A22-F67E9A19AD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Nhắc lại những thông điệp chính của bài.</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Thông tin tham khảo: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ư vấn giúp cho mỗi cá nhân khách hàng tự chịu trách nhiệm với cuộc đời họ bằng cách: </a:t>
            </a:r>
            <a:endParaRPr b="0" lang="en-US" sz="1100" spc="-1" strike="noStrike">
              <a:solidFill>
                <a:srgbClr val="000000"/>
              </a:solidFill>
              <a:latin typeface="Calibri"/>
            </a:endParaRPr>
          </a:p>
          <a:p>
            <a:pPr lvl="2" marL="914400" indent="0">
              <a:lnSpc>
                <a:spcPct val="80000"/>
              </a:lnSpc>
              <a:spcBef>
                <a:spcPts val="41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rPr>
              <a:t>-    Giúp họ phát triển khả năng đưa ra những quyết định sáng suốt và thực tế </a:t>
            </a:r>
            <a:endParaRPr b="0" lang="en-US" sz="1100" spc="-1" strike="noStrike">
              <a:solidFill>
                <a:srgbClr val="000000"/>
              </a:solidFill>
              <a:latin typeface="Calibri"/>
            </a:endParaRPr>
          </a:p>
          <a:p>
            <a:pPr lvl="2" marL="914400" indent="0">
              <a:lnSpc>
                <a:spcPct val="80000"/>
              </a:lnSpc>
              <a:spcBef>
                <a:spcPts val="41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rPr>
              <a:t>-    Thay đổi hành vi của họ để đạt được những kết quả mong muốn </a:t>
            </a:r>
            <a:endParaRPr b="0" lang="en-US" sz="1100" spc="-1" strike="noStrike">
              <a:solidFill>
                <a:srgbClr val="000000"/>
              </a:solidFill>
              <a:latin typeface="Calibri"/>
            </a:endParaRPr>
          </a:p>
          <a:p>
            <a:pPr lvl="2" marL="914400" indent="0">
              <a:lnSpc>
                <a:spcPct val="80000"/>
              </a:lnSpc>
              <a:spcBef>
                <a:spcPts val="41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100" spc="-1" strike="noStrike">
                <a:solidFill>
                  <a:srgbClr val="000000"/>
                </a:solidFill>
                <a:latin typeface="Calibri"/>
              </a:rPr>
              <a:t>-    Cung cấp thông tin hữu ích để ra quyết định.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ư vấn có thể thực hiện cho từng cá nhân, cặp vợ chồng hoặc cả gia đình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ư vấn viên cần có óc sáng tạo và có trí tưởng tượng tốt, có phương pháp thực tế, có khả năng thể thiện sự tôn trọng khách hàng, chú trọng vào hành động, và không áp đặt ý kiến chủ quan lên khách hàng.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Tư vấn khác với giáo dục sức khỏ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Hướng dẫn giảng dạy: </a:t>
            </a:r>
            <a:r>
              <a:rPr b="0" lang="en-US" sz="1100" spc="-1" strike="noStrike">
                <a:solidFill>
                  <a:srgbClr val="000000"/>
                </a:solidFill>
                <a:latin typeface="Calibri"/>
              </a:rPr>
              <a:t>Cảm ơn học viên vì đã chú ý lắng nghe và tham gia nhiệt tình trong những phần thảo luận. Hỏi xem họ có còn câu hỏi nào nữa không. Nếu có thì hãy trả lời những câu hỏi liên quan tới nội dung bài giảng. Nếu câu hỏi liên quan tới những bài học khác, hãy trả lời rằng những nội dung đó sẽ được đề cập tới trong những phần sau, và đề nghị họ ghi lại các câu hỏi đó cho các bài học tiếp theo. </a:t>
            </a: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44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CAF9A-A3C9-4D5A-88EC-D56F5DCE2F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04840" y="696960"/>
            <a:ext cx="4648320" cy="3486240"/>
          </a:xfrm>
          <a:prstGeom prst="rect">
            <a:avLst/>
          </a:prstGeom>
          <a:ln w="0">
            <a:noFill/>
          </a:ln>
        </p:spPr>
      </p:sp>
      <p:sp>
        <p:nvSpPr>
          <p:cNvPr id="41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ói:</a:t>
            </a:r>
            <a:r>
              <a:rPr b="1" i="1" lang="en-US" sz="1200" spc="-1" strike="noStrike">
                <a:solidFill>
                  <a:srgbClr val="000000"/>
                </a:solidFill>
                <a:latin typeface="Calibri"/>
              </a:rPr>
              <a:t> </a:t>
            </a:r>
            <a:r>
              <a:rPr b="0" i="1" lang="en-US" sz="1200" spc="-1" strike="noStrike">
                <a:solidFill>
                  <a:srgbClr val="000000"/>
                </a:solidFill>
                <a:latin typeface="Calibri"/>
              </a:rPr>
              <a:t>Tôi hi vọng rằng kết thúc bài học này, các bạn sẽ có khả nă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Nêu được định nghĩa về tư vấ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Hiểu được bối cảnh của tư vấn</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Hiểu được những quan niệm sai lầm hiện nay về SDMT và người SDMT</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Phân biệt được tư vấn với giáo dục sức khỏe </a:t>
            </a:r>
            <a:endParaRPr b="0" lang="en-US" sz="1200" spc="-1" strike="noStrike">
              <a:solidFill>
                <a:srgbClr val="000000"/>
              </a:solidFill>
              <a:latin typeface="Calibri"/>
            </a:endParaRPr>
          </a:p>
          <a:p>
            <a:pPr lvl="1" marL="45720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200" spc="-1" strike="noStrike">
                <a:solidFill>
                  <a:srgbClr val="000000"/>
                </a:solidFill>
                <a:latin typeface="Calibri"/>
              </a:rPr>
              <a:t>Nêu được những phẩm chất của một tư vấn viên giỏi.</a:t>
            </a:r>
            <a:endParaRPr b="0" lang="en-US" sz="1200" spc="-1" strike="noStrike">
              <a:solidFill>
                <a:srgbClr val="000000"/>
              </a:solidFill>
              <a:latin typeface="Calibri"/>
            </a:endParaRPr>
          </a:p>
        </p:txBody>
      </p:sp>
      <p:sp>
        <p:nvSpPr>
          <p:cNvPr id="4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8EC7A-FF5A-4330-8D7D-779D91B78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04840" y="696960"/>
            <a:ext cx="4648320" cy="3486240"/>
          </a:xfrm>
          <a:prstGeom prst="rect">
            <a:avLst/>
          </a:prstGeom>
          <a:ln w="0">
            <a:noFill/>
          </a:ln>
        </p:spPr>
      </p:sp>
      <p:sp>
        <p:nvSpPr>
          <p:cNvPr id="4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r>
              <a:rPr b="1" lang="en-US" sz="1100" spc="-1" strike="noStrike">
                <a:solidFill>
                  <a:srgbClr val="000000"/>
                </a:solidFill>
                <a:latin typeface="Calibri"/>
              </a:rPr>
              <a:t>Nói: </a:t>
            </a:r>
            <a:r>
              <a:rPr b="0" i="1" lang="en-US" sz="1100" spc="-1" strike="noStrike">
                <a:solidFill>
                  <a:srgbClr val="000000"/>
                </a:solidFill>
                <a:latin typeface="Calibri"/>
              </a:rPr>
              <a:t>Như vậy tư vấn là gì? Tư vấn là một hoạt động có mục đích để đưa ra những hướng dẫn về mặt chuyên môn cho khách hàng. Tư vấn sử dụng nhiều phương pháp và kĩ thuật tâm lí khác nhau để hướng dẫn khách hàng theo một phương hướng tích cực.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Có một số khái niệm mà tôi muốn trao đổi kĩ hơn với các bạ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Khái niệm đầu tiên là </a:t>
            </a:r>
            <a:r>
              <a:rPr b="1" i="1" lang="en-US" sz="1100" spc="-1" strike="noStrike">
                <a:solidFill>
                  <a:srgbClr val="000000"/>
                </a:solidFill>
                <a:latin typeface="Calibri"/>
              </a:rPr>
              <a:t>“can thiệp”</a:t>
            </a:r>
            <a:r>
              <a:rPr b="0" i="1" lang="en-US" sz="1100" spc="-1" strike="noStrike">
                <a:solidFill>
                  <a:srgbClr val="000000"/>
                </a:solidFill>
                <a:latin typeface="Calibri"/>
              </a:rPr>
              <a:t>. Tư vấn là một dạng can thiệp. Khi bạn hướng dẫn hoặc giúp khách hàng đưa ra quyết định, bạn đã can thiệp để giúp họ đạt được kết quả mong đợ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ây giờ chúng ta sẽ nói về cụm từ “tìm hiểu vấn đề trong sự </a:t>
            </a:r>
            <a:r>
              <a:rPr b="1" i="1" lang="en-US" sz="1100" spc="-1" strike="noStrike">
                <a:solidFill>
                  <a:srgbClr val="000000"/>
                </a:solidFill>
                <a:latin typeface="Calibri"/>
              </a:rPr>
              <a:t>bảo mật”. </a:t>
            </a:r>
            <a:r>
              <a:rPr b="0" i="1" lang="en-US" sz="1100" spc="-1" strike="noStrike">
                <a:solidFill>
                  <a:srgbClr val="000000"/>
                </a:solidFill>
                <a:latin typeface="Calibri"/>
              </a:rPr>
              <a:t>Mặc dù nhiều người đến gặp tư vấn viên là để thảo luận về khó khăn của họ nhưng họ vẫn muốn đảm bảo rằng buổi gặp gỡ đó cũng như mọi thông tin khác đều được giữ bí mật. Hãy nhớ rằng công việc tư vấn thường phải giải quyết những vấn đề nhạy cảm và việc không giữ bí mật có thể gây ra những vấn đề nghiêm trọng.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Khái niệm cuối cùng là “nâng cao </a:t>
            </a:r>
            <a:r>
              <a:rPr b="1" i="1" lang="en-US" sz="1100" spc="-1" strike="noStrike">
                <a:solidFill>
                  <a:srgbClr val="000000"/>
                </a:solidFill>
                <a:latin typeface="Calibri"/>
              </a:rPr>
              <a:t>năng lực </a:t>
            </a:r>
            <a:r>
              <a:rPr b="0" i="1" lang="en-US" sz="1100" spc="-1" strike="noStrike">
                <a:solidFill>
                  <a:srgbClr val="000000"/>
                </a:solidFill>
                <a:latin typeface="Calibri"/>
              </a:rPr>
              <a:t>của khách hàng để họ tự giải quyết khó khăn của bản thân”. Tư vấn hiệu quả là phải lấy khách hàng làm trung tâm và đáp ứng nhu cầu của mỗi cá nhân. Tư vấn viên và khách hàng nên cùng nhau thảo luận về mục đích và mục tiêu của buổi tư vấn. Sau cùng, khách hàng cần cảm thấy đủ tự tin để tự giải quyết những vấn đề của họ. Tư vấn viên có trách nhiệm giúp khách hàng hiểu được các phương pháp điều trị hiện có, từ đó lựa chọn phương pháp phù hợp nhất để thực hiện.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 </a:t>
            </a:r>
            <a:endParaRPr b="0" lang="en-US" sz="1100" spc="-1" strike="noStrike">
              <a:solidFill>
                <a:srgbClr val="000000"/>
              </a:solidFill>
              <a:latin typeface="Calibri"/>
            </a:endParaRPr>
          </a:p>
        </p:txBody>
      </p:sp>
      <p:sp>
        <p:nvSpPr>
          <p:cNvPr id="42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E986C-729B-4834-BDBF-B3AE951E8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04840" y="696960"/>
            <a:ext cx="4648320" cy="3486240"/>
          </a:xfrm>
          <a:prstGeom prst="rect">
            <a:avLst/>
          </a:prstGeom>
          <a:ln w="0">
            <a:noFill/>
          </a:ln>
        </p:spPr>
      </p:sp>
      <p:sp>
        <p:nvSpPr>
          <p:cNvPr id="42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Như vậy, tư vấn nghĩa là quan tâm đến những nhu cầu, khó khăn và hoàn cảnh cụ thể của từng khách hàng. Tư vấn là một quá trình tương tác, hợp tác và tôn trọng lẫn nhau giữa tư vấn viên và khách hàng, nhằm giúp khách hàng xây dựng khả năng tự quyết định và tự chịu trách nhiệm. Quá trình tư vấn cần tập trung vào những mục đích cụ thể, thông qua việc đặt câu hỏi, thu thập thông tin, xem xét các lựa chọn khác nhau, và lập kế hoạch thực hiện. Khi tư vấn cần lưu tâm đến hoàn cảnh văn hóa - xã hội của từng cá nhân, và mức độ sẵn sàng thay đổi của mỗi ngườ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Có thể tư vấn cho từng cá nhân, tư vấn cho cặp vợ chồng, tư vấn nhóm hoặc tư vấn cho cả gia đình. </a:t>
            </a:r>
            <a:endParaRPr b="0" lang="en-US" sz="1200" spc="-1" strike="noStrike">
              <a:solidFill>
                <a:srgbClr val="000000"/>
              </a:solidFill>
              <a:latin typeface="Calibri"/>
            </a:endParaRPr>
          </a:p>
        </p:txBody>
      </p:sp>
      <p:sp>
        <p:nvSpPr>
          <p:cNvPr id="42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6DF077-1540-441C-8255-1EB6E3694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04840" y="696960"/>
            <a:ext cx="4648320" cy="3486240"/>
          </a:xfrm>
          <a:prstGeom prst="rect">
            <a:avLst/>
          </a:prstGeom>
          <a:ln w="0">
            <a:noFill/>
          </a:ln>
        </p:spPr>
      </p:sp>
      <p:sp>
        <p:nvSpPr>
          <p:cNvPr id="42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Hướng dẫn giảng dạy: </a:t>
            </a:r>
            <a:r>
              <a:rPr b="0" lang="en-US" sz="500" spc="-1" strike="noStrike">
                <a:solidFill>
                  <a:srgbClr val="000000"/>
                </a:solidFill>
                <a:latin typeface="Calibri"/>
              </a:rPr>
              <a:t>Chỉ chiếu tiêu đề của bản chiếu, các nội dung sẽ lần lượt được giới thiệu theo hướng dẫn dưới đây.</a:t>
            </a: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Nói: </a:t>
            </a:r>
            <a:r>
              <a:rPr b="0" i="1" lang="en-US" sz="500" spc="-1" strike="noStrike">
                <a:solidFill>
                  <a:srgbClr val="000000"/>
                </a:solidFill>
                <a:latin typeface="Calibri"/>
              </a:rPr>
              <a:t>Trước tiên, chúng ta cần hiểu được bối cảnh diễn ra buổi tư vấ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Hướng dẫn giảng dạy</a:t>
            </a:r>
            <a:r>
              <a:rPr b="0" lang="en-US" sz="500" spc="-1" strike="noStrike">
                <a:solidFill>
                  <a:srgbClr val="000000"/>
                </a:solidFill>
                <a:latin typeface="Calibri"/>
              </a:rPr>
              <a:t>:</a:t>
            </a:r>
            <a:r>
              <a:rPr b="0" i="1" lang="en-US" sz="500" spc="-1" strike="noStrike">
                <a:solidFill>
                  <a:srgbClr val="000000"/>
                </a:solidFill>
                <a:latin typeface="Calibri"/>
              </a:rPr>
              <a:t> Hướng dẫn học viên thảo luận về bối cảnh cuộc tư vấn bằng cách đặt các câu hỏi, ví dụ:</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Ai là những người tìm đến với dịch vụ tư vấn?</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Những người mới trở về từ trung tâm 06 cảm thấy như thế nào?</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Thái độ của cộng đồng đối với họ như thế nào?</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có những mối quan tâm gì khi đến với dịch vụ tư vấn? </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mong đợi sự giúp đỡ gì từ bạ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hiếu các nội dung của bản chiếu 3 trong lúc tóm tắt lại những câu trả lời của học viên. Dành thời gian tìm hiểu xem học viên nghĩ gì về lí do mà người SDMT tìm đến dịch vụ tư vấn.</a:t>
            </a: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Nói: </a:t>
            </a:r>
            <a:r>
              <a:rPr b="0" i="1" lang="en-US" sz="500" spc="-1" strike="noStrike">
                <a:solidFill>
                  <a:srgbClr val="000000"/>
                </a:solidFill>
                <a:latin typeface="Calibri"/>
              </a:rPr>
              <a:t>Theo các bạn thì tại sao một người SDMT lại tìm đến với tư vấn viê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âu trả lời có thể là:</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Do bố mẹ hoặc cán bộ tổ dân phố, công an bắt phải đến</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đến để được điều trị bằng methadone chứ không phải để được tư vấn, nhưng tư vấn là một hợp phần của trị liệu nên họ phải tham gia</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biết là tư vấn viên có thể giúp đỡ họ</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đến để chiều lòng ai đó (vợ/chồng, người yêu, người thân trong gia đình)</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muốn từ bỏ ma túy hoặc giảm dần liều dùng</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Hướng dẫn giảng dạy: </a:t>
            </a:r>
            <a:r>
              <a:rPr b="0" lang="en-US" sz="500" spc="-1" strike="noStrike">
                <a:solidFill>
                  <a:srgbClr val="000000"/>
                </a:solidFill>
                <a:latin typeface="Calibri"/>
              </a:rPr>
              <a:t>Dành thời gian tìm hiểu xem tại sao người SDMT không tìm đến dịch vụ tư vấn.</a:t>
            </a: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Nói</a:t>
            </a:r>
            <a:r>
              <a:rPr b="0" lang="en-US" sz="500" spc="-1" strike="noStrike">
                <a:solidFill>
                  <a:srgbClr val="000000"/>
                </a:solidFill>
                <a:latin typeface="Calibri"/>
              </a:rPr>
              <a:t>: </a:t>
            </a:r>
            <a:r>
              <a:rPr b="0" i="1" lang="en-US" sz="500" spc="-1" strike="noStrike">
                <a:solidFill>
                  <a:srgbClr val="000000"/>
                </a:solidFill>
                <a:latin typeface="Calibri"/>
              </a:rPr>
              <a:t>Vậy theo các bạn, tại sao người SDMT lại không tìm đến với dịch vụ tư vấ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âu trả lời có thể là:</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Nhiều người SDMT cho rằng chỉ có họ mới hiểu về những vấn đề của bản thân, nên không ai khác có thể giúp gì được</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Không chịu chấp nhận rằng họ đang có rắc rối liên quan đến việc SDMT</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Quá tự đại nên không muốn nói về những vấn đề riêng tư, những lỗi lầm hoặc điểm yếu của mình</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Sợ lộ bí mật về việc sử dụng ma túy của mình</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Họ đã thất bại nhiều lần nên nghĩ rằng không cần phải cố gắng nữa</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Có ấn tượng xấu về tư vấn viên trước đây vì nhân viên đó có thành kiến với họ, ra lệnh cho họ</a:t>
            </a:r>
            <a:endParaRPr b="0" lang="en-US" sz="500" spc="-1" strike="noStrike">
              <a:solidFill>
                <a:srgbClr val="000000"/>
              </a:solidFill>
              <a:latin typeface="Calibri"/>
            </a:endParaRPr>
          </a:p>
          <a:p>
            <a:pPr lvl="1" marL="457200">
              <a:lnSpc>
                <a:spcPct val="80000"/>
              </a:lnSpc>
              <a:spcBef>
                <a:spcPts val="187"/>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500" spc="-1" strike="noStrike">
                <a:solidFill>
                  <a:srgbClr val="000000"/>
                </a:solidFill>
                <a:latin typeface="Calibri"/>
              </a:rPr>
              <a:t>Cho rằng tư vấn viên chưa bao giờ sử dụng ma túy nên không hiểu biết gì về những người SDMT và việc SDM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 </a:t>
            </a:r>
            <a:r>
              <a:rPr b="1" lang="en-US" sz="500" spc="-1" strike="noStrike">
                <a:solidFill>
                  <a:srgbClr val="000000"/>
                </a:solidFill>
                <a:latin typeface="Calibri"/>
              </a:rPr>
              <a:t>Nói: </a:t>
            </a:r>
            <a:r>
              <a:rPr b="0" i="1" lang="en-US" sz="500" spc="-1" strike="noStrike">
                <a:solidFill>
                  <a:srgbClr val="000000"/>
                </a:solidFill>
                <a:latin typeface="Calibri"/>
              </a:rPr>
              <a:t>Chúng ta đã thấy, trong cuộc sống hàng ngày, người SDMT thường bị kì thị, phân biệt đối xử và không được cộng đồng chấp nhận. Họ thường bị coi là tội phạm, là đồ bỏ đi, và là mục tiêu để xã hội trút lên sự giận dữ và sợ hãi.</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500" spc="-1" strike="noStrike">
                <a:solidFill>
                  <a:srgbClr val="000000"/>
                </a:solidFill>
                <a:latin typeface="Calibri"/>
              </a:rPr>
              <a:t> </a:t>
            </a:r>
            <a:endParaRPr b="0" lang="en-US" sz="500" spc="-1" strike="noStrike">
              <a:solidFill>
                <a:srgbClr val="000000"/>
              </a:solidFill>
              <a:latin typeface="Calibri"/>
            </a:endParaRPr>
          </a:p>
        </p:txBody>
      </p:sp>
      <p:sp>
        <p:nvSpPr>
          <p:cNvPr id="4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306F3-F747-44B0-8D01-AB51E86D1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04840" y="696960"/>
            <a:ext cx="4648320" cy="3486240"/>
          </a:xfrm>
          <a:prstGeom prst="rect">
            <a:avLst/>
          </a:prstGeom>
          <a:ln w="0">
            <a:noFill/>
          </a:ln>
        </p:spPr>
      </p:sp>
      <p:sp>
        <p:nvSpPr>
          <p:cNvPr id="4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Chỉ chiếu tiêu đề của bản chiếu, các nội dung sẽ lần lượt được giới thiệu sau phần thảo luận dưới đâ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Là một tư vấn viên, bạn cần phải hiểu được những mối lo ngại của người SDM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ướng dẫn giảng dạy: </a:t>
            </a:r>
            <a:r>
              <a:rPr b="0" lang="en-US" sz="1200" spc="-1" strike="noStrike">
                <a:solidFill>
                  <a:srgbClr val="000000"/>
                </a:solidFill>
                <a:latin typeface="Calibri"/>
              </a:rPr>
              <a:t>Hướng dẫn học viên thảo luận về những điều mà người SDMT thường lo ngại. Chiếu nội dung bản chiếu sau khi học viên đã thảo luận và đóng góp ý kiế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Vì thế, khi khách hàng đã tìm đến với các bạn để được tư vấn, các bạn hãy giúp họ hiểu rằng tư vấn sẽ giúp họ giảm nhẹ nỗi lo âu. Bạn sẽ được học nhiều kĩ thuật và kĩ năng trong khóa tập huấn này để giúp khách hàng yên tâm hơ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3432C-EC70-4BA8-9E04-818CB10374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04840" y="696960"/>
            <a:ext cx="4648320" cy="3486240"/>
          </a:xfrm>
          <a:prstGeom prst="rect">
            <a:avLst/>
          </a:prstGeom>
          <a:ln w="0">
            <a:noFill/>
          </a:ln>
        </p:spPr>
      </p:sp>
      <p:sp>
        <p:nvSpPr>
          <p:cNvPr id="4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Chỉ chiếu tiêu đề của bản chiếu, các nội dung sẽ lần lượt được giới thiệu sau phần thảo luận dưới đây.</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a:t>
            </a:r>
            <a:r>
              <a:rPr b="1" i="1" lang="en-US" sz="700" spc="-1" strike="noStrike">
                <a:solidFill>
                  <a:srgbClr val="000000"/>
                </a:solidFill>
                <a:latin typeface="Calibri"/>
              </a:rPr>
              <a:t> </a:t>
            </a:r>
            <a:r>
              <a:rPr b="0" i="1" lang="en-US" sz="700" spc="-1" strike="noStrike">
                <a:solidFill>
                  <a:srgbClr val="000000"/>
                </a:solidFill>
                <a:latin typeface="Calibri"/>
              </a:rPr>
              <a:t>Trong những năm gần đây đã có khá nhiều chương trình giáo dục cộng đồng nhằm nâng cao nhận thức và hiểu biết về vấn đề SDMT, người SDMT và sức khỏe cộng đồng. Tuy nhiên, những quan niệm sai lầm về người SDMT vẫn còn tồn tạ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Thảo luận nhóm nhỏ</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hia học viên thành 2 nhóm. Các nhóm có 5 phút để thảo luận những quan niệm sai lầm về việc SDMT và người SDMT mà họ đã từng nghe. Sau khi các nhóm thảo luận xong, đề nghị một nhóm lên trình bày kết quả, sau đó yêu cầu nhóm thứ 2 bổ sung những điểm còn thiếu.</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 </a:t>
            </a:r>
            <a:r>
              <a:rPr b="0" i="1" lang="en-US" sz="700" spc="-1" strike="noStrike">
                <a:solidFill>
                  <a:srgbClr val="000000"/>
                </a:solidFill>
                <a:latin typeface="Calibri"/>
              </a:rPr>
              <a:t>Theo các bạn, tại sao tôi lại yêu cầu các bạn thảo luận về những quan niệm sai lầm đó?</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Thông tin tham khảo: </a:t>
            </a:r>
            <a:r>
              <a:rPr b="0" lang="en-US" sz="700" spc="-1" strike="noStrike">
                <a:solidFill>
                  <a:srgbClr val="000000"/>
                </a:solidFill>
                <a:latin typeface="Calibri"/>
              </a:rPr>
              <a:t>Học viên cần nhận biết được rằng hiện đang có rất nhiều những quan điểm sai lầm phổ biến trong cộng đồng.  Bài tập nhóm này nhằm cho thấy, mặc dù các nhóm khác nhau thực hiện thảo luận riêng rẽ nhưng những quan niệm sai lầm mà họ được biết vẫn giống nhau.</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Chiếu các nội dung của bản chiếu 5</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Nói:</a:t>
            </a:r>
            <a:r>
              <a:rPr b="1" i="1" lang="en-US" sz="700" spc="-1" strike="noStrike">
                <a:solidFill>
                  <a:srgbClr val="000000"/>
                </a:solidFill>
                <a:latin typeface="Calibri"/>
              </a:rPr>
              <a:t> </a:t>
            </a:r>
            <a:r>
              <a:rPr b="0" i="1" lang="en-US" sz="700" spc="-1" strike="noStrike">
                <a:solidFill>
                  <a:srgbClr val="000000"/>
                </a:solidFill>
                <a:latin typeface="Calibri"/>
              </a:rPr>
              <a:t>Trong những quan niệm này, theo các bạn đâu là hiểu lầm và đâu là sự thậ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Hướng dẫn giảng dạy: </a:t>
            </a:r>
            <a:r>
              <a:rPr b="0" lang="en-US" sz="700" spc="-1" strike="noStrike">
                <a:solidFill>
                  <a:srgbClr val="000000"/>
                </a:solidFill>
                <a:latin typeface="Calibri"/>
              </a:rPr>
              <a:t>Nếu thời gian cho phép, có thể giải thích thêm về những quan niệm không hoàn toàn là sai lầm (VD: “người sử dụng ma túy là tội phạm”)</a:t>
            </a: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Thông tin tham khảo: </a:t>
            </a:r>
            <a:r>
              <a:rPr b="0" lang="en-US" sz="700" spc="-1" strike="noStrike">
                <a:solidFill>
                  <a:srgbClr val="000000"/>
                </a:solidFill>
                <a:latin typeface="Calibri"/>
              </a:rPr>
              <a:t>Nhiều người SDMT có thể phạm tội để có tiền mua ma túy. Một số người khác đã từng là tội phạm trước khi họ bắt đầu SDMT. Nhiều người thường cho rằng chỉ những người yếu đuối hay hư hỏng mới nghiện ma túy, mà không hiểu rằng nghiện thực chất là một rối loạn mạn tính tái diễn gây ra những thay đổi trên não bộ, cơ thể và tinh thần của người SDMT. Họ không hiểu được rằng chính những thay đổi này làm cho người SDMT khó từ bỏ được ma túy.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p:txBody>
      </p:sp>
      <p:sp>
        <p:nvSpPr>
          <p:cNvPr id="43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BAA432-7867-4943-BCB3-ECBD6AD70B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Nói: </a:t>
            </a:r>
            <a:r>
              <a:rPr b="0" i="1" lang="en-US" sz="1200" spc="-1" strike="noStrike">
                <a:solidFill>
                  <a:srgbClr val="000000"/>
                </a:solidFill>
                <a:latin typeface="Calibri"/>
              </a:rPr>
              <a:t>Tư vấn hiệu quả nhất khi nó diễn ra một cách tự nguyện. Chúng ta không thể ra lệnh cho người khác thay đổi hành vi của họ. Quá trình phỏng vấn tạo động lực - sẽ đề cập đến trong phần sau của khóa học này - là một cách thức để khuyến khích sự thay đổ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Một buổi nói chuyện sẽ giúp hai bên trao đổi thông tin nhưng nó không nhằm mục đích thay đổi hành vi. Tư vấn trợ giúp nhiều hơn là một buổi nói chuyện vì nó định hướng và hướng dẫn khách hàng thay đổi hành v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ự hợp tác giữa tư vấn viên và khác hàng là hết sức cần thiết để buổi tư vấn có hiệu quả. Để có sự hợp tác tốt, bạn cần có thái độ cởi mở và linh hoạt trong phương pháp. Nếu bạn can thiệp quá sâu vào hành vi và suy nghĩ của khách hàng, họ có thể phản ứng bằng cách từ chối hợp tác với bạ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ãy nhớ rằng, tư vấn là một quá trình tương tác mà cả hai bên cùng hợp tác để đạt được mục tiêu ngắn hạn đã được thống nhất từ trước. Hai người cần có vai trò tương đương và tin cậy lẫn nhau - không ai quan trọng hơn ai. </a:t>
            </a:r>
            <a:endParaRPr b="0" lang="en-US" sz="1200" spc="-1" strike="noStrike">
              <a:solidFill>
                <a:srgbClr val="000000"/>
              </a:solidFill>
              <a:latin typeface="Calibri"/>
            </a:endParaRPr>
          </a:p>
        </p:txBody>
      </p:sp>
      <p:sp>
        <p:nvSpPr>
          <p:cNvPr id="4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B45CE1-7ADF-411F-BEB6-B3AE9BA0BE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0926E-4CFB-4063-8497-A199A7511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9A61D-2035-489B-B9A7-8DB57EAD3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681D0-D77E-4071-8859-FF8E23956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EC57F-4B09-4612-96B0-3C97842F5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443B2-1893-4C4C-9E26-BF12F74BB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7080D-13E9-4E9C-96B5-FEC551CC0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5C331-6A09-4CA8-98E0-49D325084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D8688-18A7-49F2-8C09-84D793896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54CF6-F920-4E53-85BB-B2B35C524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9E565-F5B5-4BD7-9B9A-CF47E9EFB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69710-C5AE-47DA-8698-F6AD71154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408BD-3CBD-4149-A721-5CF63BADD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B0070-437B-40A7-97D3-08D9F124E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9B4F9-5384-48B1-A9D5-15E9357A2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63949-C0D9-4072-9633-A26D95267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85B728-7DC5-4D98-9241-72401623B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7C39A-6CC3-40F1-AC36-C281D979F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FD6BAB-76B1-4D1A-A737-456A7B2637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65B2BB-5DCB-4990-8C1A-86066B5BF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8C066-3671-4AB0-A05A-574EA04F4B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63B2E0-A915-4F09-AE69-D55AB2151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4D9C2B-279A-4F53-9160-C882ADF7E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D4B07-3AFB-4582-9336-FF0D904B3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F7AD7-F95F-4DC4-8696-712963D2A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CE907-09EE-4685-84BB-882A1A817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44233-343A-431D-B1A0-EE5FC0DB1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F81B9C-F132-435A-B497-67BDB7D71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1EC71-CA10-450F-BD0D-E859EC12E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D1F92C-5E22-48D7-B24A-668ABBDE9B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51E16B-943F-4A3D-88E7-0AA1FB62EE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3C0E84-18B2-4F8F-AAAD-31EF59E720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A00CF3-4BD8-48F4-9705-7FAD6E6DB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E9C6B5-CD90-4559-9F52-312B65CCB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373B0-7B12-40DA-8793-69EEC344A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34B3E6-C5DD-457C-A4E2-E302483012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DD72DB-BF9B-4CB1-ACFC-58981DBE6C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88F072-A378-4BE4-9662-51A7206057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239AA-48F9-46A4-9F70-DC07521C4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8F8655-7A68-493F-8D5A-9088BF23C7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1351E-4DCD-45EC-A830-A87317CF84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CFBD1-D836-43F8-BE16-A4F287D0BE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54EC00-C640-4C0A-86B8-C12480AE86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F08520-CAF4-47BC-8994-22BC5673F5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417634-6730-4122-A9E0-936C63C0BD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6AF4F-80F5-4B58-978D-809C025B2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19FF85-DE52-4755-A4B5-80099FA830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83ED91-313B-4D1C-A5FC-78F3A4599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BC1399-D20D-4FE0-AFCC-0795922504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4BE8D2-C89F-4987-B207-FD2FDAF34A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B9FDB1-6073-4680-99E8-D448046CB6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A317A-5BDD-43F4-9586-4CFA797DF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584E0D-73FF-4AEC-A552-D2161A9C3E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FE0DC-B0D8-4F0B-AA86-396722DC11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83B8F6-9C05-49B2-96E7-7EB5CBD307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A5F5DB-2DA0-4001-A2B1-460B9B7386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A6E2F-4ADD-4E0A-9CB1-C46818016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09FF27-001A-49C7-BEC1-22E567613A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3D85E1-EDE2-4EB7-BBCD-2304F98412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73B9F8-7B71-4697-A791-37F5A49A08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24D40A-ED59-4F14-9B17-90B4EB4ED3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C9870-5F73-4622-B585-A23BE25C2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352353-9086-43D0-83E5-6BF489B115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35D8E8-862B-407E-88F8-7BAE492A2E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069B1-5FF7-4B59-B3E8-36BC67CDAC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20CBA0-297D-41BD-B30F-A22B6EBC1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5246CA-6F5E-4C9E-8532-D4CEC5EEA9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B8F63-AD84-414B-8241-28313E1BD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DD7956-01EB-4F9B-B35F-E75BFF5D6A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48AC5E-C8FE-4C66-A57D-ADF91DD4B6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C38148-AD23-45E8-BF48-A42D8967B9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C8DE9C-3261-4753-8042-B13052D52B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E92D0B-4BE6-4882-9F76-4C327614C3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23DF6F-7A1D-4B54-B5DF-125D2DF0D1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57148B-1E1E-4940-802B-5D2C2F4096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F95E47-8913-4F45-88AC-378677078E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777888-E643-48CE-826F-9DEDBC2A15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D803B-5B25-4151-8805-64716D439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F251A-3843-4D33-A785-9A1302574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9BBA00-B329-427C-BBD8-ACDF08BBE6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593C5E-F825-4220-9CF3-E3D87CC92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D4BC05-0FB1-49FD-BB81-8D8A61EF26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5DB292-26CD-4A8A-A426-87475C64AA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C5183B-D10E-4044-A53D-60BDFB8598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A4D26A-3DB9-461E-BCA4-8357DEB949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31C06E-EA54-4A6C-B4C6-9DA777510B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3542AD-2F81-45B9-A255-DE13E02493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304443-3429-4333-BF61-CB25A0EF2F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B9FD80-AFF0-4328-B4B6-3FECF19A09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6ED6E-43CC-4451-83E0-3FDE49478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49CD61-ECEF-4717-B627-06A64FBADB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0166E6-CD59-479A-BCEB-DAC7C5B4D2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F994DC-9D55-45B4-B76B-54006754BF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435E78-B300-46CA-AB47-33EA61B5C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62160D-E1E0-4A11-B184-5FBABFDCC0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68F5B8-6248-46A5-AEA6-62DDB1E965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DC326C-254F-4C35-9075-1CB0C5CD30C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64E84D-8FE1-437F-97DF-9468A71F6187}"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33E801-2F6A-4681-9C55-994676A029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3A975-A6DF-40D5-B252-08B0F142BADF}"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91036B-A11D-47CF-892A-D967C2067A7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C7494-D61A-4C2D-BC1D-A1FC1290F349}"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B64D42-1BFE-4490-8F7D-69861885C4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D0CC89-FF25-40CF-9CFF-929996DED722}"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828D0D-B9B1-4108-A256-255857CD2D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B9EA4-AA66-4899-8E61-F66BEC619478}"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A55F6-CA87-46EB-81A4-4241BA90906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9CA96-C0E1-4880-A6FE-A5A27928DF6F}"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A6B29-7818-4C29-A415-070F928109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4F6D7-F8C8-4807-A9FF-0B416D5B2F18}"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56432-9DEF-4D98-90BD-89A297248E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0B6AE-6A46-44FF-9CC8-15648E731253}"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B879D-B2E5-4C42-9092-B85DFC45C9A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3" descr="2.1-1.ai"/>
          <p:cNvPicPr/>
          <p:nvPr/>
        </p:nvPicPr>
        <p:blipFill>
          <a:blip r:embed="rId1"/>
          <a:stretch/>
        </p:blipFill>
        <p:spPr>
          <a:xfrm>
            <a:off x="304920" y="152280"/>
            <a:ext cx="8604000" cy="6480360"/>
          </a:xfrm>
          <a:prstGeom prst="rect">
            <a:avLst/>
          </a:prstGeom>
          <a:ln w="0">
            <a:noFill/>
          </a:ln>
        </p:spPr>
      </p:pic>
      <p:sp>
        <p:nvSpPr>
          <p:cNvPr id="378"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604F8-5831-47A1-BC6E-715A02585A63}"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3" descr="2.1-1.ai"/>
          <p:cNvPicPr/>
          <p:nvPr/>
        </p:nvPicPr>
        <p:blipFill>
          <a:blip r:embed="rId1"/>
          <a:stretch/>
        </p:blipFill>
        <p:spPr>
          <a:xfrm>
            <a:off x="311040" y="152280"/>
            <a:ext cx="8604360" cy="6480360"/>
          </a:xfrm>
          <a:prstGeom prst="rect">
            <a:avLst/>
          </a:prstGeom>
          <a:ln w="0">
            <a:noFill/>
          </a:ln>
        </p:spPr>
      </p:pic>
      <p:sp>
        <p:nvSpPr>
          <p:cNvPr id="397"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64A37-FD8A-41C8-8EBF-08B06CAE3690}"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3" descr="2.1-1.ai"/>
          <p:cNvPicPr/>
          <p:nvPr/>
        </p:nvPicPr>
        <p:blipFill>
          <a:blip r:embed="rId1"/>
          <a:stretch/>
        </p:blipFill>
        <p:spPr>
          <a:xfrm>
            <a:off x="311040" y="152280"/>
            <a:ext cx="8604360" cy="6480360"/>
          </a:xfrm>
          <a:prstGeom prst="rect">
            <a:avLst/>
          </a:prstGeom>
          <a:ln w="0">
            <a:noFill/>
          </a:ln>
        </p:spPr>
      </p:pic>
      <p:sp>
        <p:nvSpPr>
          <p:cNvPr id="39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1151B-F380-457D-AA6C-BC80B5FCF3A4}"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914400" y="2095560"/>
            <a:ext cx="7772400" cy="457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ôn trọng khách hà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ực tế</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 óc sáng tạo và trí tưởng tượng phong phú</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hú trọng vào hành độ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Không áp đặt quan điểm hoặc mối quan tâm của mình lên khách hà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EBA362-0379-4AA5-B6B3-36B3F1647CB3}" type="slidenum">
              <a:rPr b="0"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402" name="Title 1" descr=""/>
          <p:cNvPicPr/>
          <p:nvPr/>
        </p:nvPicPr>
        <p:blipFill>
          <a:blip r:embed="rId1"/>
          <a:stretch/>
        </p:blipFill>
        <p:spPr>
          <a:xfrm>
            <a:off x="457200" y="274680"/>
            <a:ext cx="8229600" cy="1328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3" descr="2.1-1.ai"/>
          <p:cNvPicPr/>
          <p:nvPr/>
        </p:nvPicPr>
        <p:blipFill>
          <a:blip r:embed="rId1"/>
          <a:stretch/>
        </p:blipFill>
        <p:spPr>
          <a:xfrm>
            <a:off x="311040" y="152280"/>
            <a:ext cx="8604360" cy="6480360"/>
          </a:xfrm>
          <a:prstGeom prst="rect">
            <a:avLst/>
          </a:prstGeom>
          <a:ln w="0">
            <a:noFill/>
          </a:ln>
        </p:spPr>
      </p:pic>
      <p:sp>
        <p:nvSpPr>
          <p:cNvPr id="40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871CA-8FC9-4C76-9A69-F709899980CE}"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3" descr="2.1-1.ai"/>
          <p:cNvPicPr/>
          <p:nvPr/>
        </p:nvPicPr>
        <p:blipFill>
          <a:blip r:embed="rId1"/>
          <a:stretch/>
        </p:blipFill>
        <p:spPr>
          <a:xfrm>
            <a:off x="311040" y="152280"/>
            <a:ext cx="8604360" cy="6480360"/>
          </a:xfrm>
          <a:prstGeom prst="rect">
            <a:avLst/>
          </a:prstGeom>
          <a:ln w="0">
            <a:noFill/>
          </a:ln>
        </p:spPr>
      </p:pic>
      <p:sp>
        <p:nvSpPr>
          <p:cNvPr id="406"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00639-682B-4F05-BF2A-DEF2BDE5C466}"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ư vấn rất quan trọng vì người bệnh không chỉ bị phụ thuộc về thể chất mà cả tâm l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hững vấn đề tâm lý – xã hội đeo đuổi suốt cuộc đời họ và ảnh hưởng đến kết quả điều trị vì là tác nhân gây tái nghiện.</a:t>
            </a:r>
            <a:endParaRPr b="0" lang="en-US" sz="2700" spc="-1" strike="noStrike">
              <a:solidFill>
                <a:srgbClr val="000000"/>
              </a:solidFill>
              <a:latin typeface="Lucida Sans Unicode"/>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vi-VN" sz="4100" spc="-1" strike="noStrike">
              <a:solidFill>
                <a:srgbClr val="464646"/>
              </a:solidFill>
              <a:latin typeface="Lucida Sans Unicode"/>
            </a:endParaRPr>
          </a:p>
        </p:txBody>
      </p:sp>
      <p:sp>
        <p:nvSpPr>
          <p:cNvPr id="40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F6E32-C3D3-4DD7-B674-BD832B84BE16}" type="slidenum">
              <a:rPr b="0"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À NGƯỜI TỐ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ÀM VIỆC TỐ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ỰC SỰ QUAN TÂM TỚI CON NGƯỜI CỦA KHÁCH HÀ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FDB55-5279-45E3-B7D1-9522D9EE2880}" type="slidenum">
              <a:rPr b="0"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412" name="Title 3" descr=""/>
          <p:cNvPicPr/>
          <p:nvPr/>
        </p:nvPicPr>
        <p:blipFill>
          <a:blip r:embed="rId1"/>
          <a:stretch/>
        </p:blipFill>
        <p:spPr>
          <a:xfrm>
            <a:off x="457200" y="225360"/>
            <a:ext cx="8229600" cy="11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2.1-1.ai"/>
          <p:cNvPicPr/>
          <p:nvPr/>
        </p:nvPicPr>
        <p:blipFill>
          <a:blip r:embed="rId1"/>
          <a:stretch/>
        </p:blipFill>
        <p:spPr>
          <a:xfrm>
            <a:off x="311040" y="306360"/>
            <a:ext cx="8604360" cy="6480360"/>
          </a:xfrm>
          <a:prstGeom prst="rect">
            <a:avLst/>
          </a:prstGeom>
          <a:ln w="0">
            <a:noFill/>
          </a:ln>
        </p:spPr>
      </p:pic>
      <p:sp>
        <p:nvSpPr>
          <p:cNvPr id="380"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5678D4-5583-43F6-AAAE-DCCF2AFC3E5B}"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3" descr="2.1-1.ai"/>
          <p:cNvPicPr/>
          <p:nvPr/>
        </p:nvPicPr>
        <p:blipFill>
          <a:blip r:embed="rId1"/>
          <a:stretch/>
        </p:blipFill>
        <p:spPr>
          <a:xfrm>
            <a:off x="311040" y="152280"/>
            <a:ext cx="8604360" cy="6480360"/>
          </a:xfrm>
          <a:prstGeom prst="rect">
            <a:avLst/>
          </a:prstGeom>
          <a:ln w="0">
            <a:noFill/>
          </a:ln>
        </p:spPr>
      </p:pic>
      <p:sp>
        <p:nvSpPr>
          <p:cNvPr id="382"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ACDC1-B72E-4436-B91B-9422F674A8F8}"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3" descr="2.1-1.ai"/>
          <p:cNvPicPr/>
          <p:nvPr/>
        </p:nvPicPr>
        <p:blipFill>
          <a:blip r:embed="rId1"/>
          <a:stretch/>
        </p:blipFill>
        <p:spPr>
          <a:xfrm>
            <a:off x="311040" y="152280"/>
            <a:ext cx="8604360" cy="6480360"/>
          </a:xfrm>
          <a:prstGeom prst="rect">
            <a:avLst/>
          </a:prstGeom>
          <a:ln w="0">
            <a:noFill/>
          </a:ln>
        </p:spPr>
      </p:pic>
      <p:sp>
        <p:nvSpPr>
          <p:cNvPr id="384"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87B5F-E745-41EA-A9DE-A5FF1282FDED}"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Họ là a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ea typeface="ＭＳ Ｐゴシック"/>
              </a:rPr>
              <a:t>Họ có đặc điểm gì?</a:t>
            </a:r>
            <a:endParaRPr b="0" lang="en-US" sz="2700" spc="-1" strike="noStrike">
              <a:solidFill>
                <a:srgbClr val="000000"/>
              </a:solidFill>
              <a:latin typeface="Lucida Sans Unicode"/>
            </a:endParaRPr>
          </a:p>
        </p:txBody>
      </p:sp>
      <p:sp>
        <p:nvSpPr>
          <p:cNvPr id="38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DDF9B-C709-44E0-8DDB-DC98F846249C}" type="slidenum">
              <a:rPr b="0" lang="en-US" sz="1000" spc="-1" strike="noStrike">
                <a:solidFill>
                  <a:srgbClr val="000000"/>
                </a:solidFill>
                <a:latin typeface="Arial"/>
                <a:ea typeface="ＭＳ Ｐゴシック"/>
              </a:rPr>
              <a:t>&lt;number&gt;</a:t>
            </a:fld>
            <a:endParaRPr b="0" lang="en-US" sz="1000" spc="-1" strike="noStrike">
              <a:solidFill>
                <a:srgbClr val="000000"/>
              </a:solidFill>
              <a:latin typeface="Arial"/>
            </a:endParaRPr>
          </a:p>
        </p:txBody>
      </p:sp>
      <p:pic>
        <p:nvPicPr>
          <p:cNvPr id="387"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3" descr="2.1-1.ai"/>
          <p:cNvPicPr/>
          <p:nvPr/>
        </p:nvPicPr>
        <p:blipFill>
          <a:blip r:embed="rId1"/>
          <a:stretch/>
        </p:blipFill>
        <p:spPr>
          <a:xfrm>
            <a:off x="311040" y="152280"/>
            <a:ext cx="8604360" cy="6480360"/>
          </a:xfrm>
          <a:prstGeom prst="rect">
            <a:avLst/>
          </a:prstGeom>
          <a:ln w="0">
            <a:noFill/>
          </a:ln>
        </p:spPr>
      </p:pic>
      <p:sp>
        <p:nvSpPr>
          <p:cNvPr id="389"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BF4227-EB8D-4902-8A2E-D35B454FCB79}"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3" descr="2.1-1.ai"/>
          <p:cNvPicPr/>
          <p:nvPr/>
        </p:nvPicPr>
        <p:blipFill>
          <a:blip r:embed="rId1"/>
          <a:stretch/>
        </p:blipFill>
        <p:spPr>
          <a:xfrm>
            <a:off x="311040" y="152280"/>
            <a:ext cx="8604360" cy="6480360"/>
          </a:xfrm>
          <a:prstGeom prst="rect">
            <a:avLst/>
          </a:prstGeom>
          <a:ln w="0">
            <a:noFill/>
          </a:ln>
        </p:spPr>
      </p:pic>
      <p:sp>
        <p:nvSpPr>
          <p:cNvPr id="391"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657A8-209A-40B0-82B6-5CE54AFF2244}"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3" descr="2.1-1.ai"/>
          <p:cNvPicPr/>
          <p:nvPr/>
        </p:nvPicPr>
        <p:blipFill>
          <a:blip r:embed="rId1"/>
          <a:stretch/>
        </p:blipFill>
        <p:spPr>
          <a:xfrm>
            <a:off x="311040" y="152280"/>
            <a:ext cx="8604360" cy="6480360"/>
          </a:xfrm>
          <a:prstGeom prst="rect">
            <a:avLst/>
          </a:prstGeom>
          <a:ln w="0">
            <a:noFill/>
          </a:ln>
        </p:spPr>
      </p:pic>
      <p:sp>
        <p:nvSpPr>
          <p:cNvPr id="393"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CCE30-7A5F-43A9-9A78-EB35CCD3268A}"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3" descr="2.1-1.ai"/>
          <p:cNvPicPr/>
          <p:nvPr/>
        </p:nvPicPr>
        <p:blipFill>
          <a:blip r:embed="rId1"/>
          <a:stretch/>
        </p:blipFill>
        <p:spPr>
          <a:xfrm>
            <a:off x="311040" y="152280"/>
            <a:ext cx="8604360" cy="6480360"/>
          </a:xfrm>
          <a:prstGeom prst="rect">
            <a:avLst/>
          </a:prstGeom>
          <a:ln w="0">
            <a:noFill/>
          </a:ln>
        </p:spPr>
      </p:pic>
      <p:sp>
        <p:nvSpPr>
          <p:cNvPr id="395" name="Slide Number Placeholder 4"/>
          <p:cNvSpPr/>
          <p:nvPr/>
        </p:nvSpPr>
        <p:spPr>
          <a:xfrm>
            <a:off x="6553080" y="6416640"/>
            <a:ext cx="2133720" cy="3650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3BFF37-46E4-4FCC-ABDF-0CE225D907A2}" type="slidenum">
              <a:rPr b="0" lang="en-US" sz="1600" spc="-1" strike="noStrike">
                <a:solidFill>
                  <a:srgbClr val="000000"/>
                </a:solidFill>
                <a:latin typeface="Arial"/>
                <a:ea typeface="ＭＳ Ｐゴシック"/>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07:58:46Z</dcterms:created>
  <dc:creator>Hoang Anh</dc:creator>
  <dc:description/>
  <dc:language>en-US</dc:language>
  <cp:lastModifiedBy>Nhu Trang</cp:lastModifiedBy>
  <dcterms:modified xsi:type="dcterms:W3CDTF">2017-06-16T01:23:29Z</dcterms:modified>
  <cp:revision>43</cp:revision>
  <dc:subject/>
  <dc:title>1</dc:title>
</cp:coreProperties>
</file>