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E0AE2D-F034-43C3-A96F-F4073C0BE5E1}" type="datetime">
              <a:rPr b="0" lang="en-US" sz="1200" spc="-1" strike="noStrike">
                <a:solidFill>
                  <a:srgbClr val="000000"/>
                </a:solidFill>
                <a:latin typeface="Calibri"/>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FC113B-C87E-4E3F-B57B-FCAC8E64EF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Giảng viên: Chào mừng các học viên đến lớp học và mời học viên ngồi sao cho họ cảm thấy thoải mái.</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Bảo đảm là bạn đã sắp xếp phòng học sẵn sàng. Tài liệu để sẵn trên bàn gồm:</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r>
              <a:rPr b="0" lang="en-US" sz="900" spc="-1" strike="noStrike">
                <a:solidFill>
                  <a:srgbClr val="000000"/>
                </a:solidFill>
                <a:latin typeface="Calibri"/>
              </a:rPr>
              <a:t>1. Biển tên</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r>
              <a:rPr b="0" lang="en-US" sz="900" spc="-1" strike="noStrike">
                <a:solidFill>
                  <a:srgbClr val="000000"/>
                </a:solidFill>
                <a:latin typeface="Calibri"/>
              </a:rPr>
              <a:t>2. Bút viết bảng và bút viết</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r>
              <a:rPr b="0" lang="en-US" sz="900" spc="-1" strike="noStrike">
                <a:solidFill>
                  <a:srgbClr val="000000"/>
                </a:solidFill>
                <a:latin typeface="Calibri"/>
              </a:rPr>
              <a:t>3. Tài liệu phát tay</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r>
              <a:rPr b="0" lang="en-US" sz="900" spc="-1" strike="noStrike">
                <a:solidFill>
                  <a:srgbClr val="000000"/>
                </a:solidFill>
                <a:latin typeface="Calibri"/>
              </a:rPr>
              <a:t>4. Sổ ghi chép</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Bố trí lớp học sao cho thuận lợi cho việc trao đổi thảo luận giữa các học viên. Quyết định xem có nên bố trí dưới dạng lớp học như ở trường học, ghế xếp thành hình tròn hay hình chữ U để học viên có thể quan sát và trao đổi với nhau một cách thoải mái. Đồng thời cần bảo đảm học viên có thể nhìn rõ nội dung chiếu trên bản chiếu slide cho dù họ ngồi ở vị trí nào trong lớp học.</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Chuẩn bị sẵn sàng cho tất cả các việc hậu cần – nghĩa là kết nối máy chiếu LCD, màn hình và máy laptop ít nhất là 30 phút trước khi lớp học bắt đầu để đảm bảo máy móc hoạt động không có trục trặc gì.</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Luôn luôn mang đến đủ số lượng tài liệu phát tay cho học viên. Ngoài ra, nếu không may máy chiếu LCD và máy laptop hoạt động thì bạn vẫn có thể tiến hành giảng bài bằng cách sử dụng các tài liệu phát tay.</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Nếu bài học này là một bài riêng rẽ thì bổ sung câu nói dưới đây trong phần mở đầu.</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Cuối cùng, thực hiện phần các quy định của lớp học: đây là phần các giảng viên và học viên cùng thảo luận với nhau tại lớp. Nội quy chính thức của lớp học là do giảng viên quyết định. Một số nội quy có thể như sau:</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ôn trọng ý kiến nhận xét của các học viên khác</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i cũng có quyền nói lên quan điểm của mình</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Nếu có câu hỏi học viên có thể hỏi bất cứ lúc nào trong quá trình giảng</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ắt chuông điện thoại di động</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Chỉ kiểm tra email và tin nhắn trong giờ nghỉ giải lao</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Nếu bài học này là phần tiếp tục của các bài học khác trong khóa học thì </a:t>
            </a:r>
            <a:r>
              <a:rPr b="0" lang="en-US" sz="900" spc="-1" strike="noStrike">
                <a:solidFill>
                  <a:srgbClr val="000000"/>
                </a:solidFill>
                <a:latin typeface="Calibri"/>
              </a:rPr>
              <a:t>NÓI,</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Nói: </a:t>
            </a:r>
            <a:r>
              <a:rPr b="0" i="1" lang="en-US" sz="900" spc="-1" strike="noStrike">
                <a:solidFill>
                  <a:srgbClr val="000000"/>
                </a:solidFill>
                <a:latin typeface="Calibri"/>
              </a:rPr>
              <a:t>Tất cả chúng ta đều phải đối mặt với những vấn đề khó khăn.</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Thỉnh thoảng chúng ta gặp phải một vấn đề dường như vượt quá khả năng của chúng ta và chúng ta đối phó bằng cách lảng tránh hoặc quá lo lắng về vấn đề đó. Những cách làm này thường không giải quyết được vấn đề, chỉ làm một chút để giải quyết vấn đề thường làm cho vấn đề trở nên nghiêm trọng hơn. </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Giải quyết vấn đề một cách hệ thống là một kĩ thuật có thể giúp cho bạn tìm ra các giải pháp cho vấn đề bạn đang gặp phải. Bạn chỉ cần thực hành một chút là sẽ thấy phương pháp này rất dễ sử dụng và có thể giúp bạn giải quyết bất cứ vấn đề gì. </a:t>
            </a:r>
            <a:endParaRPr b="0" lang="en-US" sz="9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4DFDC1-3ACA-43C3-B34D-7E9B5661A7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ói: </a:t>
            </a:r>
            <a:r>
              <a:rPr b="0" i="1" lang="en-US" sz="1200" spc="-1" strike="noStrike">
                <a:solidFill>
                  <a:srgbClr val="000000"/>
                </a:solidFill>
                <a:latin typeface="Calibri"/>
              </a:rPr>
              <a:t>Khách hàng cần thực hiện giải pháp đã lựa chọn để giải quyết vấn đề. Có những giải pháp cần phải chia thành nhiều bước nhỏ hơn. Chia nhỏ giải pháp thành những bước nhỏ và quyết định xem bạn sẽ tiến hành từng bước đó như thế nào và khi nào. Đó là cách để khách hàng tự đặt ra mục tiêu cho chính bản thân.</a:t>
            </a:r>
            <a:r>
              <a:rPr b="1" i="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Khi giải pháp đã được lựa chọn, tư vấn viên nên thảo luận với khách hàng về các bước tiếp theo, đánh giá hiệu quả của giải pháp đó. Bạn có thể cần đóng vai với khách hàng để thực hành giải pháp đó trước khi thực hiện trong thực tế. Bạn và khách hàng không thể dự đoán tất cả các khó khăn có thể gặp phải khi thực hiện giải pháp. Bạn cần nhấn mạnh tầm quan trọng của việc đánh giá giải pháp và thử những giải pháp khác nếu giải pháp ban đầu không có kết quả. Quá trình xem xét này sẽ giúp xác định các vấn đề còn tồn tại. Bạn có thể cần phải điều chỉnh lại các bước hoặc thêm vào các bước mới. Khách hàng sẽ trở nên thực tế hơn và lạc quan hơn về việc tìm ra giải pháp hiệu quả cho vấn đề của họ nếu bạn có thể chỉ ra cách đo lường thành công của họ.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Giải quyết vấn đề đòi hỏi sự kiên nhẫn và bền bỉ. Vì vậy, hãy nhớ chúc mừng khách hàng vì tất cả những nỗ lực và những tiến bộ họ đạt được. Phương pháp giải quyết vấn đề sẽ không làm cho mọi vấn đề của khách hàng mất đi hay giải quết được tất cả các vấn đề. Tuy nhiên, theo thời gian, cùng với việc thực hành kĩ thuật này, bạn sẽ thấy rằng khách hàng có thể giải quyết vấn đề tốt hơn và cảm thấy bớt căng thẳng hơn khi khó khăn nảy sinh.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CB8384-CBFE-4E0F-86B4-65C5214357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ướng dẫn giảng dạy: </a:t>
            </a:r>
            <a:r>
              <a:rPr b="0" lang="en-US" sz="1200" spc="-1" strike="noStrike">
                <a:solidFill>
                  <a:srgbClr val="000000"/>
                </a:solidFill>
                <a:latin typeface="Calibri"/>
              </a:rPr>
              <a:t>Chia học viên thành các nhóm nhỏ và cho họ 15 phút để giải quyết vấn đề trên bản chiếu.</a:t>
            </a: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94A80E-3E45-4F10-BDC5-08099E5C7D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Nói: </a:t>
            </a:r>
            <a:r>
              <a:rPr b="0" i="1" lang="en-US" sz="1100" spc="-1" strike="noStrike">
                <a:solidFill>
                  <a:srgbClr val="000000"/>
                </a:solidFill>
                <a:latin typeface="Calibri"/>
              </a:rPr>
              <a:t>Đôi khi, trong giải quyết vấn đề, bạn có thể gặp phải một số trở ngại, ví dụ như những vấn đề liệt kê trong bản chiếu này. Vấn đề có thể không được xác định rõ ràng, hoặc khách hàng của bạn có thể không nhớ tất cả các bước cần thiết để giải quyết. Trong những trường hợp này, hãy đảm bảo vấn đề được xác định thật cụ thể, và/hoặc cố gắng phối hợp nhiều phương pháp truyền đạt khác nhau để giúp khách hàng nhớ lại các bước đã thảo luận.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9F662E-F75B-4D2C-9BCE-03273E55BF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ói: </a:t>
            </a:r>
            <a:r>
              <a:rPr b="0" i="1" lang="en-US" sz="1200" spc="-1" strike="noStrike">
                <a:solidFill>
                  <a:srgbClr val="000000"/>
                </a:solidFill>
                <a:latin typeface="Calibri"/>
              </a:rPr>
              <a:t>Trong trường hợp bạn không thấy khách hàng thực hiện giải pháp, hãy cân nhắc xem liệu khách hàng có thực sự đang ở giai đoạn thay đổi hành vi phù hợp chưa. Nếu không, hãy sử dụng PVTĐL để giúp họ tới được giai đoạn phù hợp. Nếu không, bạn có thể tìm hiểu xem liệu khách hàng có thiếu kĩ năng để đạt được mục tiêu hay không. Trong trường hợp này, bạn có thể nên kiểm tra khả năng nhận thức của khách hàng, và/hoặc cố gắng sử dụng các phương pháp hỗ trợ/gợi nhớ khác nhau.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557AB2-4E67-4896-ABCA-4E86BE4B30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ói: </a:t>
            </a:r>
            <a:r>
              <a:rPr b="0" i="1" lang="en-US" sz="1200" spc="-1" strike="noStrike">
                <a:solidFill>
                  <a:srgbClr val="000000"/>
                </a:solidFill>
                <a:latin typeface="Calibri"/>
              </a:rPr>
              <a:t>Đôi khi, bạn bắt đầu với vấn đề có vẻ quá khó giải quyết đối với khách hàng. Trong trường hợp như vậy, hãy đổi sang các vấn đề dễ hơn để giải quyết để khách hàng có được sự tự tin về khả năng của họ trong giải quyết vấn đề.</a:t>
            </a:r>
            <a:r>
              <a:rPr b="1" i="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Trong các trường hợp khác, bạn có thể thấy khách hàng bắt đầu đánh giá các giải pháp trong giai đoạn động não. Trong trường hợp này, điều quan trọng là bạn quay trở lại các quy tắc trong động não, và giải thích tại sao việc đánh giá các giải pháp chỉ nên thực hiện sau khi đã thử thực hiện giải pháp.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79715D-7276-4551-BAC8-BC27699159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ói: </a:t>
            </a:r>
            <a:r>
              <a:rPr b="0" i="1" lang="en-US" sz="1200" spc="-1" strike="noStrike">
                <a:solidFill>
                  <a:srgbClr val="000000"/>
                </a:solidFill>
                <a:latin typeface="Calibri"/>
              </a:rPr>
              <a:t>Đôi khi khách hàng làm chậm hơn bạn mong đợi và kết quả là bạn phải làm nhiều hơn bạn định làm để giúp họ giải quyết vấn đề. Đó là điều rất phổ biến trong giai đoạn mới bắt đầu giải quyết vấn đề, và là điều hoàn toàn bình thường. Bạn nên cố gắng giảm dần mức độ tham gia vào việc giải quyết vấn đề khi những vấn đề cần được giải quyết ngày càng khó khăn hơn,.</a:t>
            </a:r>
            <a:r>
              <a:rPr b="1" i="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Một số tư vấn viên quên mất mục đích của việc truyền đạt kĩ thuật này cho khách hàng. Hãy nhớ là nhiệm vụ của bạn không phải là giải quyết mọi vấn đề cho khách hàng, giúp họ học cách tự giải quyết các vấn đề của chính họ.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1CE9F2-345B-478B-B214-D02D1A3DC0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Hướng dẫn giảng dạy: </a:t>
            </a:r>
            <a:r>
              <a:rPr b="0" lang="en-US" sz="1100" spc="-1" strike="noStrike">
                <a:solidFill>
                  <a:srgbClr val="000000"/>
                </a:solidFill>
                <a:latin typeface="Calibri"/>
              </a:rPr>
              <a:t>Chia học viên thành các nhóm 3 người gồm "tư vấn viên", "khách hàng", và "quan sát viên". Đưa cho "tư vấn viên" bảng hỗ trợ giải quyết vấn đề (Tài liệu phát tay 5.2– 1). Giải thích rằng tư vấn viên cần phải hướng dẫn khách hàng qua các bước giải quyết vấn đề được liệt kê trong bài này, trong khi quan sát viên thì quan sát. Khách hàng cần phải đóng vai đang ở trong giai đoạn phù hợp và xác định vấn đề như đã liệt kê trong bản chiếu (từng vấn đề một). Tư vấn viên cần yêu cầu khách hàng mô tả vấn đề của họ càng chính xác càng tốt, động não tìm ra giải pháp, đánh giá các giải pháp, lựa chọn một giải pháp và lập kế hoạch để thực hiện giải  pháp đó. Sau khi giải quyết một vấn đề, học viên tự đổi vai để thực hành tiếp.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52CDF1-320F-4215-8B3E-B3E79E8FFB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ướng dẫn giảng dạy: </a:t>
            </a:r>
            <a:r>
              <a:rPr b="0" lang="en-US" sz="1200" spc="-1" strike="noStrike">
                <a:solidFill>
                  <a:srgbClr val="000000"/>
                </a:solidFill>
                <a:latin typeface="Calibri"/>
              </a:rPr>
              <a:t>Ôn lại những nội dung chính của bài</a:t>
            </a: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hông tin tham khảo:</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457200" indent="179280">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Nhiều khách hàng gặp khó khăn trong giải quyết vấn đề</a:t>
            </a:r>
            <a:endParaRPr b="0" lang="en-US" sz="1200" spc="-1" strike="noStrike">
              <a:solidFill>
                <a:srgbClr val="000000"/>
              </a:solidFill>
              <a:latin typeface="Calibri"/>
            </a:endParaRPr>
          </a:p>
          <a:p>
            <a:pPr lvl="1" marL="457200" indent="179280">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Bạn có thể giúp khách hàng tự giải quyết vấn đề bằng cách hướng dẫn cho họ những kĩ thuật hiệu quả</a:t>
            </a:r>
            <a:endParaRPr b="0" lang="en-US" sz="1200" spc="-1" strike="noStrike">
              <a:solidFill>
                <a:srgbClr val="000000"/>
              </a:solidFill>
              <a:latin typeface="Calibri"/>
            </a:endParaRPr>
          </a:p>
          <a:p>
            <a:pPr lvl="1" marL="457200" indent="179280">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Nhắc họ rằng vấn đề xảy ra là điều bình thường và đều có thể giải quyết được</a:t>
            </a:r>
            <a:endParaRPr b="0" lang="en-US" sz="1200" spc="-1" strike="noStrike">
              <a:solidFill>
                <a:srgbClr val="000000"/>
              </a:solidFill>
              <a:latin typeface="Calibri"/>
            </a:endParaRPr>
          </a:p>
          <a:p>
            <a:pPr lvl="1" marL="457200" indent="179280">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Giúp họ cụ thể hoá vấn đề</a:t>
            </a:r>
            <a:endParaRPr b="0" lang="en-US" sz="1200" spc="-1" strike="noStrike">
              <a:solidFill>
                <a:srgbClr val="000000"/>
              </a:solidFill>
              <a:latin typeface="Calibri"/>
            </a:endParaRPr>
          </a:p>
          <a:p>
            <a:pPr lvl="1" marL="457200" indent="179280">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Khuyến khích họ động não để lấy số lượng tạo ra chất lượng cho giải pháp</a:t>
            </a:r>
            <a:endParaRPr b="0" lang="en-US" sz="1200" spc="-1" strike="noStrike">
              <a:solidFill>
                <a:srgbClr val="000000"/>
              </a:solidFill>
              <a:latin typeface="Calibri"/>
            </a:endParaRPr>
          </a:p>
          <a:p>
            <a:pPr lvl="1" marL="457200" indent="179280">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Xác định giải pháp tốt nhất bằng cách so sánh điểm lợi và bất lợi, tính khả thi và hiệu quả</a:t>
            </a:r>
            <a:endParaRPr b="0" lang="en-US" sz="1200" spc="-1" strike="noStrike">
              <a:solidFill>
                <a:srgbClr val="000000"/>
              </a:solidFill>
              <a:latin typeface="Calibri"/>
            </a:endParaRPr>
          </a:p>
          <a:p>
            <a:pPr lvl="1" marL="457200" indent="179280">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Giúp suy nghĩ về quá trình thực hiệ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ướng dẫn giảng dạy: </a:t>
            </a:r>
            <a:r>
              <a:rPr b="0" lang="en-US" sz="1200" spc="-1" strike="noStrike">
                <a:solidFill>
                  <a:srgbClr val="000000"/>
                </a:solidFill>
                <a:latin typeface="Calibri"/>
              </a:rPr>
              <a:t>Cảm ơn học viên vì đã tham gia thảo luận tích cực và đặt các câu hỏi. Hỏi họ xem họ muốn hỏi điều gì nữa không. Trong trường hợp họ có câu hỏi, hãy trả lời các câu hỏi liên quan đến nội dung bài giảng này. Những câu liên quan đến bài khác, đề nghị họ ghi lại câu hỏi để trả lời ở bài sau.</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841C6C-6C09-426B-87ED-A5C1B687E4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ướng dẫn giảng dạy: </a:t>
            </a:r>
            <a:r>
              <a:rPr b="0" lang="en-US" sz="1200" spc="-1" strike="noStrike">
                <a:solidFill>
                  <a:srgbClr val="000000"/>
                </a:solidFill>
                <a:latin typeface="Calibri"/>
              </a:rPr>
              <a:t>Trình bày trực tiếp nội dung bản chiếu</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9EAFC1-0937-47FD-82BF-E8EB66F874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Hướng dẫn giảng dạy: </a:t>
            </a:r>
            <a:r>
              <a:rPr b="0" lang="en-US" sz="700" spc="-1" strike="noStrike">
                <a:solidFill>
                  <a:srgbClr val="000000"/>
                </a:solidFill>
                <a:latin typeface="Calibri"/>
              </a:rPr>
              <a:t>Chia học viên thành hai nhóm và đề nghị học viên thảo luận về cách họ giải quyết các vấn đề hàng ngày. Họ giải quyết vấn đề theo những bước nào? Nói với học viên rằng họ sẽ có 5 phút để thảo luận, sau đó một người đại diện cho cả nhóm lên trình bày. Dành cho mỗi nhóm 2 phút để trình bày kết quả thảo luận.</a:t>
            </a:r>
            <a:r>
              <a:rPr b="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EBEE38-711C-43DF-8E15-5D3E5ECE8E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Nói:</a:t>
            </a:r>
            <a:r>
              <a:rPr b="1" i="1" lang="en-US" sz="800" spc="-1" strike="noStrike">
                <a:solidFill>
                  <a:srgbClr val="000000"/>
                </a:solidFill>
                <a:latin typeface="Calibri"/>
              </a:rPr>
              <a:t> </a:t>
            </a:r>
            <a:r>
              <a:rPr b="0" i="1" lang="en-US" sz="800" spc="-1" strike="noStrike">
                <a:solidFill>
                  <a:srgbClr val="000000"/>
                </a:solidFill>
                <a:latin typeface="Calibri"/>
              </a:rPr>
              <a:t>Người sử dụng ma túy cần tìm giải pháp cho rất nhiều vấn đề nếu họ quyết định giảm việc sử dụng ma túy và/hoặc ngừng sử dụng, và thay đổi cuộc sống một cách đáng kể. Một số khách hàng có thể cùng một lúc gặp quá nhiều vấn đề đến nỗi thậm chí những vấn đề nhỏ dường như cũng trở nên quá khó khăn. Ví dụ, một mục tiêu đơn giản như đi đến trung tâm dịch vụ việc làm để gặp tư vấn viên và kí vào biểu mẫu yêu cầu hỗ trợ cũng đòi hỏi khách hàng phải giải quyết một số vấn đề khác nhau. Họ có thể không sẵn có phương tiện đi lại, họ cần có người chăm sóc con cái giúp, thời gian hẹn còn trống duy nhất để họ có thể đến gặp tư vấn viên lại bị trùng với thời gian của một số công việc khác quan trọng họ cần phải làm.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Đối với nhiều khách hàng, việc sử dụng heroin đã khiến họ lảng tránh các vấn đề hoặc đi đến những quyết định vội vàng, không thực sự có lợi cho họ. Những cách giải quyết vấn đề kém hiệu quả như vậy thường mang lại những hậu quả tiêu cực khiến cho vấn đề hiện tại càng trở nên trầm trọng hơn hoặc làm nảy sinh thêm vấn đề mới.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Mục tiêu của bài học này là nhằm hướng dẫn khách hàng cách xác định, phân tích và tìm ra giải pháp cho nhiều vấn đề mà họ sẽ đối mặt trong nỗ lực ngừng sử dụng ma túy của họ và thay đổi lối sống.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Tư vấn viên cần giải thích cho khách hàng hiểu rõ tại sao họ cần phải học nội dung này.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Thông tin tham khảo: </a:t>
            </a:r>
            <a:r>
              <a:rPr b="0" lang="en-US" sz="800" spc="-1" strike="noStrike">
                <a:solidFill>
                  <a:srgbClr val="000000"/>
                </a:solidFill>
                <a:latin typeface="Calibri"/>
              </a:rPr>
              <a:t>Những người đang cố gắng phục hồi khỏi việc sử dụng heroin thường thấy mình phải đối mặt với các tình huống khó khăn. Những tình huống này sẽ trở nên rất khó giải quyết nếu người ta không có những đáp ứng hiệu quả. Người sử dụng heroin thường gặp phải một số vấn đề như sau:</a:t>
            </a:r>
            <a:r>
              <a:rPr b="1"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Bị rơi vào những hoàn cảnh mà trước đây họ thường sử dụng heroin và các loại ma túy khác </a:t>
            </a:r>
            <a:endParaRPr b="0" lang="en-US" sz="8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Phải đối mặt với sức ép xã hội </a:t>
            </a:r>
            <a:endParaRPr b="0" lang="en-US" sz="8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Chịu đựng các cơn thèm nhớ</a:t>
            </a:r>
            <a:endParaRPr b="0" lang="en-US" sz="8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Tái nghiện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Khách hàng đang cố gắng thay đổi lối sống tích cực thường gặp một số vấn đề phổ biến sau: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Khó sắp xếp thời gian để tham gia các hoạt động xã hội hoặc các hoạt động yêu thích </a:t>
            </a:r>
            <a:endParaRPr b="0" lang="en-US" sz="8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Thiếu phương tiện đi lại </a:t>
            </a:r>
            <a:endParaRPr b="0" lang="en-US" sz="8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Gặp khó khăn trong việc chăm sóc con cái </a:t>
            </a:r>
            <a:endParaRPr b="0" lang="en-US" sz="8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Những khó khăn liên quan đến việc làm</a:t>
            </a:r>
            <a:endParaRPr b="0" lang="en-US" sz="8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Áp lực gia đình </a:t>
            </a:r>
            <a:endParaRPr b="0" lang="en-US" sz="8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Các vấn đề pháp lí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Để giải quyết vấn đề một cách hiệu quả bạn cần chấp nhận một thực tế rằng bạn đang có vấn đề khó khăn, hãy suy nghĩ thấu đáo, cần phải biết kiềm chế không nóng vội đi đến quyết định ngay lập tức, nhưng đồng thời cũng không nên phó mặc buông xuôi. Nếu bạn không tìm được các giải pháp tốt, vấn đề của bạn sẽ càng trầm trọng thêm theo thời gian, và áp lực sẽ dần trở thành yếu tố thúc đẩy sử dụng ma túy. Tư vấn viên có thể giải thích cho khách hàng rằng chương trình can thiệp sẽ giúp họ  trở thành một người biết cách giải quyết vấn đề một cách hiệu quả. Để đạt được điều đó, khách hàng cần thực hành nhiều để thành thục kĩ thuật này..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D706CD-74D7-4D26-BD1F-CAA3A4D66E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Hướng dẫn giảng dạy: </a:t>
            </a:r>
            <a:r>
              <a:rPr b="0" lang="en-US" sz="1100" spc="-1" strike="noStrike">
                <a:solidFill>
                  <a:srgbClr val="000000"/>
                </a:solidFill>
                <a:latin typeface="Calibri"/>
              </a:rPr>
              <a:t>Chiếu tiêu đề bản chiếu số 5. Hỏi học viên khi nào họ nghĩ là họ nên thảo luận giải quyết vấn đề với khách hàng. Dẫn dắt một cuộc thảo luận trong khoảng 5 phút câu hỏi này, sau đó chiếu nội dung của bản chiếu. </a:t>
            </a:r>
            <a:r>
              <a:rPr b="1" lang="en-US" sz="1100" spc="-1" strike="noStrike">
                <a:solidFill>
                  <a:srgbClr val="000000"/>
                </a:solidFill>
                <a:latin typeface="Calibri"/>
              </a:rPr>
              <a:t>	</a:t>
            </a:r>
            <a:endParaRPr b="0" lang="en-US" sz="11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Nói: </a:t>
            </a:r>
            <a:r>
              <a:rPr b="0" i="1" lang="en-US" sz="1100" spc="-1" strike="noStrike">
                <a:solidFill>
                  <a:srgbClr val="000000"/>
                </a:solidFill>
                <a:latin typeface="Calibri"/>
              </a:rPr>
              <a:t>Bạn chỉ nên thảo luận kỹ thuật giải quyết vấn đề với khách hàng khi bạn đã gây dựng được mong muốn của họ, khả năng và sự tự tin sẽ hành động </a:t>
            </a:r>
            <a:endParaRPr b="0" lang="en-US" sz="11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Giải quyết vấn đề sẽ hiệu quả nhất khi khách hàng không bị suy giảm chức năng, nghĩa là họ không bị vã ma túy hoặc không bị suy giảm nhận thức nghiêm trọng. Nếu không, sẽ rất khó khăn cho khách hàng tập trung vào phần thảo luận. Thậm chí ngay cả khi một kế hoạch hành động sau khi kết thúc buổi tư vấn thì khách hàng cũng khó có thể nhớ được, đồng ý và cam kết với kế hoạch đó, nếu họ bị suy giảm chức năng. </a:t>
            </a:r>
            <a:endParaRPr b="0" lang="en-US" sz="11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Tốt nhất nên thảo luận về giải quyết vấn đề khi khách hàng đang ở giai đoạn hành động hoặc giai đoạn duy trì của quá trình chuyển đổi hành vi để đảm bảo sự cam kết của khách hàng. </a:t>
            </a:r>
            <a:endParaRPr b="0" lang="en-US" sz="11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Bạn và khách hàng nên chia kế hoạch giải quyết vấn đề thành những bước nhỏ. </a:t>
            </a:r>
            <a:endParaRPr b="0" lang="en-US" sz="11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1951AB-3144-4875-BCD5-245DFA1C8F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Nói: </a:t>
            </a:r>
            <a:r>
              <a:rPr b="0" i="1" lang="en-US" sz="1100" spc="-1" strike="noStrike">
                <a:solidFill>
                  <a:srgbClr val="000000"/>
                </a:solidFill>
                <a:latin typeface="Calibri"/>
              </a:rPr>
              <a:t>Việc gì bạn có thể làm đầu tiên khi khách hàng của bạn có vấn đề? Bạn có thể giúp khách hàng như thế nào trong buổi tư vấn thông thường?</a:t>
            </a:r>
            <a:r>
              <a:rPr b="1" i="1" lang="en-US" sz="1100" spc="-1" strike="noStrike">
                <a:solidFill>
                  <a:srgbClr val="000000"/>
                </a:solidFill>
                <a:latin typeface="Calibri"/>
              </a:rPr>
              <a:t> </a:t>
            </a:r>
            <a:endParaRPr b="0" lang="en-US" sz="11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Hướng dẫn giảng dạy: </a:t>
            </a:r>
            <a:r>
              <a:rPr b="0" lang="en-US" sz="1100" spc="-1" strike="noStrike">
                <a:solidFill>
                  <a:srgbClr val="000000"/>
                </a:solidFill>
                <a:latin typeface="Calibri"/>
              </a:rPr>
              <a:t>Hướng dẫn học viên thảo luận nhanh về câu hỏi trên.</a:t>
            </a:r>
            <a:r>
              <a:rPr b="0" lang="en-US" sz="1100" spc="-1" strike="noStrike">
                <a:solidFill>
                  <a:srgbClr val="000000"/>
                </a:solidFill>
                <a:latin typeface="Calibri"/>
              </a:rPr>
              <a:t>	</a:t>
            </a:r>
            <a:endParaRPr b="0" lang="en-US" sz="11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Nói: </a:t>
            </a:r>
            <a:r>
              <a:rPr b="0" i="1" lang="en-US" sz="1100" spc="-1" strike="noStrike">
                <a:solidFill>
                  <a:srgbClr val="000000"/>
                </a:solidFill>
                <a:latin typeface="Calibri"/>
              </a:rPr>
              <a:t>Một điều quan trọng là bạn cần giải thích với khách hàng rằng vấn đề xảy ra là chuyện bình thường và có thể giải quyết được. Khi nảy sinh vấn đề, họ cần phải kiên nhẫn, dừng lại suy nghĩ trước khi đưa ra bất kì hành động nào và cần cân nhắc kĩ lưỡng những thuận lợi và khó khăn trước khi hành động. </a:t>
            </a:r>
            <a:endParaRPr b="0" lang="en-US" sz="11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Không nên quá vội vàng!</a:t>
            </a:r>
            <a:endParaRPr b="0" lang="en-US" sz="11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Bạn có thể hướng dẫn khách hàng các bước để họ giải quyết vấn đề của họ. Sử dụng vấn đề hiện tại của họ để giúp họ thực hành.</a:t>
            </a:r>
            <a:endParaRPr b="0" lang="en-US" sz="11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BBF6E6-BB86-4C9A-9327-56B4A7E26B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ói: </a:t>
            </a:r>
            <a:r>
              <a:rPr b="0" i="1" lang="en-US" sz="1200" spc="-1" strike="noStrike">
                <a:solidFill>
                  <a:srgbClr val="000000"/>
                </a:solidFill>
                <a:latin typeface="Calibri"/>
              </a:rPr>
              <a:t>Xác định được rằng hiện đang có vấn đề không phải là một điều quá khó khăn - chúng ta nhận biết được khó khăn đang tồn tại vì chúng ta cảm thấy căng thẳng hoặc lo lắng. Cái khó là ở chỗ, làm thế nào để xác định được chính xác đó là vấn đề gì. Nếu bạn dành nhiều thời gian hơn để suy nghĩ về các khía cạnh khác nhau của tình huống, bạn sẽ có thể xác định được vấn đề của bạn là gì. Nếu bạn dành thời gian để suy nghĩ về nó, nhưng vẫn không xác định rõ được vấn đề, bạn nên nói chuyện với một người nào đó mà bạn tin tưởng.</a:t>
            </a:r>
            <a:r>
              <a:rPr b="1" i="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Khách hàng cần học cách làm thế nào để cụ thể hoá hoặc xác định được vấn đề rõ ràng, mỗi khi họ ý thức được rằng có điều gì đó không ổn. Họ cũng nên thu thập càng nhiều thông tin càng tốt để làm rõ vấn đề. Ví dụ, nếu khách hàng thất vọng về tình hình gia đình hiện nay và đang suy nghĩ về đến việc bỏ nhà, bạn có thể muốn hỏi một số câu hỏi sau: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457200" indent="179280">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000000"/>
                </a:solidFill>
                <a:latin typeface="Calibri"/>
              </a:rPr>
              <a:t>"Quan hệ của bạn với gia đình bạn như thế nào?" </a:t>
            </a:r>
            <a:endParaRPr b="0" lang="en-US" sz="1200" spc="-1" strike="noStrike">
              <a:solidFill>
                <a:srgbClr val="000000"/>
              </a:solidFill>
              <a:latin typeface="Calibri"/>
            </a:endParaRPr>
          </a:p>
          <a:p>
            <a:pPr lvl="1" marL="457200" indent="179280">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000000"/>
                </a:solidFill>
                <a:latin typeface="Calibri"/>
              </a:rPr>
              <a:t>"Bạn đã bao giờ bị chỉ trích chưa?"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Bạn có thể đặt những câu hỏi để làm tăng thêm mức độ chi tiết khi bạn tập trung vào vấn đề. Cố gắng tối đa để giúp khách hàng mô tả vấn đề một cách cụ thể và chính xác nhất có thể.</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0CA2B6-A1A7-46C0-82C2-97053631ED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ướng dẫn giảng dạy: </a:t>
            </a:r>
            <a:r>
              <a:rPr b="0" lang="en-US" sz="1200" spc="-1" strike="noStrike">
                <a:solidFill>
                  <a:srgbClr val="000000"/>
                </a:solidFill>
                <a:latin typeface="Calibri"/>
              </a:rPr>
              <a:t>Hãy suy nghĩ về một vấn đề mà có một số giải pháp khác nhau. Mô tả với học viên một số chi tiết của vấn đề, và hướng dẫn học viên động não về các giải pháp có thể.</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ói: </a:t>
            </a:r>
            <a:r>
              <a:rPr b="0" i="1" lang="en-US" sz="1200" spc="-1" strike="noStrike">
                <a:solidFill>
                  <a:srgbClr val="000000"/>
                </a:solidFill>
                <a:latin typeface="Calibri"/>
              </a:rPr>
              <a:t>Trong quá trình động não, khách hàng cần đưa ra càng nhiều giải pháp càng tốt. Viết tất cả các giải pháp đó ra. Không loại bỏ bất kì ý tưởng nào và cũng không phải suy nghĩ quá lâu để cố tìm ra một ý tưởng tốt nhất. Bạn nên vận dụng trí tưởng tượng và nghĩ về tất cả các khả năng. Ngay cả các ý tưởng không có tính khả thi hoặc không thể thực hiện được cũng có những phần hữu ích nhất định. Không đánh giá tính hợp lí và tính khả thi cho đến khi đã liệt kê tất cả các khả năng có thể có.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E46C2D-9336-4C44-A4DB-733AC23DA1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Nói: </a:t>
            </a:r>
            <a:r>
              <a:rPr b="0" i="1" lang="en-US" sz="1000" spc="-1" strike="noStrike">
                <a:solidFill>
                  <a:srgbClr val="000000"/>
                </a:solidFill>
                <a:latin typeface="Calibri"/>
              </a:rPr>
              <a:t>Yêu cầu  khách hàng cân nhắc ưu và nhược điểm của từng giải pháp. Với mỗi giải pháp, hãy hỏi khách hàng những câu hỏi sau đây:</a:t>
            </a:r>
            <a:r>
              <a:rPr b="1" i="1"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000" spc="-1" strike="noStrike">
                <a:solidFill>
                  <a:srgbClr val="000000"/>
                </a:solidFill>
                <a:latin typeface="Calibri"/>
              </a:rPr>
              <a:t>Liệu có thể xảy ra những hậu quả xấu nào không (cả hiện tại và trong tương lai gần)? </a:t>
            </a:r>
            <a:endParaRPr b="0" lang="en-US" sz="10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000" spc="-1" strike="noStrike">
                <a:solidFill>
                  <a:srgbClr val="000000"/>
                </a:solidFill>
                <a:latin typeface="Calibri"/>
              </a:rPr>
              <a:t>Phải mất bao lâu để thực hiện giải pháp này? </a:t>
            </a:r>
            <a:endParaRPr b="0" lang="en-US" sz="10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000" spc="-1" strike="noStrike">
                <a:solidFill>
                  <a:srgbClr val="000000"/>
                </a:solidFill>
                <a:latin typeface="Calibri"/>
              </a:rPr>
              <a:t>Có tốn kém nhiều tiền không? </a:t>
            </a:r>
            <a:endParaRPr b="0" lang="en-US" sz="10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000" spc="-1" strike="noStrike">
                <a:solidFill>
                  <a:srgbClr val="000000"/>
                </a:solidFill>
                <a:latin typeface="Calibri"/>
              </a:rPr>
              <a:t>Bạn có kĩ năng gì để thực hiện giải pháp không? Bạn có các nguồn lực / nguồn hỗ trợ cần thiết không? </a:t>
            </a:r>
            <a:endParaRPr b="0" lang="en-US" sz="10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000" spc="-1" strike="noStrike">
                <a:solidFill>
                  <a:srgbClr val="000000"/>
                </a:solidFill>
                <a:latin typeface="Calibri"/>
              </a:rPr>
              <a:t>Bạn có cần phải phối hợp với người khác không? Nếu có, liệu họ có sẵn sàng hợp tác không? </a:t>
            </a:r>
            <a:endParaRPr b="0" lang="en-US" sz="1000" spc="-1" strike="noStrike">
              <a:solidFill>
                <a:srgbClr val="000000"/>
              </a:solidFill>
              <a:latin typeface="Calibri"/>
            </a:endParaRPr>
          </a:p>
          <a:p>
            <a:pPr lvl="1" marL="457200" indent="179280">
              <a:lnSpc>
                <a:spcPct val="8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000" spc="-1" strike="noStrike">
                <a:solidFill>
                  <a:srgbClr val="000000"/>
                </a:solidFill>
                <a:latin typeface="Calibri"/>
              </a:rPr>
              <a:t>Liệu bạn có thể gặp khó khăn gì khi thực hiện giải pháp này không? </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Calibri"/>
              </a:rPr>
              <a:t>Việc quyết định lựa chọn giải pháp nào phụ thuộc rất nhiều vào tính cấp bách của vấn đề và những khó khăn dự kiến có thể xảy ra khi thực hiện các giải pháp khác nhau. Trong một tình huống mà vấn đề cần được giải quyết thật nhanh, có thể lựa chọn một giải pháp nào đó mà nó có thể thực hiện được ngay lập tức (cho dù đó không phải là giải pháp lí tưởng). </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Calibri"/>
              </a:rPr>
              <a:t>Cân nhắc hậu quả: Xem xét lần lượt từng phương án một. Sau đó hình dung xem nếu chọn phương án này thì kết quả sẽ đạt được là gì? Những kết quả mong muốn sẽ là gì? Những kết quả tích cực ngắn hạn là gì? Những hậu quả dài hạn là gì? Những gì sẽ xảy ra trước mắt?</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Calibri"/>
              </a:rPr>
              <a:t>Khách hàng là người lựa chọn giải pháp Mặc dù tư vấn viên có thể cảm thấy là giải pháp khách hàng lựa chọn không phải là giải pháp hợp lí nhất nhưng đó là sự lựa chọn thích hợp nhất dưới cách nhìn nhận của khách hàng tại thời điểm đó. Một khi khách hàng đã lựa chọn được giải pháp, họ sẽ cam kết thực hiện giải pháp đó. Đây là nguyên tắc lấy khách hàng làm trọng tâm quan trọng mà bạn cần ghi nhớ. </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Calibri"/>
              </a:rPr>
              <a:t>Nếu bạn thấy rằng giải pháp khách hàng lựa chọn không được tốt thì bạn có thể gợi ý họ suy nghĩ thêm về những giải pháp khác mà họ có thể thực hiện nếu giải pháp họ lựa chọn ban đầu không thành công, và đưa ra gợi ý mà bạn nghĩ có thể hữu ích. Cần nhớ rằng, điều quan trọng là bạn không cho phép khách hàng thực hiện những giải pháp nguy hiểm. </a:t>
            </a:r>
            <a:endParaRPr b="0" lang="en-US" sz="10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4C7B06-132F-4BD4-9BE8-CB8FDD602B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31C18B-81C7-46F5-8964-32E99FFFA6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6424F-3C9D-48ED-829D-A49CC842E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AD410A-C9E7-4B46-9FA6-28562049A6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7AA36B-EB55-4254-9677-4FB22EE72C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3AD61-A8FF-4A8E-8CD3-2A2CEDB40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72CFC-E6E9-4E52-9637-83A878F42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7D0EF-2003-475D-86D8-2551448CE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93598-2561-4413-A0DE-36228E7C8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4D28A-5AC1-4908-B1C2-7A288C6EB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D4805-B476-4941-982F-0443A67CE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F519E-E9FB-46FC-AFA7-E5C6BDC92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01039-D0E7-4E93-B45E-DA6B40982B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4F4DA3-D4F0-4C7C-9E17-DF59A977FCB5}"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A25842-D26A-401C-BB0D-82F1119AFC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2.1-1.ai"/>
          <p:cNvPicPr/>
          <p:nvPr/>
        </p:nvPicPr>
        <p:blipFill>
          <a:blip r:embed="rId1"/>
          <a:stretch/>
        </p:blipFill>
        <p:spPr>
          <a:xfrm>
            <a:off x="304920" y="152280"/>
            <a:ext cx="8604000" cy="6480360"/>
          </a:xfrm>
          <a:prstGeom prst="rect">
            <a:avLst/>
          </a:prstGeom>
          <a:ln w="0">
            <a:noFill/>
          </a:ln>
        </p:spPr>
      </p:pic>
      <p:sp>
        <p:nvSpPr>
          <p:cNvPr id="49"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7DBC3B-6292-4E0C-9E0A-97C075B81418}"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3" descr="2.1-1.ai"/>
          <p:cNvPicPr/>
          <p:nvPr/>
        </p:nvPicPr>
        <p:blipFill>
          <a:blip r:embed="rId1"/>
          <a:stretch/>
        </p:blipFill>
        <p:spPr>
          <a:xfrm>
            <a:off x="311040" y="152280"/>
            <a:ext cx="8604360" cy="6480360"/>
          </a:xfrm>
          <a:prstGeom prst="rect">
            <a:avLst/>
          </a:prstGeom>
          <a:ln w="0">
            <a:noFill/>
          </a:ln>
        </p:spPr>
      </p:pic>
      <p:sp>
        <p:nvSpPr>
          <p:cNvPr id="67"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43B61B-47AA-42D5-A1A1-2AFBA99B2222}"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3" descr="2.1-1.ai"/>
          <p:cNvPicPr/>
          <p:nvPr/>
        </p:nvPicPr>
        <p:blipFill>
          <a:blip r:embed="rId1"/>
          <a:stretch/>
        </p:blipFill>
        <p:spPr>
          <a:xfrm>
            <a:off x="311040" y="152280"/>
            <a:ext cx="8604360" cy="6480360"/>
          </a:xfrm>
          <a:prstGeom prst="rect">
            <a:avLst/>
          </a:prstGeom>
          <a:ln w="0">
            <a:noFill/>
          </a:ln>
        </p:spPr>
      </p:pic>
      <p:sp>
        <p:nvSpPr>
          <p:cNvPr id="69"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473EE1-F075-49D5-95FC-66048A0AFC78}"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3" descr="2.1-1.ai"/>
          <p:cNvPicPr/>
          <p:nvPr/>
        </p:nvPicPr>
        <p:blipFill>
          <a:blip r:embed="rId1"/>
          <a:stretch/>
        </p:blipFill>
        <p:spPr>
          <a:xfrm>
            <a:off x="311040" y="152280"/>
            <a:ext cx="8604360" cy="6480360"/>
          </a:xfrm>
          <a:prstGeom prst="rect">
            <a:avLst/>
          </a:prstGeom>
          <a:ln w="0">
            <a:noFill/>
          </a:ln>
        </p:spPr>
      </p:pic>
      <p:sp>
        <p:nvSpPr>
          <p:cNvPr id="71"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C582E2-139E-4CF7-BC02-533BFF218A5B}"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3" descr="2.1-1.ai"/>
          <p:cNvPicPr/>
          <p:nvPr/>
        </p:nvPicPr>
        <p:blipFill>
          <a:blip r:embed="rId1"/>
          <a:stretch/>
        </p:blipFill>
        <p:spPr>
          <a:xfrm>
            <a:off x="311040" y="152280"/>
            <a:ext cx="8604360" cy="6480360"/>
          </a:xfrm>
          <a:prstGeom prst="rect">
            <a:avLst/>
          </a:prstGeom>
          <a:ln w="0">
            <a:noFill/>
          </a:ln>
        </p:spPr>
      </p:pic>
      <p:sp>
        <p:nvSpPr>
          <p:cNvPr id="73"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3170F8-9647-4290-88D9-7EC811B80F43}"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3" descr="2.1-1.ai"/>
          <p:cNvPicPr/>
          <p:nvPr/>
        </p:nvPicPr>
        <p:blipFill>
          <a:blip r:embed="rId1"/>
          <a:stretch/>
        </p:blipFill>
        <p:spPr>
          <a:xfrm>
            <a:off x="311040" y="152280"/>
            <a:ext cx="8604360" cy="6480360"/>
          </a:xfrm>
          <a:prstGeom prst="rect">
            <a:avLst/>
          </a:prstGeom>
          <a:ln w="0">
            <a:noFill/>
          </a:ln>
        </p:spPr>
      </p:pic>
      <p:sp>
        <p:nvSpPr>
          <p:cNvPr id="75"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451B07-0C3B-4DD7-9D5D-A41C886A4517}"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3" descr="2.1-1.ai"/>
          <p:cNvPicPr/>
          <p:nvPr/>
        </p:nvPicPr>
        <p:blipFill>
          <a:blip r:embed="rId1"/>
          <a:stretch/>
        </p:blipFill>
        <p:spPr>
          <a:xfrm>
            <a:off x="311040" y="152280"/>
            <a:ext cx="8604360" cy="6480360"/>
          </a:xfrm>
          <a:prstGeom prst="rect">
            <a:avLst/>
          </a:prstGeom>
          <a:ln w="0">
            <a:noFill/>
          </a:ln>
        </p:spPr>
      </p:pic>
      <p:sp>
        <p:nvSpPr>
          <p:cNvPr id="77"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1CBAEA-CFE9-4C77-BF7E-AA7AD0522163}"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3" descr="2.1-1.ai"/>
          <p:cNvPicPr/>
          <p:nvPr/>
        </p:nvPicPr>
        <p:blipFill>
          <a:blip r:embed="rId1"/>
          <a:stretch/>
        </p:blipFill>
        <p:spPr>
          <a:xfrm>
            <a:off x="311040" y="152280"/>
            <a:ext cx="8604360" cy="6480360"/>
          </a:xfrm>
          <a:prstGeom prst="rect">
            <a:avLst/>
          </a:prstGeom>
          <a:ln w="0">
            <a:noFill/>
          </a:ln>
        </p:spPr>
      </p:pic>
      <p:sp>
        <p:nvSpPr>
          <p:cNvPr id="79"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3B4A92-06B1-492F-B6F7-8FB918750CB2}"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2.1-1.ai"/>
          <p:cNvPicPr/>
          <p:nvPr/>
        </p:nvPicPr>
        <p:blipFill>
          <a:blip r:embed="rId1"/>
          <a:stretch/>
        </p:blipFill>
        <p:spPr>
          <a:xfrm>
            <a:off x="311040" y="152280"/>
            <a:ext cx="8604360" cy="6480360"/>
          </a:xfrm>
          <a:prstGeom prst="rect">
            <a:avLst/>
          </a:prstGeom>
          <a:ln w="0">
            <a:noFill/>
          </a:ln>
        </p:spPr>
      </p:pic>
      <p:sp>
        <p:nvSpPr>
          <p:cNvPr id="81"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E8B21B-EC34-43F6-B9DB-2E5A249D2A8F}"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2.1-1.ai"/>
          <p:cNvPicPr/>
          <p:nvPr/>
        </p:nvPicPr>
        <p:blipFill>
          <a:blip r:embed="rId1"/>
          <a:stretch/>
        </p:blipFill>
        <p:spPr>
          <a:xfrm>
            <a:off x="311040" y="152280"/>
            <a:ext cx="8604360" cy="6480360"/>
          </a:xfrm>
          <a:prstGeom prst="rect">
            <a:avLst/>
          </a:prstGeom>
          <a:ln w="0">
            <a:noFill/>
          </a:ln>
        </p:spPr>
      </p:pic>
      <p:sp>
        <p:nvSpPr>
          <p:cNvPr id="51"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AE1391-B5DF-4B0C-A2D5-A4BBBD8EA3DA}"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3" descr="2.1-1.ai"/>
          <p:cNvPicPr/>
          <p:nvPr/>
        </p:nvPicPr>
        <p:blipFill>
          <a:blip r:embed="rId1"/>
          <a:stretch/>
        </p:blipFill>
        <p:spPr>
          <a:xfrm>
            <a:off x="311040" y="152280"/>
            <a:ext cx="8604360" cy="6480360"/>
          </a:xfrm>
          <a:prstGeom prst="rect">
            <a:avLst/>
          </a:prstGeom>
          <a:ln w="0">
            <a:noFill/>
          </a:ln>
        </p:spPr>
      </p:pic>
      <p:sp>
        <p:nvSpPr>
          <p:cNvPr id="53"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F91D8C-B7E3-460A-8BAF-2DCF529BD8C3}"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2.1-1.ai"/>
          <p:cNvPicPr/>
          <p:nvPr/>
        </p:nvPicPr>
        <p:blipFill>
          <a:blip r:embed="rId1"/>
          <a:stretch/>
        </p:blipFill>
        <p:spPr>
          <a:xfrm>
            <a:off x="311040" y="152280"/>
            <a:ext cx="8604360" cy="6480360"/>
          </a:xfrm>
          <a:prstGeom prst="rect">
            <a:avLst/>
          </a:prstGeom>
          <a:ln w="0">
            <a:noFill/>
          </a:ln>
        </p:spPr>
      </p:pic>
      <p:sp>
        <p:nvSpPr>
          <p:cNvPr id="55"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EC7F1D-3300-4025-A720-654459B6D16C}"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2.1-1.ai"/>
          <p:cNvPicPr/>
          <p:nvPr/>
        </p:nvPicPr>
        <p:blipFill>
          <a:blip r:embed="rId1"/>
          <a:stretch/>
        </p:blipFill>
        <p:spPr>
          <a:xfrm>
            <a:off x="311040" y="152280"/>
            <a:ext cx="8604360" cy="6480360"/>
          </a:xfrm>
          <a:prstGeom prst="rect">
            <a:avLst/>
          </a:prstGeom>
          <a:ln w="0">
            <a:noFill/>
          </a:ln>
        </p:spPr>
      </p:pic>
      <p:sp>
        <p:nvSpPr>
          <p:cNvPr id="57"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7F71CB-715A-42E7-97F0-747794FAB9E4}"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2.1-1.ai"/>
          <p:cNvPicPr/>
          <p:nvPr/>
        </p:nvPicPr>
        <p:blipFill>
          <a:blip r:embed="rId1"/>
          <a:stretch/>
        </p:blipFill>
        <p:spPr>
          <a:xfrm>
            <a:off x="311040" y="152280"/>
            <a:ext cx="8604360" cy="6480360"/>
          </a:xfrm>
          <a:prstGeom prst="rect">
            <a:avLst/>
          </a:prstGeom>
          <a:ln w="0">
            <a:noFill/>
          </a:ln>
        </p:spPr>
      </p:pic>
      <p:sp>
        <p:nvSpPr>
          <p:cNvPr id="59"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BCE624-07B1-4022-A721-05E1701C071F}"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2.1-1.ai"/>
          <p:cNvPicPr/>
          <p:nvPr/>
        </p:nvPicPr>
        <p:blipFill>
          <a:blip r:embed="rId1"/>
          <a:stretch/>
        </p:blipFill>
        <p:spPr>
          <a:xfrm>
            <a:off x="311040" y="152280"/>
            <a:ext cx="8604360" cy="6480360"/>
          </a:xfrm>
          <a:prstGeom prst="rect">
            <a:avLst/>
          </a:prstGeom>
          <a:ln w="0">
            <a:noFill/>
          </a:ln>
        </p:spPr>
      </p:pic>
      <p:sp>
        <p:nvSpPr>
          <p:cNvPr id="61"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DBA1DD-9D8B-482E-90FB-50181330DC0D}"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2.1-1.ai"/>
          <p:cNvPicPr/>
          <p:nvPr/>
        </p:nvPicPr>
        <p:blipFill>
          <a:blip r:embed="rId1"/>
          <a:stretch/>
        </p:blipFill>
        <p:spPr>
          <a:xfrm>
            <a:off x="311040" y="152280"/>
            <a:ext cx="8604360" cy="6480360"/>
          </a:xfrm>
          <a:prstGeom prst="rect">
            <a:avLst/>
          </a:prstGeom>
          <a:ln w="0">
            <a:noFill/>
          </a:ln>
        </p:spPr>
      </p:pic>
      <p:sp>
        <p:nvSpPr>
          <p:cNvPr id="63"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85E598-D0F3-41D0-9373-55423F0D82C7}"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3" descr="2.1-1.ai"/>
          <p:cNvPicPr/>
          <p:nvPr/>
        </p:nvPicPr>
        <p:blipFill>
          <a:blip r:embed="rId1"/>
          <a:stretch/>
        </p:blipFill>
        <p:spPr>
          <a:xfrm>
            <a:off x="311040" y="152280"/>
            <a:ext cx="8604360" cy="6480360"/>
          </a:xfrm>
          <a:prstGeom prst="rect">
            <a:avLst/>
          </a:prstGeom>
          <a:ln w="0">
            <a:noFill/>
          </a:ln>
        </p:spPr>
      </p:pic>
      <p:sp>
        <p:nvSpPr>
          <p:cNvPr id="65"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FAC175-72D4-4C3B-93C2-A00CDDBA6941}"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0T09:21:15Z</dcterms:created>
  <dc:creator>Hoang Anh</dc:creator>
  <dc:description/>
  <dc:language>en-US</dc:language>
  <cp:lastModifiedBy>Nhu Trang</cp:lastModifiedBy>
  <dcterms:modified xsi:type="dcterms:W3CDTF">2017-06-16T01:25:58Z</dcterms:modified>
  <cp:revision>10</cp:revision>
  <dc:subject/>
  <dc:title>1</dc:title>
</cp:coreProperties>
</file>