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59C-5159-4CB5-9669-735E7C7C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505-616F-4124-94C5-445A92D1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FFF57C-03BC-4BB6-9696-F7D9675CAE0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0AF-B009-4D1E-B44E-9C35AA66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745-274A-46E5-8C60-277E6B81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CD0C0B-28C5-4F73-9F53-4243A69A72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694-138E-4C50-BB82-7C050716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B500B4-9A7C-440B-B149-E44809C4E7E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Lim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994-DA7F-4FEA-809A-9FD59A79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368E-9B96-4A1B-91C8-6D5C1582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ime in treatment is one factor, many will never attain stab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to consider all of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0B93-A962-4F69-91E2-0FD32B4E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1039E-EF66-427B-947B-521892CB644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5F9-74E6-441F-8B7C-138144D2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76BFD8-7894-4420-982D-0A6B7356B23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tients not be aware of ALL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F3C-BA82-4230-A7B8-3D8815C4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672-3927-45EF-AD85-7F79ABFE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B770F4-92BA-4F24-ABE4-CCD69CC1F38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arying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ad based 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ative v ab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laces and times better to be unstable than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BBA-2F33-4123-875A-EBB1E982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6E2-E59F-4F97-9BAF-D851B7EE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F04-B9AE-4EDA-BCF6-4005EFA2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D20-7B04-4FDE-AB8B-97D0DD5B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4B8-672F-46E3-BD22-F167078C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958-2BFB-4C10-9835-773B683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F72-13AF-4378-89B2-40951D7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BA-C8BD-4FE6-8B99-182BCE1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C20-5565-411E-A655-8F2A843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E78-2E9F-4B8B-BDD0-7303F1B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430-2A9B-4F19-BDA7-188E119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F37-13AA-483C-9F27-C01F9E9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89ED-C88C-4275-9B22-7219A64C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ư vấn và hỗ trợ trong giai đoạn duy trì liề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ử dụng ổn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định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không có nguy c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55640" y="170028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ử dụng ổn định không có nguy cơ l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tiêm chích chất gây nghiện hoặc sử dụng CDTP &gt; 2-4 lần/thá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khả năng duy trì công việc/học tậ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lệ thuộc/dùng nhiều thuốc hướng thần kh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biểu hiện quá liều khi uống thuốc v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ó hành vi nguy cơ liên quan đến quá liề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ử dụng chất gây ng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ự báo cáo về việc sử dụng chất gây ng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ăm khám lâm sàng (kiểm tra ven, các dấu hiệu lạm dụng rượ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chỉ số thực thể và sức kho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biểu hiện phê/say CGN (kiểm tra với nhân viên tư vấn và nhân viên cấp thuố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àng lọc bằng xét nghiệm nước tiểu ngẫu nhi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Xét nghiệm chức năng gan có thể có ích trong việc theo dõi sử dụng rượ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Chứng thự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85800" y="174456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ff"/>
                </a:solidFill>
                <a:latin typeface="Arial"/>
              </a:rPr>
              <a:t>Sự chứng thực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à rất quan trọng đối với việc đánh giá sử dụng chất gây ngh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u thập thông tin t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ân viên cấp thuốc tại phòng kh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ược s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ư vấn viên, nhân viên quản lý trường hợ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ác nhân viên y tế kh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ệ thống tư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ƯỚC T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28600" y="19447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ó ích khi phối hợp với tự báo cáo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Xét nghiệm ngẫu nhiên sẽ tốt h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ìn chung, một mẫu nước tiểu cần được cung cấp trong vòng 24 giờ kể từ khi yêu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ác hạn ch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Ổn định về thể chất và tâm lý-xã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636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ự báo c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ông tin chứng thực từ gia đình/người quản lý lao động/các cơ sở chăm sóc y tế khá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Đến phòng khám, hành vi và sự hiện diện tại phòng kh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uân thủ điều tr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ần xuất tham gia các buổi đánh giá và tư v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ức độ tham gia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ác lần bị quá liều hoặc bị từ chối cho uống th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 ngại về các vấn đề sức khỏe tâm thầ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Ổn định về nơi ăn chốn 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ệc làm, tham gia vào các quan hệ xã hội và gia đ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vấn đề liên quan đến các hành vi phạm t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ư vấn, truyền đạt các kỹ năng, kỹ thuật giúp người bệnh dự phòng tái nghiệ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ỹ năng từ chố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ỹ năng đối phó với cơn thèm nh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sự căng th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sự nóng gi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tiền b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ân thủ điều trị và củng cố động cơ điều tr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áo dục về tầm quan trọng của tuân thủ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giá định kỳ về tuân thủ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ỏng vấn tạo động lực – duy trì và củng cố động cơ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êu gọi sự tham gia và hỗ trợ của gia đ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en ngợi, khuyến khích những kết quả đã đạt đượ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Đặt mục tiêu và lập kế ho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ục tiêu trung hạn và dà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ệc l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lại niềm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mối quan hệ mới, bạn bè m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 đình, con c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ây dựng kế hoạch người bệnh sẽ thực hiện để đạt được mục tiê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ới sự định hướng và hỗ trợ của tư vấn viên và 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uyến khí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m gia nhóm tự hỗ tr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huyến khích s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ỗ trợ của 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ết lu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y trì là giai đoạn dài nhất trong quá trình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ần hỗ trợ KH để liên tục củng cố và duy trì động cơ điều trị - tuân thủ điều trị - ổn định về thuốc, chất gây nghiện và tâm lý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giải quyết các vấn đề khó khăn, đặt mục tiêu và lập kế hoạch để có cuộc sống ổn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ái hòa nhậ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o gồm việc làm) là 2 nội dung trọng tâm trong giai đoạn nà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dựa trên cơ sở tự nguyện. Tần xuất tư vấn tùy thuộc vào nhu cầu của người bệ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iai đoạn duy trì: Mục tiê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 tính ổn định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úp người bệnh tuân thủ điều trị - củng cố động cơ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ục tiêu trung hạn và dài hạn: việc làm, mối quan hệ, tái hòa nhập cộng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tâm lý, giải thích các vấn đề lo lắng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ai đoạn duy trì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ác hoạt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9440" y="1752480"/>
            <a:ext cx="811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́c buổi đánh giá toàn diện về tuân thủ điều trị và tâm lý xã hộ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 về dự phòng tái ngh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về giải quyết vấn đề và đặt mục tiêu, tác dụng không mong muốn và xử tr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yển gửi các dịch vụ điều trị và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m gia của gia đình, nhóm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ủng cố và duy trì động cơ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228600" y="1219320"/>
            <a:ext cx="8664480" cy="5453640"/>
            <a:chOff x="228600" y="1219320"/>
            <a:chExt cx="8664480" cy="5453640"/>
          </a:xfrm>
        </p:grpSpPr>
        <p:grpSp>
          <p:nvGrpSpPr>
            <p:cNvPr id="54" name="Group 3"/>
            <p:cNvGrpSpPr/>
            <p:nvPr/>
          </p:nvGrpSpPr>
          <p:grpSpPr>
            <a:xfrm>
              <a:off x="1547640" y="1219320"/>
              <a:ext cx="6553080" cy="990360"/>
              <a:chOff x="1547640" y="1219320"/>
              <a:chExt cx="6553080" cy="990360"/>
            </a:xfrm>
          </p:grpSpPr>
          <p:sp>
            <p:nvSpPr>
              <p:cNvPr id="55" name="AutoShape 4"/>
              <p:cNvSpPr/>
              <p:nvPr/>
            </p:nvSpPr>
            <p:spPr>
              <a:xfrm>
                <a:off x="1547640" y="1219320"/>
                <a:ext cx="6553080" cy="990360"/>
              </a:xfrm>
              <a:prstGeom prst="rightArrow">
                <a:avLst>
                  <a:gd name="adj1" fmla="val 53843"/>
                  <a:gd name="adj2" fmla="val 163492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5"/>
              <p:cNvSpPr/>
              <p:nvPr/>
            </p:nvSpPr>
            <p:spPr>
              <a:xfrm>
                <a:off x="1618920" y="1436400"/>
                <a:ext cx="541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Thời gian trong điều tr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6"/>
            <p:cNvGrpSpPr/>
            <p:nvPr/>
          </p:nvGrpSpPr>
          <p:grpSpPr>
            <a:xfrm>
              <a:off x="228600" y="1976400"/>
              <a:ext cx="8664480" cy="4696560"/>
              <a:chOff x="228600" y="1976400"/>
              <a:chExt cx="8664480" cy="4696560"/>
            </a:xfrm>
          </p:grpSpPr>
          <p:sp>
            <p:nvSpPr>
              <p:cNvPr id="58" name="Oval 7"/>
              <p:cNvSpPr/>
              <p:nvPr/>
            </p:nvSpPr>
            <p:spPr>
              <a:xfrm>
                <a:off x="228600" y="2709720"/>
                <a:ext cx="1752480" cy="1066320"/>
              </a:xfrm>
              <a:prstGeom prst="ellipse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ội phạ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2124000" y="2023920"/>
                <a:ext cx="2303640" cy="1142640"/>
              </a:xfrm>
              <a:prstGeom prst="ellipse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ập huấn xin việ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9"/>
              <p:cNvSpPr/>
              <p:nvPr/>
            </p:nvSpPr>
            <p:spPr>
              <a:xfrm>
                <a:off x="4572000" y="2047680"/>
                <a:ext cx="2087640" cy="114264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Gia đì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0"/>
              <p:cNvSpPr/>
              <p:nvPr/>
            </p:nvSpPr>
            <p:spPr>
              <a:xfrm>
                <a:off x="228600" y="4233600"/>
                <a:ext cx="2438280" cy="1066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Nơi ăn chốn ở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Phúc lợi X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1"/>
              <p:cNvSpPr/>
              <p:nvPr/>
            </p:nvSpPr>
            <p:spPr>
              <a:xfrm>
                <a:off x="2411280" y="5000040"/>
                <a:ext cx="1752840" cy="12189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ức khỏ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inh thầ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12"/>
              <p:cNvSpPr/>
              <p:nvPr/>
            </p:nvSpPr>
            <p:spPr>
              <a:xfrm>
                <a:off x="4211640" y="5288760"/>
                <a:ext cx="1752480" cy="99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ức khỏ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hực th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3"/>
              <p:cNvSpPr/>
              <p:nvPr/>
            </p:nvSpPr>
            <p:spPr>
              <a:xfrm>
                <a:off x="6659640" y="5000040"/>
                <a:ext cx="2133360" cy="115200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ử dụng ma tú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14"/>
              <p:cNvSpPr/>
              <p:nvPr/>
            </p:nvSpPr>
            <p:spPr>
              <a:xfrm>
                <a:off x="4716360" y="4136760"/>
                <a:ext cx="1905120" cy="837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ff"/>
                    </a:solidFill>
                    <a:latin typeface="Times New Roman"/>
                  </a:rPr>
                  <a:t>ổn đị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3352680" y="4081320"/>
                <a:ext cx="4343400" cy="0"/>
              </a:xfrm>
              <a:prstGeom prst="line">
                <a:avLst/>
              </a:prstGeom>
              <a:ln w="95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6"/>
              <p:cNvSpPr/>
              <p:nvPr/>
            </p:nvSpPr>
            <p:spPr>
              <a:xfrm>
                <a:off x="1295280" y="537624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7"/>
              <p:cNvSpPr/>
              <p:nvPr/>
            </p:nvSpPr>
            <p:spPr>
              <a:xfrm>
                <a:off x="914400" y="537624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8"/>
              <p:cNvSpPr/>
              <p:nvPr/>
            </p:nvSpPr>
            <p:spPr>
              <a:xfrm>
                <a:off x="2743200" y="324288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9"/>
              <p:cNvSpPr/>
              <p:nvPr/>
            </p:nvSpPr>
            <p:spPr>
              <a:xfrm>
                <a:off x="609480" y="385272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0"/>
              <p:cNvSpPr/>
              <p:nvPr/>
            </p:nvSpPr>
            <p:spPr>
              <a:xfrm>
                <a:off x="7164360" y="622404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1"/>
              <p:cNvSpPr/>
              <p:nvPr/>
            </p:nvSpPr>
            <p:spPr>
              <a:xfrm>
                <a:off x="4572000" y="636840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2"/>
              <p:cNvSpPr/>
              <p:nvPr/>
            </p:nvSpPr>
            <p:spPr>
              <a:xfrm>
                <a:off x="5181480" y="324288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3"/>
              <p:cNvSpPr/>
              <p:nvPr/>
            </p:nvSpPr>
            <p:spPr>
              <a:xfrm>
                <a:off x="2771640" y="629712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24"/>
              <p:cNvSpPr/>
              <p:nvPr/>
            </p:nvSpPr>
            <p:spPr>
              <a:xfrm>
                <a:off x="7524720" y="6224040"/>
                <a:ext cx="304920" cy="3042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25"/>
              <p:cNvSpPr/>
              <p:nvPr/>
            </p:nvSpPr>
            <p:spPr>
              <a:xfrm>
                <a:off x="5562720" y="324288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26"/>
              <p:cNvSpPr/>
              <p:nvPr/>
            </p:nvSpPr>
            <p:spPr>
              <a:xfrm>
                <a:off x="990720" y="3852720"/>
                <a:ext cx="304560" cy="3042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7"/>
              <p:cNvSpPr/>
              <p:nvPr/>
            </p:nvSpPr>
            <p:spPr>
              <a:xfrm>
                <a:off x="3124080" y="324288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28"/>
              <p:cNvSpPr/>
              <p:nvPr/>
            </p:nvSpPr>
            <p:spPr>
              <a:xfrm>
                <a:off x="4859280" y="636840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29"/>
              <p:cNvSpPr/>
              <p:nvPr/>
            </p:nvSpPr>
            <p:spPr>
              <a:xfrm>
                <a:off x="3059280" y="636840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30"/>
              <p:cNvSpPr/>
              <p:nvPr/>
            </p:nvSpPr>
            <p:spPr>
              <a:xfrm>
                <a:off x="3564000" y="3560400"/>
                <a:ext cx="426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AU" sz="2400" spc="-1" strike="noStrike">
                    <a:solidFill>
                      <a:srgbClr val="ffffff"/>
                    </a:solidFill>
                    <a:latin typeface="Times New Roman"/>
                  </a:rPr>
                  <a:t>S     T     A     B     L     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31"/>
              <p:cNvSpPr/>
              <p:nvPr/>
            </p:nvSpPr>
            <p:spPr>
              <a:xfrm>
                <a:off x="6804000" y="1976400"/>
                <a:ext cx="2016000" cy="1655640"/>
              </a:xfrm>
              <a:prstGeom prst="ellipse">
                <a:avLst/>
              </a:prstGeom>
              <a:solidFill>
                <a:srgbClr val="a6f8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32"/>
              <p:cNvSpPr/>
              <p:nvPr/>
            </p:nvSpPr>
            <p:spPr>
              <a:xfrm>
                <a:off x="6948360" y="2481120"/>
                <a:ext cx="1944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huốc điều tr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ác yếu tố góp phần ổn định của bệnh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ài tập thảo luậ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UỐ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ghĩa là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ử Dụng C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ghĩa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âm Lý Xã Hộ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hĩa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hững vấn đề chính của tính ổn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52480" y="20574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uố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ử dụng chất gây nghiệ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11280" y="1557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ều tối ưu đối với bệnh nhân là MỘT LIỀU đủ đ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.  Loại bỏ sự khó chịu của hội chứng cai trong suốt khoảng thời gian giữa các lần uống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. Giúp giảm đáng kể hoặc chấm dứt cơn thèm nh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. Khóa tác động sử dụng dẫn chất thuốc phiện mà không gây ra độc tính hoặc tác dụng phụ đáng kể n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ệnh nhân uống thuốc với liều lượng không đổi trong ít nhất 4 tuần mới được coi là ổn định 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33520" y="2286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Ổn định về thuố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ác dụng của điều trị Methadone liều tối ư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43000" y="4876920"/>
            <a:ext cx="26668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0-40 m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9880" y="3886200"/>
            <a:ext cx="2590920" cy="2286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400800" y="2666880"/>
            <a:ext cx="251460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gt; 60-80 m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8"/>
          <p:cNvSpPr/>
          <p:nvPr/>
        </p:nvSpPr>
        <p:spPr>
          <a:xfrm>
            <a:off x="4724280" y="4038480"/>
            <a:ext cx="762120" cy="18288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0"/>
          <p:cNvCxnSpPr/>
          <p:nvPr/>
        </p:nvCxnSpPr>
        <p:spPr>
          <a:xfrm flipV="1">
            <a:off x="762120" y="2133360"/>
            <a:ext cx="2160" cy="4039200"/>
          </a:xfrm>
          <a:prstGeom prst="straightConnector1">
            <a:avLst/>
          </a:prstGeom>
          <a:ln w="22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TextBox 11"/>
          <p:cNvSpPr/>
          <p:nvPr/>
        </p:nvSpPr>
        <p:spPr>
          <a:xfrm>
            <a:off x="1528200" y="3962520"/>
            <a:ext cx="23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hông có biể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ện 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3873600" y="297180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iảm đáng k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èm nh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6860880" y="175248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ác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hóa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8380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73152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Ổn định về sử dụng chất gây nghiện là gì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04920" y="148428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ó mức độ sử dụng CGN cố định nào được coi là ổn định cho mọi bệnh nhân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Lý tưởng = không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ử dụng chất gây nghiệ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ên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thực tế ổn định về sử dụng CGN có nghĩa là khô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Gây hại cho người sử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Đặt họ vào tình huống nguy c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Ngăn cản tác dụng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ần hướng tớ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hấm dứt hoặc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giảm đáng kể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việc sử dụng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Việc sử dụng không liên quan đến các tác hại khác của chất gây ng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Không sử dụng thuốc sai mục đí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1:44:20Z</dcterms:created>
  <dc:creator>To Nhu</dc:creator>
  <dc:description/>
  <dc:language>en-US</dc:language>
  <cp:lastModifiedBy>Admin</cp:lastModifiedBy>
  <dcterms:modified xsi:type="dcterms:W3CDTF">2013-08-12T10:47:01Z</dcterms:modified>
  <cp:revision>21</cp:revision>
  <dc:subject/>
  <dc:title>Slide 1</dc:title>
</cp:coreProperties>
</file>