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1FA7-0588-47A3-BEC1-02C2688D69E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D8C5-2A0F-4AA4-A9D6-BE111C91956B}"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hiếu bản chiếu này khi học viên đã có mặt đầy đủ trong lớp.</a:t>
            </a:r>
            <a:r>
              <a:rPr b="0"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hào mừng cả lớp và cảm ơn các nhà tài trợ và hỗ trợ tổ chức lớp tập huấn nà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ôi rất lấy làm vinh dự khi được làm việc với các bạn và hỗ trợ các bạn thực hiện công việc hết sức quan trọng là giúp đỡ những người sử dụng Heroin vào chương trình điều trị duy trì Metha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ôi rất cảm kích vì các bạn, dù rất bận rộn, đã thu xếp để có mặt ở đây để học hỏi và chia sẻ kiến thức, kinh nghiệm với nha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ỗi người trong số các bạn ngồi đây đều có những lý do và cảm nhận riêng khi có mặt ở đây. Một số bạn có thể đã có nhiều kinh nghiệm với vai trò là tư vấn viên, các bạn khác có thể mới làm quen với vai trò tư vấn viên, và có cả các bạn là nhân viên hành chính, điều dưỡng của các phòng khám nhưng không trực tiếp tư vấn cho bệnh nhân. </a:t>
            </a:r>
            <a:r>
              <a:rPr b="0" i="1" lang="en-US" sz="1200" spc="-1" strike="noStrike">
                <a:solidFill>
                  <a:srgbClr val="000000"/>
                </a:solidFill>
                <a:latin typeface="Arial"/>
                <a:ea typeface="ＭＳ Ｐゴシック"/>
              </a:rPr>
              <a:t>[Giảng viên sẽ linh hoạt điều chỉnh nội dung này cho phù hợp với thành phần học viên trên thực tế.]</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ột số bạn tự nguyện tham gia; một số bạn khác là do được yêu cầu đến tham dự. Vì vậy, một số bạn có thể rất háo hức được có mặt tại đây, một số bạn có thể thấy hồi hộp, và có những bạn thì không thích vì phải tạm gác công việc bạn đang làm để có mặt tại đâ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ục tiêu của tôi là sau một ngày có mặt ở đây cùng với nhau, các bạn sẽ cảm thấy các bạn đã có một ngày thật hữu ích và đã thu hoạch được một thứ có thể giúp ích cho công việc quan trọng của các bạ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ghiện heroin có thể gây ra những tác hại tới cuộc sống của những người sử dụng, gia đình và bạn bè họ, tới cộng đồng và đất nước. Quá trình phục hồi sau cai nghiện có thể rất khó khăn và đơn độc. Công việc mà các bạn đã và đang làm giúp thiết lập và hỗ trợ liên tục cho những bệnh nhân đem lại những tác động rất lớn và tích cự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ục tiêu của khóa tập huấn này và công việc trong thời gian sắp tới sẽ giúp cho các bạn một số kiến thức cơ bản về tư vấn điều trị lạm dụng ma túy, tuy nhiên đây là lớp định hướng và thời gian chỉ có 3 ngày nên các nội dung liên quan về tư vấn điều trị lạm dụng ma túy chỉ ở mức cơ bản. Các nội dung chuyên sâu về tư vấn điều trị lạm dụng ma túy các bạn sẽ tham gia vào 2 lớp tập huấn: lớp tập huấn cơ bản, lớp tập huấn nâng cao. Ngoài ra, chúng tôi hướng dẫn các kiến thức về tư vấn cho bệnh nhân bắt đầu đăng ký tham gia chương trình cho đến khi bệnh nhân được tham gia điều trị duy trì Methadone. Và chúng tôi cũng mong là sẽ học hỏi được rất nhiều kiến thức và kinh nghiệm của các bạn. Chính các bạn mới là những người có thể hiểu rõ nhất những gì là cần thiết và hiệu quả đối với các bệnh nhâ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ời 2 học viên ngồi cạnh nhau, tự giới thiệu về bản thân và chia sẻ những mong đợi đối với khóa tập huấn này với nhau – 10 ph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ời từng cặp học lên đứng lên giới thiệu tên và mong đợi lẫn nha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CD24-FB12-43CC-89A5-D1641291B504}"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ục tiêu của khóa tập huấ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ùng tham gia với nhau trong 3 ngày tập huấn, các bạn sẽ</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hần I: Một số kiến thức cơ bản về tư vấn điều trị lạm dụng ma tú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Hiểu được các khái niêm cơ bản và nguyên tắc về tư vấn điều trị lạm dụng ma tú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ột số bạn đã có  kinh nghiệm về tư vấn, từ kinh nghiệm của chính bản thân, qua các lớp tập huấn và trong công việc thực tế của các bạn khi làm việc với những bệnh nhân. Chúng tôi sẽ mời các bạn chia sẻ về những nghiệm đó và chúng tôi cũng sẽ chia sẻ một số khái niệm cơ bản và nguyên tắc trong tư vấn ĐTLDMT mà có thể giúp ích cho các bạn khi làm việc với các bệnh nhâ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Hiểu và thực hành các kỹ thuật, kỹ năng tư vấn cơ b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ác bạn sẽ có cơ hội học hỏi và thực hành một số kỹ thuật, kỹ năng cơ bản có thể sẽ giúp ích cho công việc tư vấn hiệu quả.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Hiểu được mô hình các giai đoạn thay đổi hành vi và giải quyết vấn đề</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Đối với bệnh nhân với động cơ thay đổi ở các mức độ khác nhau, PVTĐL có thể được sử dụng để giúp cho họ đạt được và duy trì mục tiêu của họ. Phỏng vấn TĐL là phương pháp trao đổi thông tin trực tiếp, lấy khách hàng làm trung tâm, nhằm mục đích giúp khách hàng tìm hiểu và giải quyết được sự mơ hồ, mâu thuẫn trong tư tưởng của họ về việc sử dụng ma túy và chuyển tới giai đoạn tiếp theo trong quá trình thay đổi hành vi. Chúng tôi sẽ giúp cho các bạn hiểu được các giai đoạn thay đổi hành vi của một người, vì đánh giá xem bệnh nhân đang ở giai đoạn nào là một bước vô cùng quan trọng nhằm giúp xác định xem phương pháp can thiệp nào là thích hợp nhấ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 </a:t>
            </a:r>
            <a:r>
              <a:rPr b="1" lang="en-US" sz="1200" spc="-1" strike="noStrike">
                <a:solidFill>
                  <a:srgbClr val="000000"/>
                </a:solidFill>
                <a:latin typeface="Times New Roman"/>
                <a:ea typeface="ＭＳ Ｐゴシック"/>
              </a:rPr>
              <a:t>Dự phòng tái nghiệ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ự phòng tái nghiện là thành phần vô cùng quan trọng trong quá trình hồi phục sau cai nghiện. Sau khi bệnh nhân đã chuyển sang giai đoạn ổn định và duy trì liều Methadone, họ cần xây dựng ngay những kỹ năng dự phòng tái nghiện trong tương lai. Bệnh nhân cần học cách xác định những nguyên nhân gây ra tái nghiện và giải quyết những nguyên nhân đó mà không bị tái sử dụng heroin hay các loại ma túy khá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E560-CC99-4CF6-A513-4CEA577C6E23}"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ần II: </a:t>
            </a:r>
            <a:r>
              <a:rPr b="1" lang="vi-VN" sz="1200" spc="-1" strike="noStrike">
                <a:solidFill>
                  <a:srgbClr val="000000"/>
                </a:solidFill>
                <a:latin typeface="Times New Roman"/>
              </a:rPr>
              <a:t>Một</a:t>
            </a:r>
            <a:r>
              <a:rPr b="1" lang="en-US" sz="1200" spc="-1" strike="noStrike">
                <a:solidFill>
                  <a:srgbClr val="000000"/>
                </a:solidFill>
                <a:latin typeface="Times New Roman"/>
              </a:rPr>
              <a:t> số kiến thức về tư vấn cho bệnh nhân trong điều trị duy trì Methadone</a:t>
            </a:r>
            <a:r>
              <a:rPr b="0" i="1" lang="en-US" sz="1200" spc="-1" strike="noStrike">
                <a:solidFill>
                  <a:srgbClr val="000000"/>
                </a:solidFill>
                <a:latin typeface="Times New Roman"/>
              </a:rPr>
              <a:t> (trình chiếu từng nội dung trên bảng chiế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 khi tham gia lớp tập huấn định hướng này xong, khi các bạn trở về phòng khám của mình, các bạn sẽ được đến những phòng khám đã triển khai để được quan sát các buổi tư vấn cho bệnh nhân và các bạn sẽ có cơ hội được thực hành các buổi tư vấn cho bệnh nhân tại các phòng khám đ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4F7F6C-B208-40A1-9E6F-56D2ECF89EB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5F7083F2-01F2-46E2-8EC5-2EF98491B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6DDDCB90-443A-4036-87C9-3F004DE1A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73491A92-81A6-4365-8179-503B365719E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40E0C8C0-D0FA-4B93-A6F1-3A812432E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2DDCA788-B748-47E9-9D3F-51B8DA9CD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38FA475C-A207-4CC6-9988-1C39028B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2"/>
          </p:nvPr>
        </p:nvSpPr>
        <p:spPr/>
        <p:txBody>
          <a:bodyPr/>
          <a:p>
            <a:fld id="{0187C29E-50C3-4A8D-95EE-C4124DA8F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38C0ACC2-01C7-441E-8641-050DF66FF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6CC9629-72FC-4848-8B6A-5EDF12297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91D582B9-3765-4812-9C70-4BFA0D505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F8AF066B-ED6F-4A65-9FB4-E4156FAD42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4E44-4C08-4303-AE72-07DF2CD3260E}"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914040"/>
            <a:ext cx="883908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ẬP HUẤN </a:t>
            </a:r>
            <a:br>
              <a:rPr sz="2800"/>
            </a:br>
            <a:r>
              <a:rPr b="1" lang="en-GB" sz="2800" spc="-1" strike="noStrike">
                <a:solidFill>
                  <a:srgbClr val="ffff00"/>
                </a:solidFill>
                <a:latin typeface="Arial"/>
              </a:rPr>
              <a:t>ĐIỀU TRỊ DUY TRÌ METHADONE TRONG TƯ VẤN ĐIỀU TRỊ LẠM DỤNG MA TUÝ </a:t>
            </a:r>
            <a:br>
              <a:rPr sz="2800"/>
            </a:br>
            <a:br>
              <a:rPr sz="2800"/>
            </a:br>
            <a:endParaRPr b="0" lang="en-US" sz="2800" spc="-1" strike="noStrike">
              <a:solidFill>
                <a:srgbClr val="ffff00"/>
              </a:solidFill>
              <a:latin typeface="Times New Roman"/>
            </a:endParaRPr>
          </a:p>
        </p:txBody>
      </p:sp>
      <p:sp>
        <p:nvSpPr>
          <p:cNvPr id="48" name="Line 5"/>
          <p:cNvSpPr/>
          <p:nvPr/>
        </p:nvSpPr>
        <p:spPr>
          <a:xfrm>
            <a:off x="0" y="3505320"/>
            <a:ext cx="9144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ổng quan khóa tập huấn </a:t>
            </a:r>
            <a:endParaRPr b="0" lang="en-US" sz="4400" spc="-1" strike="noStrike">
              <a:solidFill>
                <a:srgbClr val="ffff00"/>
              </a:solidFill>
              <a:latin typeface="Times New Roman"/>
            </a:endParaRPr>
          </a:p>
        </p:txBody>
      </p:sp>
      <p:pic>
        <p:nvPicPr>
          <p:cNvPr id="50" name="Content Placeholder 3" descr=""/>
          <p:cNvPicPr/>
          <p:nvPr/>
        </p:nvPicPr>
        <p:blipFill>
          <a:blip r:embed="rId1"/>
          <a:stretch/>
        </p:blipFill>
        <p:spPr>
          <a:xfrm>
            <a:off x="0" y="1981080"/>
            <a:ext cx="91440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ục đích khóa tập huấn tư vấn</a:t>
            </a:r>
            <a:endParaRPr b="0" lang="en-US" sz="4400" spc="-1" strike="noStrike">
              <a:solidFill>
                <a:srgbClr val="ffff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lvl="2">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imes New Roman"/>
              </a:rPr>
              <a:t>Cuối khóa tập huấn, các anh/chị sẽ: </a:t>
            </a:r>
            <a:endParaRPr b="0" lang="en-US" sz="3200" spc="-1" strike="noStrike">
              <a:solidFill>
                <a:srgbClr val="ffffff"/>
              </a:solidFill>
              <a:latin typeface="Times New Roman"/>
            </a:endParaRPr>
          </a:p>
          <a:p>
            <a:pPr lvl="2">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imes New Roman"/>
              </a:rPr>
              <a:t>Hiểu được  một số kiến thức cơ bản về tư vấn điều trị lạm dụng ma túy </a:t>
            </a:r>
            <a:endParaRPr b="0" lang="en-US" sz="3200" spc="-1" strike="noStrike">
              <a:solidFill>
                <a:srgbClr val="ffffff"/>
              </a:solidFill>
              <a:latin typeface="Times New Roman"/>
            </a:endParaRPr>
          </a:p>
          <a:p>
            <a:pPr lvl="2">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imes New Roman"/>
              </a:rPr>
              <a:t>Một số kiến thức về tư vấn cho bệnh nhân trong điều trị duy trì Methadone</a:t>
            </a:r>
            <a:endParaRPr b="0" lang="en-US" sz="3200" spc="-1" strike="noStrike">
              <a:solidFill>
                <a:srgbClr val="ffffff"/>
              </a:solidFill>
              <a:latin typeface="Times New Roman"/>
            </a:endParaRPr>
          </a:p>
          <a:p>
            <a:pPr lvl="2">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imes New Roman"/>
              </a:rPr>
              <a:t>Anh chị có có thể thực hành kiến thức đã học</a:t>
            </a:r>
            <a:endParaRPr b="0" lang="en-US" sz="3200" spc="-1" strike="noStrike">
              <a:solidFill>
                <a:srgbClr val="ffffff"/>
              </a:solidFill>
              <a:latin typeface="Times New Roman"/>
            </a:endParaRPr>
          </a:p>
          <a:p>
            <a:pPr lvl="2">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61760"/>
            <a:ext cx="7696080" cy="6858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AU" sz="2800" spc="-1" strike="noStrike">
                <a:solidFill>
                  <a:srgbClr val="ffff00"/>
                </a:solidFill>
                <a:latin typeface="Arial Narrow"/>
              </a:rPr>
              <a:t>Phần I: Một số kiến thức cơ bản về tư vấn điều trị lạm dụng ma túy </a:t>
            </a:r>
            <a:br>
              <a:rPr sz="2800"/>
            </a:br>
            <a:br>
              <a:rPr sz="3600"/>
            </a:br>
            <a:br>
              <a:rPr sz="3600"/>
            </a:br>
            <a:endParaRPr b="0" lang="en-US" sz="2800" spc="-1" strike="noStrike">
              <a:solidFill>
                <a:srgbClr val="ffff00"/>
              </a:solidFill>
              <a:latin typeface="Times New Roman"/>
            </a:endParaRPr>
          </a:p>
        </p:txBody>
      </p:sp>
      <p:sp>
        <p:nvSpPr>
          <p:cNvPr id="54" name="PlaceHolder 2"/>
          <p:cNvSpPr>
            <a:spLocks noGrp="1"/>
          </p:cNvSpPr>
          <p:nvPr>
            <p:ph/>
          </p:nvPr>
        </p:nvSpPr>
        <p:spPr>
          <a:xfrm>
            <a:off x="304560" y="1828440"/>
            <a:ext cx="8589960" cy="3886200"/>
          </a:xfrm>
          <a:prstGeom prst="rect">
            <a:avLst/>
          </a:prstGeom>
          <a:noFill/>
          <a:ln w="0">
            <a:noFill/>
          </a:ln>
        </p:spPr>
        <p:txBody>
          <a:bodyPr anchor="t">
            <a:normAutofit/>
          </a:bodyPr>
          <a:p>
            <a:pPr lvl="2" marL="689040" indent="0">
              <a:lnSpc>
                <a:spcPct val="100000"/>
              </a:lnSpc>
              <a:spcBef>
                <a:spcPts val="8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689040" indent="-457200">
              <a:lnSpc>
                <a:spcPct val="100000"/>
              </a:lnSpc>
              <a:spcBef>
                <a:spcPts val="876"/>
              </a:spcBef>
              <a:spcAft>
                <a:spcPts val="524"/>
              </a:spcAft>
              <a:buClr>
                <a:srgbClr val="ff0000"/>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ác khái niệm cơ bản và nguyên tắc trong TVĐTLDMT</a:t>
            </a:r>
            <a:endParaRPr b="0" lang="en-US" sz="2800" spc="-1" strike="noStrike">
              <a:solidFill>
                <a:srgbClr val="ffffff"/>
              </a:solidFill>
              <a:latin typeface="Times New Roman"/>
            </a:endParaRPr>
          </a:p>
          <a:p>
            <a:pPr lvl="2" marL="689040" indent="-457200">
              <a:lnSpc>
                <a:spcPct val="100000"/>
              </a:lnSpc>
              <a:spcBef>
                <a:spcPts val="70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ác kỹ năng tư vấn cơ bản</a:t>
            </a:r>
            <a:endParaRPr b="0" lang="en-US" sz="2800" spc="-1" strike="noStrike">
              <a:solidFill>
                <a:srgbClr val="ffffff"/>
              </a:solidFill>
              <a:latin typeface="Times New Roman"/>
            </a:endParaRPr>
          </a:p>
          <a:p>
            <a:pPr lvl="2" marL="689040" indent="-457200">
              <a:lnSpc>
                <a:spcPct val="100000"/>
              </a:lnSpc>
              <a:spcBef>
                <a:spcPts val="70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Mô hình các giai đoạn thay đổi hành vi và phỏng vấn tạo động lực</a:t>
            </a:r>
            <a:endParaRPr b="0" lang="en-US" sz="2800" spc="-1" strike="noStrike">
              <a:solidFill>
                <a:srgbClr val="ffffff"/>
              </a:solidFill>
              <a:latin typeface="Times New Roman"/>
            </a:endParaRPr>
          </a:p>
          <a:p>
            <a:pPr lvl="2" marL="689040" indent="-457200">
              <a:lnSpc>
                <a:spcPct val="100000"/>
              </a:lnSpc>
              <a:spcBef>
                <a:spcPts val="70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Giải quyết vấn đề và đề ra mục tiêu</a:t>
            </a:r>
            <a:endParaRPr b="0" lang="en-US" sz="2800" spc="-1" strike="noStrike">
              <a:solidFill>
                <a:srgbClr val="ffffff"/>
              </a:solidFill>
              <a:latin typeface="Times New Roman"/>
            </a:endParaRPr>
          </a:p>
          <a:p>
            <a:pPr lvl="2" marL="689040" indent="-457200">
              <a:lnSpc>
                <a:spcPct val="100000"/>
              </a:lnSpc>
              <a:spcBef>
                <a:spcPts val="70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Dự phòng tái nghiện</a:t>
            </a:r>
            <a:endParaRPr b="0" lang="en-US" sz="2800" spc="-1" strike="noStrike">
              <a:solidFill>
                <a:srgbClr val="ffffff"/>
              </a:solidFill>
              <a:latin typeface="Times New Roman"/>
            </a:endParaRPr>
          </a:p>
          <a:p>
            <a:pPr lvl="2" marL="68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68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7696080" cy="6094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1" lang="en-AU" sz="2400" spc="-1" strike="noStrike">
                <a:solidFill>
                  <a:srgbClr val="ffff00"/>
                </a:solidFill>
                <a:latin typeface="Times New Roman"/>
              </a:rPr>
              <a:t>Phần II: Một số kiến thức về tư vấn cho bệnh nhân trong điều trị duy trì Methadone</a:t>
            </a:r>
            <a:br>
              <a:rPr sz="2400"/>
            </a:br>
            <a:br>
              <a:rPr sz="3600"/>
            </a:br>
            <a:br>
              <a:rPr sz="3600"/>
            </a:br>
            <a:endParaRPr b="0" lang="en-US" sz="2400" spc="-1" strike="noStrike">
              <a:solidFill>
                <a:srgbClr val="ffff00"/>
              </a:solidFill>
              <a:latin typeface="Times New Roman"/>
            </a:endParaRPr>
          </a:p>
        </p:txBody>
      </p:sp>
      <p:sp>
        <p:nvSpPr>
          <p:cNvPr id="56" name="PlaceHolder 2"/>
          <p:cNvSpPr>
            <a:spLocks noGrp="1"/>
          </p:cNvSpPr>
          <p:nvPr>
            <p:ph/>
          </p:nvPr>
        </p:nvSpPr>
        <p:spPr>
          <a:xfrm>
            <a:off x="304560" y="1371600"/>
            <a:ext cx="8628120" cy="5827680"/>
          </a:xfrm>
          <a:prstGeom prst="rect">
            <a:avLst/>
          </a:prstGeom>
          <a:noFill/>
          <a:ln w="0">
            <a:noFill/>
          </a:ln>
        </p:spPr>
        <p:txBody>
          <a:bodyPr anchor="t">
            <a:normAutofit/>
          </a:bodyPr>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i trò, trách nhiệm của TVV trong phòng khám Methadone </a:t>
            </a:r>
            <a:endParaRPr b="0" lang="en-US" sz="2800" spc="-1" strike="noStrike">
              <a:solidFill>
                <a:srgbClr val="ffffff"/>
              </a:solidFill>
              <a:latin typeface="Times New Roman"/>
            </a:endParaRPr>
          </a:p>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y trình tư vấn và luồng khách hàng trong PNNT MMT</a:t>
            </a:r>
            <a:endParaRPr b="0" lang="en-US" sz="2800" spc="-1" strike="noStrike">
              <a:solidFill>
                <a:srgbClr val="ffffff"/>
              </a:solidFill>
              <a:latin typeface="Times New Roman"/>
            </a:endParaRPr>
          </a:p>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Đánh giá ban đầu khách hàng trước khi đưa vào điều trị MMT (tư vấn)</a:t>
            </a:r>
            <a:endParaRPr b="0" lang="en-US" sz="2800" spc="-1" strike="noStrike">
              <a:solidFill>
                <a:srgbClr val="ffffff"/>
              </a:solidFill>
              <a:latin typeface="Times New Roman"/>
            </a:endParaRPr>
          </a:p>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ổng quan về tư vấn tuân thủ điều trị Methadone và giáo dục nhóm chuẩn bị điều trị</a:t>
            </a:r>
            <a:endParaRPr b="0" lang="en-US" sz="2800" spc="-1" strike="noStrike">
              <a:solidFill>
                <a:srgbClr val="ffffff"/>
              </a:solidFill>
              <a:latin typeface="Times New Roman"/>
            </a:endParaRPr>
          </a:p>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ư vấn và hỗ trợ cho bệnh nhân trong giai đoạn dò liều, điều chỉnh liều, duy trì liều và giảm liều kết thúc điều trị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2T10:09:46Z</dcterms:created>
  <dc:creator>Stephen Mills</dc:creator>
  <dc:description/>
  <dc:language>en-US</dc:language>
  <cp:lastModifiedBy>user</cp:lastModifiedBy>
  <cp:lastPrinted>2001-05-23T09:41:52Z</cp:lastPrinted>
  <dcterms:modified xsi:type="dcterms:W3CDTF">2015-08-27T01:07:25Z</dcterms:modified>
  <cp:revision>211</cp:revision>
  <dc:subject/>
  <dc:title>No Slide Title</dc:title>
</cp:coreProperties>
</file>