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3939C-BF3F-48CE-88E6-08E4744ECF54}"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13074-1350-4A93-B0E3-B19B34BEB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iảng viên: Chào mừng các học viên đến lớp học và mời học viên ngồi sao cho họ cảm thấy thoải má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ảo đảm là bạn đã sắp xếp phòng học sẵn sàng. Tài liệu để sẵn trên bàn gồm:</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1. Biển tê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2. Bút viết bảng và bút viế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3.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4. Sổ ghi ché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một bài riêng rẽ thì bổ sung câu nói dưới đây trong phần mở đầ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ôn trọng ý kiến nhận xét của các học viên khá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i cũng có quyền nói lên quan điểm của mình</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ếu có câu hỏi học viên có thể hỏi bất cứ lúc nào trong quá trình giả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ắt chuông điện thoại di độ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ỉ kiểm tra email và tin nhắn trong giờ nghỉ giải la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phần tiếp tục của các bài học khác trong khóa học thì </a:t>
            </a:r>
            <a:r>
              <a:rPr b="0" lang="en-US" sz="900" spc="-1" strike="noStrike">
                <a:solidFill>
                  <a:srgbClr val="000000"/>
                </a:solidFill>
                <a:latin typeface="Calibri"/>
              </a:rPr>
              <a:t>NÓ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Đặt mục tiêu là một kĩ thuật giúp đạt được mục tiêu. Tất cả mọi người (doanh nhân thành đạt, sinh viên hay vận động viên) đều có thể sử dụng kĩ thuật này để có được động lực trong ngắn hạn và tầm nhìn dài hạn.</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iệc áp dụng phương pháp đặt mục tiêu một cách có trình tự, hệ thống có thể giúp tăng khả năng đạt được mục tiêu đề ra. Bằng cách đặt mục tiêu thường xuyên, bạn có thể quyết định mình muốn đạt được điều gì và tiến dần từng bước trên con đường đạt tới mục tiêu đó. Bằng cách biết chính xác điều mình muốn đạt được, bạn sẽ biết bạn cần tập trung vào điều gì để có thể đạt được mục tiêu đó.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Bạn cũng có thể đo lường được những thành công và tự hào với những gì mình đạt được. Bạn có thể nhìn thấy sự tiến bộ trong những việc mà trước đây bạn cảm thấy rất khó thực hiện. Từ đó, lòng tự tin của bạn cũng sẽ ngày một tăng lên khi nhận thấy rằng khả năng và năng lực của mình trong việc đạt được những mục tiêu đã đề ra, và trong quá trình chinh phục những mục tiêu mới cao hơn, khó khăn h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951AA-0B64-4894-B89F-3E10BD6E5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hắc lại những nội dung chính của bài.</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ục tiêu ngắn hạn rất quan trọng để thay đổi</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mục tiêu rõ ràng và chia thành các bước nhỏ để thực hiện</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mức độ cam kết qua thang điểm</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à soát tiến độ để điều chỉnh mục tiêu khi cần thiết</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ỗ trợ khách hàng thực các mục tiêu khó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tham gia thảo luận tích cực và đặt các câu hỏi. Hỏi xem họ muốn hỏi điều gì nữa không. Trong trường hợp có câu hỏi, hãy trả lời các câu hỏi liên quan đến nội dung bài giảng này. Những câu liên quan đến bài khác, đề nghị họ ghi lại câu hỏi để trả lời ở bài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9344B-181A-4E0A-AD50-657E53782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các mục tiêu của bài học theo nội dung trên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C23EB-124A-4EAF-8D3C-DC2CB5792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a học viên thành các nhóm 4 - 5 người. Các nhóm có 10 phút để thảo luận về những câu hỏi ghi trên bản chiếu. Yêu cầu mỗi nhóm cử 1 người lên trình bày kết quả thảo luận trước lớp và dành cho mỗi nhóm vài phút để họ trình bày.</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69E55-7AB5-4456-82BF-632606E10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Xác định được những việc có thể thực hiện được trong thời gian trước mắt có thể khiến cho khách hàng dễ dàng nhận ra con đường tiếp tục đi phía trước. Thông thường, người ta thường do dự trước một công việc vì nghĩ rằng việc đó là quá sức đối với họ. Người ta tự bó tay mình vì thấy việc gì dường như cũng quá lớn và quá khó. Họ thực sự cảm thấy mình không thể thành công trong bất kì công việc nà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sẽ cảm thấy tự tin hơn nếu như họ có thể đạt được một thành công nho nhỏ. Khi đó, bạn có thể tiếp tục yêu cầu họ thực hiện những công việc dần phức tạp và khó khăn hơ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rằng mục tiêu ngắn hạn cần phải SMART. Điều này có nghĩa là bạn có thể đo lường được kết quả công việc của khách hàng và cho ý kiến nhận xét về những tiến bộ đạt được. Điều đó sẽ tiếp tục củng cố thành tựu và khiến khách hàng cam kết mạnh mẽ hơ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6D633-7AA7-4AB8-87A1-CEEB7867B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Mục tiêu ngắn hạn cần phải phù hợp với giai đoạn thay đổi hành vi của khách hàng. Ví dụ, khi khách hàng đang ở giai đoạn dự định thì họ vẫn còn mơ hồ lưỡng lự về việc có thay đổi hành vi hay không. Chính vì vậy, đối với những khách hàng ở giai đoạn này, cần phải thảo luận với họ để xây dựng những mục tiêu nhỏ, khiêm tốn và thực tiễn để họ có thể đạt được. Mục tiêu ngắn hạn có thể chính là việc làm thế nào để giúp họ chuyển dịch từ giai đoạn dự định sang giai đoạn hành động. Để làm được việc này đòi hỏi phải tuân thủ các nguyên tắc phỏng vấn tạo động lực và khách hàng cần phải đồng ý rằng thay đổi hành vi là một mục tiêu ngắn hạn quan trọng.</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Một điều quan trọng trong quá trình xây dựng mục tiêu ngắn hạn là khách hàng phải luôn là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gười ra quyết định cuối cùng. Điều gì họ cho là quan trọng cần phải đạt được thì đó chính là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yết định cuối cùng về mục tiêu. Tuy nhiên, tư vấn viên cũng có một vai trò quan trọng tro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á trình ra quyết định. Một số mục tiêu khách hàng lựa chọn có thể không thực tiễn hoặc có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hể nguy hiểm có khả năng dẫn tới tái nghiện. Khách hàng cần tới sự khôn ngoan của tư vấn viên để giúp họ nhận biết được điều gì là thực tiễn. Tư vấn viên rất cần giúp khách hàng hiểu rõ hơn về những nguy cơ tiềm ẩn.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a:t>
            </a:r>
            <a:r>
              <a:rPr b="0" lang="en-US" sz="1100" spc="-1" strike="noStrike">
                <a:solidFill>
                  <a:srgbClr val="000000"/>
                </a:solidFill>
                <a:latin typeface="Calibri"/>
              </a:rPr>
              <a:t>: Xem ví dụ trong Tài liệu phát tay 5.3-1 về đặt mục tiêu và giải quyết vấn đề.</a:t>
            </a: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CAB1E-3F00-480A-8741-51041877B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Sử dụng những thông tin dưới đây để giải thích về phương pháp SMART khi xác lập mục tiêu. </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Một mục tiêu ngắn hạn tốt cần phải SMART (nghĩa đen của tiếng Anh là Thông Minh, đồng thời cũng là những chữ cái đầu của những từ sa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pecific - Cụ thể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asurable - Có thể đo lường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tainable - Có thể đạt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listic - Thực tiễn và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imebound - có khung thời gia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ụ thể: </a:t>
            </a:r>
            <a:r>
              <a:rPr b="0" lang="en-US" sz="600" spc="-1" strike="noStrike">
                <a:solidFill>
                  <a:srgbClr val="000000"/>
                </a:solidFill>
                <a:latin typeface="Calibri"/>
              </a:rPr>
              <a:t>Một mục tiêu cụ thể sẽ dễ có khả năng thực hiện thành công hơn là một mục tiêu chung chung. Để có thể xây dựng được một mục tiêu cụ thể, bạn cần phải trả lời những câu hỏi sa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Ai là người tham g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iều gì:</a:t>
            </a:r>
            <a:r>
              <a:rPr b="0" lang="en-US" sz="600" spc="-1" strike="noStrike">
                <a:solidFill>
                  <a:srgbClr val="000000"/>
                </a:solidFill>
                <a:latin typeface="Calibri"/>
              </a:rPr>
              <a:t>	</a:t>
            </a:r>
            <a:r>
              <a:rPr b="0" lang="en-US" sz="600" spc="-1" strike="noStrike">
                <a:solidFill>
                  <a:srgbClr val="000000"/>
                </a:solidFill>
                <a:latin typeface="Calibri"/>
              </a:rPr>
              <a:t>Tôi muốn đạt được điều gì?</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Ở đâu:</a:t>
            </a:r>
            <a:r>
              <a:rPr b="0" lang="en-US" sz="600" spc="-1" strike="noStrike">
                <a:solidFill>
                  <a:srgbClr val="000000"/>
                </a:solidFill>
                <a:latin typeface="Calibri"/>
              </a:rPr>
              <a:t>	</a:t>
            </a:r>
            <a:r>
              <a:rPr b="0" lang="en-US" sz="600" spc="-1" strike="noStrike">
                <a:solidFill>
                  <a:srgbClr val="000000"/>
                </a:solidFill>
                <a:latin typeface="Calibri"/>
              </a:rPr>
              <a:t>Xác định một địa điểm</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i nào:</a:t>
            </a:r>
            <a:r>
              <a:rPr b="0" lang="en-US" sz="600" spc="-1" strike="noStrike">
                <a:solidFill>
                  <a:srgbClr val="000000"/>
                </a:solidFill>
                <a:latin typeface="Calibri"/>
              </a:rPr>
              <a:t>	</a:t>
            </a:r>
            <a:r>
              <a:rPr b="0" lang="en-US" sz="600" spc="-1" strike="noStrike">
                <a:solidFill>
                  <a:srgbClr val="000000"/>
                </a:solidFill>
                <a:latin typeface="Calibri"/>
              </a:rPr>
              <a:t>Xác định một khung thời gia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ái nào:</a:t>
            </a:r>
            <a:r>
              <a:rPr b="0" lang="en-US" sz="600" spc="-1" strike="noStrike">
                <a:solidFill>
                  <a:srgbClr val="000000"/>
                </a:solidFill>
                <a:latin typeface="Calibri"/>
              </a:rPr>
              <a:t>	</a:t>
            </a:r>
            <a:r>
              <a:rPr b="0" lang="en-US" sz="600" spc="-1" strike="noStrike">
                <a:solidFill>
                  <a:srgbClr val="000000"/>
                </a:solidFill>
                <a:latin typeface="Calibri"/>
              </a:rPr>
              <a:t>Xác định những yêu cầu và trở ngại</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ại sao:</a:t>
            </a:r>
            <a:r>
              <a:rPr b="0" lang="en-US" sz="600" spc="-1" strike="noStrike">
                <a:solidFill>
                  <a:srgbClr val="000000"/>
                </a:solidFill>
                <a:latin typeface="Calibri"/>
              </a:rPr>
              <a:t>	</a:t>
            </a:r>
            <a:r>
              <a:rPr b="0" lang="en-US" sz="600" spc="-1" strike="noStrike">
                <a:solidFill>
                  <a:srgbClr val="000000"/>
                </a:solidFill>
                <a:latin typeface="Calibri"/>
              </a:rPr>
              <a:t>Những lí do, mục đích hoặc lợi ích cụ thể khiến phải đạt được mục tiêu nà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í dụ: một mục tiêu chung chung là "Có cơ thể gọn đẹp". Một mục tiêu cụ thể cần phải là: "Tham gia một câu lạc bộ sức khỏe và tập thể dục 3 ngày mỗi tuầ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hể đo lường được: </a:t>
            </a:r>
            <a:r>
              <a:rPr b="0" lang="en-US" sz="600" spc="-1" strike="noStrike">
                <a:solidFill>
                  <a:srgbClr val="000000"/>
                </a:solidFill>
                <a:latin typeface="Calibri"/>
              </a:rPr>
              <a:t>Xây dựng những tiêu chí cụ thể để đo lường tiến độ thực hiện của mỗi mục tiêu đã đề ra. Khi bạn đo lường tiến độ thực hiện, bạn luôn luôn gắn bó với nhiệm vụ, luôn thực hiện các bước theo đúng thời gian đã định, và đón nhận cảm giác hân hoan khi đạt được thành công, và thành công đó lại thúc đẩy bạn tiếp tục có thêm nỗ lực để đạt mục tiêu cuối cù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ể đánh giá liệu mục tiêu của bạn có đo lường được hay không, bạn có thể đặt những câu hỏi như: "Bao nhiêu?", "Làm thế nào để tôi biết khi nào thì mục tiêu đó đã đạt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hể đạt được: </a:t>
            </a:r>
            <a:r>
              <a:rPr b="0" lang="en-US" sz="600" spc="-1" strike="noStrike">
                <a:solidFill>
                  <a:srgbClr val="000000"/>
                </a:solidFill>
                <a:latin typeface="Calibri"/>
              </a:rPr>
              <a:t>Khi bạn đã xác định được đâu là những mục tiêu quan trọng nhất đối với bản thân thì cũng là lúc bạn phải suy nghĩ về việc làm thế nào để biến mục tiêu đó thành hiện thực. Bạn cần phải có thái độ, năng lực, kĩ năng và khả năng tài chính để thực hiện kế hoạch. Bạn bắt đầu nhận thấy rằng trước đây bạn đã bỏ lỡ những cơ hội có thể giúp bạn tiến gần đến khả năng thực hiện thành công mục tiêu mong muốn.</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đạt được hầu hết các mục tiêu mong muốn nếu bạn lên kế hoạch các bước cần thực hiện một cách khôn ngoan và đề ra một khung thời gian cho phép bạn thực hiện các bước đó. Những mục tiêu tưởng chừng như quá xa và ngoài tầm tay cuối cùng cũng dần dần trở nên gần hơn và có thể đạt được, không phải vì mục tiêu đó tự tiến gần tới bạn mà là vì bạn đã trưởng thành và có thể vươn được tới các mục tiêu đó. Khi chúng ta liệt kê ra các mục tiêu mong muốn đạt được trong cuộc sống thì cũng là lúc chúng ta xây dựng hình ảnh của chính mình. Bạn tự nhìn nhận rằng bạn là người xứng đáng với những mục tiêu này, và từ cách nhìn nhận đó bạn hình thành những phẩm chất và nhân cách để biến bạn trở thành một người có khả năng sở hữu những mục tiêu đã được đề r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iều quan trọng là cần đảm bảo rằng mục tiêu vừa phải có thể đạt được vừa phải có sự đồng ý của cả hai bên. Khách hàng và tư vấn viên thường không thống nhất về mức độ hợp lí của mục tiêu, vì thế cần thương lượng với  nhau để đi đến thống nhấ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ính thực tiễn: </a:t>
            </a:r>
            <a:r>
              <a:rPr b="0" lang="en-US" sz="600" spc="-1" strike="noStrike">
                <a:solidFill>
                  <a:srgbClr val="000000"/>
                </a:solidFill>
                <a:latin typeface="Calibri"/>
              </a:rPr>
              <a:t>Để có tính thực tiễn, một mục tiêu cần phải thể hiện một cái đích mà bạn phải vừa sẵn sàng, vừa có khả năng đạt tới. Mục tiêu có thể rất tham vọng nhưng vẫn có tính thực tiễn và bạn là người duy nhất có thể quyết định mục tiêu của bạn cao và khó ở mức độ nào. Nhưng đồng thời cũng phải đảm bảo rằng mỗi mục tiêu cần phải thể hiện một sự tiến triển đáng kể. Một mục tiêu cao đôi khi lại có thể dễ đạt được hơn so với một mục tiêu thấp bởi vì một mục tiêu đầy tham vọng có thể khiến chúng ta có thêm động lực để phấn đấ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ục tiêu của bạn có thể có tính thực tiễn nếu bạn thực sự tin rằng mục tiêu đó có thể thực hiện được. Một số cách khác có thể giúp bạn đánh giá tính thực tiễn của mục tiêu là xem lại xem trước đây bạn đã thực hiện thành công một mục tiêu nào tương tự hay chưa, hoặc tự hỏi bản thân xem để đạt được mục tiêu đó thì cần phải có những điều kiện gì.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khung thời gian: </a:t>
            </a:r>
            <a:r>
              <a:rPr b="0" lang="en-US" sz="600" spc="-1" strike="noStrike">
                <a:solidFill>
                  <a:srgbClr val="000000"/>
                </a:solidFill>
                <a:latin typeface="Calibri"/>
              </a:rPr>
              <a:t>Một mục tiêu cần phải được thực hiện trong một khung thời gian nhất định. Nếu không có một khung thời gian thì chúng ta sẽ không cảm thấy là cần phải bắt tay vào việc ngay lập tức. Ví dụ, nếu bạn muốn giảm đi 4kg nhưng lại không đặt ra một thời điểm cụ thể để giảm được mức đó, thì bạn sẽ thiếu động lực để thực hiện. Nhưng nếu bạn ấn định vào một khung thời gian cụ thể "đến ngày 1 tháng 5", thì có nghĩa là bạn đã rất rõ là mình có bao nhiêu thời gian từ giờ đến lúc đó, và bạn biết khi nào cần bắt tay vào việc.</a:t>
            </a:r>
            <a:endParaRPr b="0" lang="en-US" sz="6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36F9A-BA3B-4650-848D-E282A7AA3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Sử dụng những thông tin dưới đây để hướng dẫn cho học viên về phương pháp đặt mục tiêu.</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iệt kê các mục tiêu và lựa chọn 1 hoặc 2 mục tiêu để thực hiện</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Yêu cầu khách hàng suy nghĩ về tất cả những mục tiêu mà họ muốn đạt được trong năm tới. Hãy đặt những câu hỏi như: “Bạn muốn thực hiện thành công điều gì?” và “Sau một năm nữa bạn muốn mình sẽ là người như thế nào?”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ếu ban đầu khách hàng gặp khó khăn trong việc đưa ra mục tiêu thì hãy hỏi xem có điều gì trong cuộc sống mà họ muốn thay đổi không, hay có điều gì mà họ chưa hài lòng không?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Viết lên giấy những mục tiêu mà khách hàng đề cập tới. Cố gắng viết những mục tiêu ở thể khẳng định: “Tôi sẽ thi đỗ”, chứ không nên viết ở thể phủ định: “Tôi sẽ không trượ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au khi dành thời gian suy nghĩ về những mục tiêu này, khách hàng có thể sẽ thấy rằng họ có quá nhiều mục tiêu khác nhau cần phải đạt được – nếu quả có thế thì thật là tuyệt! Tuy nhiên, nếu cố gắng đạt được tất cả các mục tiêu này cùng một lúc thì khách hàng sẽ có rất ít thời gian và nỗ lực dành cho mỗi mục tiêu, và họ sẽ cảm thấy quá tải. Vì vậy, hãy nhìn lại danh sách những mục tiêu đó và lập thứ tự ưu tiên. Trước mắt, hãy chỉ tập trung vào 1 hoặc 2 mục tiêu thôi.</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i suy nghĩ và lựa chọn lấy một mục tiêu để thực hiện, chúng ta cần phải thực tế. Để việc lập mục tiêu này có hiệu quả thì những mục tiêu đặt ra cần phải có khả năng đạt được. Một số mục tiêu thực sự không khả thi – ví dụ, nhiều người muốn tìm được công việc có thu nhập một trăm triệu đồng trong năm nay nhưng rõ ràng đây không phải là mục tiêu thực tế!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ực ra cũng khó để có thể xác định một số mục tiêu là có thực tiễn hay không. Bạn có thể giúp đỡ khách hàng trong quá trình ra quyết định bằng cách trao đổi cởi mở với họ. Đặt mục tiêu ở mức độ phù hợp nghĩa là đảm bảo mục tiêu đó không quá khó mà cũng không quá dễ. Cách lí tưởng nhất là đặt ra những mục tiêu hơi khó hơn so với khả năng hiện tại của khách hàng một chút, nhưng không quá khó đến mức không có hi vọng thành công. Thường thì chúng ta phải trải nghiệm nhiều mới có thể lập được mục tiêu một cách phù hợp - và thường thì cần phải điều chỉnh mục tiêu nếu bắt đầu cảm thấy mục tiêu đó quá khó hoặc quá dễ. Không nên thất vọng khi thấy khách hàng phải điều chỉnh mục tiêu, vì đó chính là một phần của quá trình đặt mục tiêu.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Xác định mục tiêu rõ ràng và chia thành các bước nhỏ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i khách hàng đã chọn được 1 hoặc 2 mục tiêu thực tiễn và có thể đạt được, họ sẽ cần định nghĩa rõ ràng những mục tiêu ấy là gì. Đề nghị khách hàng xác định mục tiêu thật chính xác – bao gồm thông tin về ngày, thời gian và khối lượng công việc để khách hàng có thể tự đo lường thành quả của mình.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ia nhỏ mỗi mục tiêu thành các bước nhỏ chính xác. Những bước này cần phải đạt được trong thời gian ngắn - một vài ngày hoặc vài tuầ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ếu được, hãy cố gắng làm cho các bước thực hiện trở nên vui vẻ, thú vị. Có nhiều cách để cùng đạt được một mục tiêu, vì thế hãy lựa chọn những cách thoải mái hơn nếu có thể.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3) Xem xét kết quả đạt được và điều chỉnh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ên thường xuyên xem xét tiến triển việc thực hiện mục tiêu của khách hàng. Tìm ra và ghi lại bất kì vấn đề hoặc trở ngại nào mà khách hàng gặp phả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ần áp dụng kĩ năng giải quyết vấn đề để xác định xem liệu có phương pháp nào giúp giải quyết những trở ngại đó để khách hàng có thể tiếp tục chinh phục mục tiêu như đã định không. Trong một số trường hợp, có thể không dễ dàng tìm được một giải pháp rõ ràng cho vấn đề, khi đó bạn sẽ phải điều chỉnh các bước thực hiện, hoặc điều chỉnh chính bản thân mục tiêu.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ông nên thất vọng nếu khách hàng phải điều chỉnh lại mục tiêu - điều này hoàn toàn có thể xảy ra và nó cho thấy là bạn đã áp dụng đúng phương pháp đặt mục tiêu. Trong khi xem xét tiến trình thực hiện của khách hàng, hãy ghi chú xem liệu họ có đạt được mục tiêu một cách quá dễ dàng hay không, hay tiến bộ có quá chậm, quá khó, hay không có tiến bộ nào hay không. Không có thất bại trong việc đặt mục tiêu - chỉ cần điều chỉnh tiến trình hoặc mức độ của mục tiêu mà thô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ồng thời cũng cần nhớ là mục tiêu của bạn có thể thay đổi theo thời gian. Những mục tiêu đặt ra cách đây 6 tháng có thể không còn là mục tiêu của hôm nay nữa. Nếu mục tiêu không còn phù hợp nữa thì chỉ cần thay đổi hoặc từ bỏ nó. Đặt mục tiêu là một công cụ nhằm giúp khách hàng đạt được điều họ mong muốn đạt đượ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4) Hài lòng với nỗ lực và kết quả đạt đượ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ách hàng cần phải hưởng thụ thành công khi chinh phục được mục tiêu. Hãy chúc mừng họ – họ đã nỗ lực vất vả và cần cảm thấy tự hào về điều đó!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hưng thành công sẽ không đến nếu khách hàng không nỗ lực và không vượt qua được từng bước nhỏ trong quá trình tiến tới mục tiêu. Vì thế, bất kì khi nào họ thực hiện thành công một bước hoặc đã có những nỗ lực rất lớn, hãy dành thời gian để họ vui sướng vì đã làm được như vậy.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1F233-461D-42A3-8EB2-E1DEF4BD3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Bạn có thể sử dụng ”thước đo sự sẵn sàng” để xác định xem trong suy nghĩ của khách hàng thì việc cam kết thực hiện mục tiêu có tầm quan trọng như thế nào. Đây chỉ là một thang điểm được chia ra thành các mức từ 1 đến 10 mà trên đó 1 có nghĩa là không sẵn sàng và 10 là rất sẵn sàng. Hãy yêu cầu khách hàng tự đánh giá về mức độ quan trọng của việc thay đổi hành vi sử dụng ma túy đối với bản thân họ.</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ói với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ính trên thang điểm từ 1 đến 10, trong đó 1 có nghĩa là bạn không sẵn sàng thay đổi và 10 là bạn thiết tha muốn thay đổi, thì bạn tự đánh giá bản thân bạn được mấy điể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1</a:t>
            </a:r>
            <a:r>
              <a:rPr b="1" lang="en-US" sz="800" spc="-1" strike="noStrike">
                <a:solidFill>
                  <a:srgbClr val="000000"/>
                </a:solidFill>
                <a:latin typeface="Calibri"/>
              </a:rPr>
              <a:t>	</a:t>
            </a:r>
            <a:r>
              <a:rPr b="1" lang="en-US" sz="800" spc="-1" strike="noStrike">
                <a:solidFill>
                  <a:srgbClr val="000000"/>
                </a:solidFill>
                <a:latin typeface="Calibri"/>
              </a:rPr>
              <a:t>2</a:t>
            </a:r>
            <a:r>
              <a:rPr b="1" lang="en-US" sz="800" spc="-1" strike="noStrike">
                <a:solidFill>
                  <a:srgbClr val="000000"/>
                </a:solidFill>
                <a:latin typeface="Calibri"/>
              </a:rPr>
              <a:t>	</a:t>
            </a:r>
            <a:r>
              <a:rPr b="1" lang="en-US" sz="800" spc="-1" strike="noStrike">
                <a:solidFill>
                  <a:srgbClr val="000000"/>
                </a:solidFill>
                <a:latin typeface="Calibri"/>
              </a:rPr>
              <a:t>3</a:t>
            </a:r>
            <a:r>
              <a:rPr b="1" lang="en-US" sz="800" spc="-1" strike="noStrike">
                <a:solidFill>
                  <a:srgbClr val="000000"/>
                </a:solidFill>
                <a:latin typeface="Calibri"/>
              </a:rPr>
              <a:t>	</a:t>
            </a:r>
            <a:r>
              <a:rPr b="1" lang="en-US" sz="800" spc="-1" strike="noStrike">
                <a:solidFill>
                  <a:srgbClr val="000000"/>
                </a:solidFill>
                <a:latin typeface="Calibri"/>
              </a:rPr>
              <a:t>4</a:t>
            </a:r>
            <a:r>
              <a:rPr b="1" lang="en-US" sz="800" spc="-1" strike="noStrike">
                <a:solidFill>
                  <a:srgbClr val="000000"/>
                </a:solidFill>
                <a:latin typeface="Calibri"/>
              </a:rPr>
              <a:t>	</a:t>
            </a:r>
            <a:r>
              <a:rPr b="1" lang="en-US" sz="800" spc="-1" strike="noStrike">
                <a:solidFill>
                  <a:srgbClr val="000000"/>
                </a:solidFill>
                <a:latin typeface="Calibri"/>
              </a:rPr>
              <a:t>5</a:t>
            </a:r>
            <a:r>
              <a:rPr b="1" lang="en-US" sz="800" spc="-1" strike="noStrike">
                <a:solidFill>
                  <a:srgbClr val="000000"/>
                </a:solidFill>
                <a:latin typeface="Calibri"/>
              </a:rPr>
              <a:t>	</a:t>
            </a:r>
            <a:r>
              <a:rPr b="1" lang="en-US" sz="800" spc="-1" strike="noStrike">
                <a:solidFill>
                  <a:srgbClr val="000000"/>
                </a:solidFill>
                <a:latin typeface="Calibri"/>
              </a:rPr>
              <a:t>6</a:t>
            </a:r>
            <a:r>
              <a:rPr b="1" lang="en-US" sz="800" spc="-1" strike="noStrike">
                <a:solidFill>
                  <a:srgbClr val="000000"/>
                </a:solidFill>
                <a:latin typeface="Calibri"/>
              </a:rPr>
              <a:t>	</a:t>
            </a:r>
            <a:r>
              <a:rPr b="1" lang="en-US" sz="800" spc="-1" strike="noStrike">
                <a:solidFill>
                  <a:srgbClr val="000000"/>
                </a:solidFill>
                <a:latin typeface="Calibri"/>
              </a:rPr>
              <a:t>7</a:t>
            </a:r>
            <a:r>
              <a:rPr b="1" lang="en-US" sz="800" spc="-1" strike="noStrike">
                <a:solidFill>
                  <a:srgbClr val="000000"/>
                </a:solidFill>
                <a:latin typeface="Calibri"/>
              </a:rPr>
              <a:t>	</a:t>
            </a:r>
            <a:r>
              <a:rPr b="1" lang="en-US" sz="800" spc="-1" strike="noStrike">
                <a:solidFill>
                  <a:srgbClr val="000000"/>
                </a:solidFill>
                <a:latin typeface="Calibri"/>
              </a:rPr>
              <a:t>8</a:t>
            </a:r>
            <a:r>
              <a:rPr b="1" lang="en-US" sz="800" spc="-1" strike="noStrike">
                <a:solidFill>
                  <a:srgbClr val="000000"/>
                </a:solidFill>
                <a:latin typeface="Calibri"/>
              </a:rPr>
              <a:t>	</a:t>
            </a:r>
            <a:r>
              <a:rPr b="1" lang="en-US" sz="800" spc="-1" strike="noStrike">
                <a:solidFill>
                  <a:srgbClr val="000000"/>
                </a:solidFill>
                <a:latin typeface="Calibri"/>
              </a:rPr>
              <a:t>9</a:t>
            </a:r>
            <a:r>
              <a:rPr b="1" lang="en-US" sz="800" spc="-1" strike="noStrike">
                <a:solidFill>
                  <a:srgbClr val="000000"/>
                </a:solidFill>
                <a:latin typeface="Calibri"/>
              </a:rPr>
              <a:t>	</a:t>
            </a:r>
            <a:r>
              <a:rPr b="1" lang="en-US" sz="800" spc="-1" strike="noStrike">
                <a:solidFill>
                  <a:srgbClr val="000000"/>
                </a:solidFill>
                <a:latin typeface="Calibri"/>
              </a:rPr>
              <a:t>10</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ông muốn thay đổi</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Rất muốn thay đổi</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Thước đo sự sẵn sàng” có thể được sử dụng trong buổi tư vấn để khuyến khích khách hàng nói về lí do họ muốn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Có thể dùng thang điểm tương tự như trên để đánh giá sự tự tin của khách hàng khi thực hiện một công việc. Thước đo sự tự tin có thể được sử dụng với các khách hàng đã xác định được tầm quan trọng của việc thay đổi hành vi của họ hoặc có thể được sử dụng như là một câu hỏi giả định để động viên khách hàng nói về việc họ sẽ làm thế nào để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ói với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Nếu như bạn quyết định thực hiện công việc này thì bạn thấy là mình tự tin đến đâu? Tính theo thang điểm từ 1 đến 10, trong đó 1 có nghĩa là không hề tự tin và 10 là rất tự tin, thì bạn tự đánh giá bản thân bạn được mấy điể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1</a:t>
            </a:r>
            <a:r>
              <a:rPr b="1" lang="en-US" sz="800" spc="-1" strike="noStrike">
                <a:solidFill>
                  <a:srgbClr val="000000"/>
                </a:solidFill>
                <a:latin typeface="Calibri"/>
              </a:rPr>
              <a:t>	</a:t>
            </a:r>
            <a:r>
              <a:rPr b="1" lang="en-US" sz="800" spc="-1" strike="noStrike">
                <a:solidFill>
                  <a:srgbClr val="000000"/>
                </a:solidFill>
                <a:latin typeface="Calibri"/>
              </a:rPr>
              <a:t>2</a:t>
            </a:r>
            <a:r>
              <a:rPr b="1" lang="en-US" sz="800" spc="-1" strike="noStrike">
                <a:solidFill>
                  <a:srgbClr val="000000"/>
                </a:solidFill>
                <a:latin typeface="Calibri"/>
              </a:rPr>
              <a:t>	</a:t>
            </a:r>
            <a:r>
              <a:rPr b="1" lang="en-US" sz="800" spc="-1" strike="noStrike">
                <a:solidFill>
                  <a:srgbClr val="000000"/>
                </a:solidFill>
                <a:latin typeface="Calibri"/>
              </a:rPr>
              <a:t>3</a:t>
            </a:r>
            <a:r>
              <a:rPr b="1" lang="en-US" sz="800" spc="-1" strike="noStrike">
                <a:solidFill>
                  <a:srgbClr val="000000"/>
                </a:solidFill>
                <a:latin typeface="Calibri"/>
              </a:rPr>
              <a:t>	</a:t>
            </a:r>
            <a:r>
              <a:rPr b="1" lang="en-US" sz="800" spc="-1" strike="noStrike">
                <a:solidFill>
                  <a:srgbClr val="000000"/>
                </a:solidFill>
                <a:latin typeface="Calibri"/>
              </a:rPr>
              <a:t>4</a:t>
            </a:r>
            <a:r>
              <a:rPr b="1" lang="en-US" sz="800" spc="-1" strike="noStrike">
                <a:solidFill>
                  <a:srgbClr val="000000"/>
                </a:solidFill>
                <a:latin typeface="Calibri"/>
              </a:rPr>
              <a:t>	</a:t>
            </a:r>
            <a:r>
              <a:rPr b="1" lang="en-US" sz="800" spc="-1" strike="noStrike">
                <a:solidFill>
                  <a:srgbClr val="000000"/>
                </a:solidFill>
                <a:latin typeface="Calibri"/>
              </a:rPr>
              <a:t>5</a:t>
            </a:r>
            <a:r>
              <a:rPr b="1" lang="en-US" sz="800" spc="-1" strike="noStrike">
                <a:solidFill>
                  <a:srgbClr val="000000"/>
                </a:solidFill>
                <a:latin typeface="Calibri"/>
              </a:rPr>
              <a:t>	</a:t>
            </a:r>
            <a:r>
              <a:rPr b="1" lang="en-US" sz="800" spc="-1" strike="noStrike">
                <a:solidFill>
                  <a:srgbClr val="000000"/>
                </a:solidFill>
                <a:latin typeface="Calibri"/>
              </a:rPr>
              <a:t>6</a:t>
            </a:r>
            <a:r>
              <a:rPr b="1" lang="en-US" sz="800" spc="-1" strike="noStrike">
                <a:solidFill>
                  <a:srgbClr val="000000"/>
                </a:solidFill>
                <a:latin typeface="Calibri"/>
              </a:rPr>
              <a:t>	</a:t>
            </a:r>
            <a:r>
              <a:rPr b="1" lang="en-US" sz="800" spc="-1" strike="noStrike">
                <a:solidFill>
                  <a:srgbClr val="000000"/>
                </a:solidFill>
                <a:latin typeface="Calibri"/>
              </a:rPr>
              <a:t>7</a:t>
            </a:r>
            <a:r>
              <a:rPr b="1" lang="en-US" sz="800" spc="-1" strike="noStrike">
                <a:solidFill>
                  <a:srgbClr val="000000"/>
                </a:solidFill>
                <a:latin typeface="Calibri"/>
              </a:rPr>
              <a:t>	</a:t>
            </a:r>
            <a:r>
              <a:rPr b="1" lang="en-US" sz="800" spc="-1" strike="noStrike">
                <a:solidFill>
                  <a:srgbClr val="000000"/>
                </a:solidFill>
                <a:latin typeface="Calibri"/>
              </a:rPr>
              <a:t>8</a:t>
            </a:r>
            <a:r>
              <a:rPr b="1" lang="en-US" sz="800" spc="-1" strike="noStrike">
                <a:solidFill>
                  <a:srgbClr val="000000"/>
                </a:solidFill>
                <a:latin typeface="Calibri"/>
              </a:rPr>
              <a:t>	</a:t>
            </a:r>
            <a:r>
              <a:rPr b="1" lang="en-US" sz="800" spc="-1" strike="noStrike">
                <a:solidFill>
                  <a:srgbClr val="000000"/>
                </a:solidFill>
                <a:latin typeface="Calibri"/>
              </a:rPr>
              <a:t>9</a:t>
            </a:r>
            <a:r>
              <a:rPr b="1" lang="en-US" sz="800" spc="-1" strike="noStrike">
                <a:solidFill>
                  <a:srgbClr val="000000"/>
                </a:solidFill>
                <a:latin typeface="Calibri"/>
              </a:rPr>
              <a:t>	</a:t>
            </a:r>
            <a:r>
              <a:rPr b="1" lang="en-US" sz="800" spc="-1" strike="noStrike">
                <a:solidFill>
                  <a:srgbClr val="000000"/>
                </a:solidFill>
                <a:latin typeface="Calibri"/>
              </a:rPr>
              <a:t>10</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ông tự tin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Rất tự tin</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Không nhất thiết phải đưa ra một thước đo cụ thể, nhưng nếu có thì rất hữu ích, đặc biệt là đối với các khách hàng không biết đọc hoặc không biết đếm số. Đối với một số khách hàng thì chỉ cần mô tả thước đo và thang điểm bằng lời nói như trong các ví dụ trên là đủ.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Sau khi đã hỏi khách hàng về mức độ sẵn sàng và tự tin của họ, nếu họ trả lời ở thang điểm 7 hoặc thấp hơn, thì hỏi họ xem hiện tại họ còn lo lắng về vấn đề gì. Hoặc có thể hỏi họ theo cách là bây giờ cần phải giải quyết vấn đề gì để mức điểm của họ cao hơ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E97FD-7528-438F-B70F-37B6A4E4B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ia học viên thành các nhóm 3 người và họ sẽ phân công từng vai: “tư vấn viên”, “khách hàng” và “người quan sát”. Người "tư vấn viên" sẽ hướng dẫn “khách hàng” thực hiện từng bước trong quá trình đặt mục tiêu, còn người thứ 3 sẽ quan sát. Sau khi các nhóm thảo luận xong, mời họ quay lại nhóm lớn và kiểm tra những mục tiêu được đặt ra có đáp ứng yêu cầu SMART không. Đảm bảo rằng mục tiêu phải thể hiện mọi thành phần và tất cả học viên đồng ý.</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625CD-3852-4453-A6D3-0C8BA371D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26AE5-A009-44E1-8D2C-0BBC617F7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9E59A-B7E0-43DA-9F8F-D77665137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3660-7F6E-4B4E-9658-47F95C963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78536-C39B-4F0A-B348-2DB2CF58A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72BD3-6E51-4070-B873-F15D451D2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430D-C246-436B-94A2-8A194049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0E55D-328D-4462-9FFF-91141361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832E-3B77-455E-8125-4B9B54C8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9888-1438-499C-B2B8-0C062527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AEAB6-99AC-4F09-9508-13CE1E6F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FF37-2E68-4F69-921F-689360BE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F8DF-6CBD-4739-BAE6-FA34E166D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DFD7C-D046-46CB-9E28-B1EE50510FAE}"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B217D-F3DB-471B-82B5-6E912216C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80735-3928-4711-A44C-8AC340D6C4C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CE934-E47F-4A05-9E76-E1CBAB50F6B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FA2CE-F583-4BAF-A39A-A911162F522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5DDEE-A735-410D-A32D-880870DB823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DD057-3051-4C1E-8A00-78F27C1FB5B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CD8FB-88D8-4B1F-A24D-BEFDAE52B62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6E021-3413-4BA0-80C6-821936D0527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D7192-8F28-4F20-9987-650152CD23F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26115-2F30-4ACE-8701-29D7AC3F43D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2195F-3933-4013-9E42-3C534F6690D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09:31:23Z</dcterms:created>
  <dc:creator>Hoang Anh</dc:creator>
  <dc:description/>
  <dc:language>en-US</dc:language>
  <cp:lastModifiedBy>Nhu Trang</cp:lastModifiedBy>
  <dcterms:modified xsi:type="dcterms:W3CDTF">2017-06-16T01:26:16Z</dcterms:modified>
  <cp:revision>12</cp:revision>
  <dc:subject/>
  <dc:title>1</dc:title>
</cp:coreProperties>
</file>