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25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6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27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F19-AFEA-4E86-A224-A4399F2A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7D8-9C03-47A3-A429-99755AC6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2880" y="4576680"/>
            <a:ext cx="504972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C99-E8E7-4671-BB7B-6B557997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7A24-4C7E-440F-A7F9-A51A9264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6256-E91E-48FD-AD01-73F58FAC2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3246-4283-4D3A-92EE-03D9D8AA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26C7-D097-4ECA-BE89-9AE0F56D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B43A-57CF-4745-9D97-247D7F2F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6007-61F1-429D-973B-6A64F4CC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DA1-EF4F-4E8E-8820-05CADC08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E899-8143-42F3-BA68-CC131BCD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CB8-A45F-4A5E-9546-2AB95B7B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CE9-E4D1-413D-A5F3-F45E7056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02E-D9B2-49E4-87B1-419C6AF68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273C-9BD6-4E08-A0A6-D43B7C3F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lient booklet re: methadone 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9CA0-28D0-4A0C-B239-3974256E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195-C8E7-41C6-AC7B-AC6A8B2D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7B8F-D1C1-42EE-8B3A-8F9C9CBE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B5595C7-F24B-4056-A6DF-1E3054AA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3E2CDEE-9986-474C-9DC5-B5AE9DD3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91B782-6686-4915-BADA-817CB190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9678C0A-6EB4-425A-8300-C32EC2F8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F5A3AC5-F3C2-4656-B039-0A0E62918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E20A0F8-BB68-4E26-B2C1-DDD10688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32548E5-263E-4D6C-A1AE-D531D6BFC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443F440-31A7-481F-A6D2-5D587F0B5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1F93F5F-DDF8-44DC-822E-CEB23F9C8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0D33A2E-0491-4CEA-962C-A5E886873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A3DCF3-2A29-4807-9D1F-D35B0A6F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E266948-BF03-4E09-90A7-F95AED5E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88480" y="914400"/>
            <a:ext cx="7417080" cy="3471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Tư vấn khi giảm liều và dừng điều trị Methad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Arial"/>
              </a:rPr>
              <a:t>Chỗ ở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5000"/>
          </a:bodyPr>
          <a:p>
            <a:pPr marL="3409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à một biện pháp giúp khách hàng tái hòa nhậ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ững người sống cùng nhà là nguồn hỗ trợ quan tr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hông có nguy cơ bị mất nhà hoặc không có chỗ 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4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ó khả năng trả chậm tiền thuê n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hó giảm liều methadone khi sống cùng cha m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4760">
              <a:spcBef>
                <a:spcPts val="700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hông có nhà ở là một yếu tố nguy cơ tái sử dụng ma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</a:rPr>
              <a:t>Chống chỉ định giảm liều/dừng điều trị methadon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Đang sử dụng hero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Có th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rước các sự kiện quan trọ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Kỳ thi ở trườ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uy sụ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Công việc mớ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Quan hệ mớ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Đ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ử dụng các thuốc khác không thường xuyê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iến lược toàn diện để ra khỏi chương trình điều tr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5000"/>
          </a:bodyPr>
          <a:p>
            <a:pPr marL="340920" indent="-340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m liều từ từ, thường xuyên đánh giá và xem xét lại kế hoạch điều tr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 dõi sự xuất hiện các cảm giác khó chịu và trầm cảm và cách xử tr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ạn chế dùng các loại thuốc khác nếu không sẽ gia tăng khả năng dung nạp các tác động dược động học của các loại thuốc nà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4760">
              <a:spcBef>
                <a:spcPts val="550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ng trường hợp cần sử dụng thuốc khác, việc giảm liều có thể sẽ là quá nha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26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nh hoạt – chấp nhận điều trị lạ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iảm liều Methadone từ từ giúp giảm các triệu chứng c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ần phải giảm liều từ từ: giảm liều từ từ giúp hạn chế tối đa và tránh được biểu hiện c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ội chứng cai xuất hiện mạnh nhất khi liều giảm đến 20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6000" indent="-29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iều khách hàng khi giảm đến liều nhất định (thường từ 10 – 30 mg) khó chịu sẽ tăng dần và tái sử dụng he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000" indent="-29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Ổn định liều với liều cao hơn là cần th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000" indent="-29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 thể đạt tới liều 25mg trong 1 năm đối với hầu hết khách hàng nếu các yếu tố ổn định được duy trì – thậm chí nếu khách hàng chuyển chỗ ở sang vùng khá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êu chí để giảm liều methadone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ự nguyệ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520" y="1695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Khách hàng ổn định v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ố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nh trạng sử dụng ma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âm lý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Động cơ dừng điều trị của khách hà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VÀ thời gian điều trị methadone ít nhất là 12 t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Kế hoạch kết thúc điều trị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6000"/>
          </a:bodyPr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âm lý xã hộ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ư vấn phòng tái nghiệ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tâm l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hành vi nhận thứ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hỗ trợ / kể truyệ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gia đình / quan h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ác nhóm tự giúp đỡ/ nhóm hỗ tr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Đào tạo nghề / hỗ trợ tìm việc là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iáo dụ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Y tế – chống suy nhược / chất đối vận Naltrex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ỗ trợ thường xuyên về pháp luậ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ng cấp các cách giải quyết vấn đề và đặt mục tiêu để xây dựng kế hoạch cụ th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 dõi sau khi dừng điều trị methadone càng lâu càng tốt, tối thiểu là 6 thá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hông nên cho là điều trị không thành công trong trường hợp khách hàng không thể tiếp tục giảm liều hoặc bỏ dở điều trị MM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ẵn sàng đón nhận khách hàng muốn quay trở lạ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ần xuất tư vấn hỗ trợ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lần/tuần trong tháng đầu tiên mới giả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lần/tháng từ tháng thứ 2 trở đi đến khi kết th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àng tháng trong ít nhất 6 tháng sau khi kết thúc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hi cần thiết, theo nhu cầu người bệ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ảo luận nhóm: nghiên cứu trường hợp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ảo luận các trường hợp trong nhóm nhỏ và đưa ý kiến phản h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cách xác định các vấn đề khi tham gia chương trình MMT và một số can thiệp về tâm lý xã hội cần thiế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ghiên cứu trường hợp: kết thúc điều trị methadon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1000"/>
          </a:bodyPr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àng đã tham gia điều trị methadone tại phòng kh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 của bạn 18 th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. Anh ấy sử dụng heroin khoảng 1 lần mỗi th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v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uống 3-4 cốc bia mỗi tối. Liều methadone anh ấy đang d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ù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l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65mg. Đây là lần đầu tiên anh ấy tham gia điều trị methad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nh ấy quyết định rằng anh ấy đã điều trị đủ methadone, đạt được mục tiêu đề ra. Anh ấy đang c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mối quan hệ ổn định với một người không sử dụng heroin nhưng anh ấy chỉ có công việc bán thời gian trong 5 năm qu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nói với bạn rằng anh ấy muốn kết thúc điều trị methadone vào  sinh nhật của anh ấy (khoảng 4 tuần nữa) để anh ấy có thể c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ù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với bạn gái đến thăm bố mẹ cô ấy ở thành phố khác và anh ấy không muốn họ biết là anh đang tham gia điều trị metha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 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Vấn đề gì bạn quan tâm, và bạn sẽ khuyên anh ấy điều g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ì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Mục tiêu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5000"/>
          </a:bodyPr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ểu các triệu chứng lâm sàng gặp khi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ết các đặc điểm chính chứng tỏ sự sẵn sàng để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ưu ý các chống chỉ định cho việc giảm liều methadone và chỉ định áp dụng các can thiệp cần thiết khá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úp khách hàng lường trước được những điều sẽ xảy ra trong quá trình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Đánh giá được tình trạng sẵn sàng để kết thúc điều trị của khách hàng: bệnh lý, sử dụng ma túy, tâm lý xã hộ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êu chuẩn để giảm liều điều trị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úp khách hàng lập kế hoạch và chuẩn bị sẵn sàng cho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ác định các hỗ trợ cần thiết giúp việc giảm liều tiến hành theo kế ho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gì sẽ xảy ra khi giảm liều metha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ững điều kiện cần có để bệnh nhân có thể được ra khỏi chương trình là gì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</a:rPr>
              <a:t>Cai Methadon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0000"/>
          </a:bodyPr>
          <a:p>
            <a:pPr marL="322920" indent="-322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Bạn sẽ không gặp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hội chứng cai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CDTP”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rừ khi giảm liều quá nha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ững biểu hiện của cai methadone thường không dễ chị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ễ xúc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ễ nổi c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g hăng/ nóng gi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ếu sáng suố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ém khả năng chịu đựng sự bực tứ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ất kiểm soá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Arial"/>
              </a:rPr>
              <a:t>Dừng điều trị methadone đột ngộ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9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17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AU" sz="2500" spc="-1" strike="noStrike">
                <a:solidFill>
                  <a:srgbClr val="ff0000"/>
                </a:solidFill>
                <a:latin typeface="Arial"/>
              </a:rPr>
              <a:t>Phải tránh bằng mọi gi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499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hông gây tử vong trừ khi gây ra bởi sử dụng naltrexone / nalox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499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ội chứng cai xuất hiện sau 2 – 3 ngà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499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ội chứng cai lên đến đỉnh điểm vào tuần thứ 2 và tuần thứ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ất ng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ồn chồn, khó chị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Đau lư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hó chịu vì “nhớ một thứ gì đó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ức giận/ hung h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ầm cả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ối loạn tâm thầ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Hội chứng cai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thường chấm dứt sau 6 – 12 tuần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ừng điều trị duy trì nghiện các chất dạng thuốc phiện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0000"/>
          </a:bodyPr>
          <a:p>
            <a:pPr marL="322920" indent="-3229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hi nà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9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ỷ lệ tái nghiện heroin cao trong nhóm khách hàng dừng điều trị methadone khi chưa đạt tới “tình trạng ổn địn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9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yếu tố hành vi của khách 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i her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Ổn định về xã hội / các nguồn hỗ trợ / các mối quan h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9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yếu tố liên quan đến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ều ổn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hông bỏ liều và quan hệ tốt với phòng khá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hông được ép buộc khách hàng tiếp tục điều trị metha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</a:rPr>
              <a:t>Các yếu tố dự báo điều trị thành cô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908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7000"/>
          </a:bodyPr>
          <a:p>
            <a:pPr marL="240120" indent="-240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ừng sử dụng heroin (ít nhất là 6 thá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 yếu tố hỗ trợ xã hội ổn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0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ông việ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0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ỗ 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0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an h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Nên là một biện pháp để phục hồi chứ không phải là liệt kê các việc cần là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ó khả năng chịu đựng được sự thất vọng về mặt tình cảm trong cuộc số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Arial"/>
              </a:rPr>
              <a:t>Việc làm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ọc tập hay làm việ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ử dụng thời gian có hiệu qu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từ phía mạng lưới đồng nghiệ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từ phía người sử dụng lao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àm việc giúp khách hàng có khả năng xử trí phù hợp và tích cực khi có cảm giác khó chịu và tức gi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Arial"/>
              </a:rPr>
              <a:t>Quan hệ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4000"/>
          </a:bodyPr>
          <a:p>
            <a:pPr marL="301320" indent="-301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ỗ trợ từ các mối quan hệ thân thuộ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chỉ riêng tình yêu thương của cha m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và giúp phân tán suy nghĩ về việc SD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về dinh dư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 cái đóng vai trò rất quan tr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ó thể đạt tới giai đoạn ổn định và vượt qua các cảm giác buồn ch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0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ự đổ vỡ trong các mối quan hệ là một nguyên nhân phổ biến gây tái nghi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0">
              <a:spcBef>
                <a:spcPts val="601"/>
              </a:spcBef>
              <a:buNone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ất việc làm là một yếu tố nguy cơ cao gây tái sử dụ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4:27:08Z</dcterms:created>
  <dc:creator>David Jacka</dc:creator>
  <dc:description/>
  <dc:language>en-US</dc:language>
  <cp:lastModifiedBy>Admin</cp:lastModifiedBy>
  <cp:lastPrinted>2006-07-12T14:28:40Z</cp:lastPrinted>
  <dcterms:modified xsi:type="dcterms:W3CDTF">2013-08-12T14:54:44Z</dcterms:modified>
  <cp:revision>180</cp:revision>
  <dc:subject/>
  <dc:title>Slide 1</dc:title>
</cp:coreProperties>
</file>