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25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4B93-2957-457A-8754-B83C53A0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B40-71C3-4E4B-AED7-5411A246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2880" y="4576680"/>
            <a:ext cx="504972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DB52-878F-4596-BBE3-F7F9720F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1058-93D8-4017-93C7-5CBB3E7C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D7E5-ACFA-47D2-BDF2-2202E3DE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D9C-4699-4DAB-A298-6BCD197A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out names of local prep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0034-AC7D-4353-AC08-1AC9D956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F0C-62A9-46BF-99AB-04835483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8AC-2C13-4508-91DB-9AF97049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A986-A8E8-442D-AA3D-788C6692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4AAC9D-F0FA-4061-8C20-1AA274A0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EC689F5-4770-46E8-AD92-C2EA0A2E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3B6486F-5C71-4D07-AABF-4A1B7071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1DBA8AA-3CCC-471F-B370-5273003C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FE9646C-68BF-46E8-BF33-699C06E7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EE7BC52-B5BC-4638-967A-6323CED6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7FC913E-40BB-4468-BE10-406CA3F0F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6760A04-87F3-4935-9178-D4CD4F8C5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452C681-2300-4DFA-A46D-8991B300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91C6D01-0DBD-4859-BEF5-688A2681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61397AE-EBD5-47F4-B028-79385D92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9C1CED-C340-483A-B538-C1D19472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9880" y="2057400"/>
            <a:ext cx="8255160" cy="3471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800" spc="-1" strike="noStrike">
                <a:solidFill>
                  <a:srgbClr val="000099"/>
                </a:solidFill>
                <a:latin typeface="Arial"/>
              </a:rPr>
              <a:t>Tác dụng phụ và xử tr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ác tác dụng không mong muốn thường gặp tại Việt Na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17" name="Object 4"/>
          <p:cNvGraphicFramePr/>
          <p:nvPr/>
        </p:nvGraphicFramePr>
        <p:xfrm>
          <a:off x="330120" y="1752480"/>
          <a:ext cx="858528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752480"/>
                    <a:ext cx="85852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Điểm cần ghi nhớ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ất cả mọi thuốc đều có tác dụng không mong muố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ột số tác dụng phổ biến, một số tác dụng không phổ biế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ần phát hiện các tác dụng này s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ác định mức độ và bản chất của từng tác dụng, khác biệt so với giai đoạn sử dụng heroin thế nà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ư vấn tìm ra giải pháp xử trí đơn giản trước khi cần đến sự can thiệp của Bác s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ấn an bệnh nhân – mọi việc đều có thể giải quyế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ỷ lệ cần có can thiệp y tế rất nhỏ. Đa số có thể xử trí đơn giản hoặc cần giải quyết về tâm l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ục đích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át hiện các tác dụng không mong muố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ức độ nghiêm trọng với người bện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ân biệt xem tác dụng này có liên quan trực tiếp/gián tiếp/không liên quan tới điều trị Methad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ác biện pháp đơn giản xử trí/giảm thiểu các tác dụng nà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ác dụng phụ và xử trí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5000"/>
          </a:bodyPr>
          <a:p>
            <a:pPr marL="304920" indent="-304920" algn="just"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ột số tác dụng phụ là mãn tính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ở 70% bệnh nhâ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áo bón, đổ mồ hôi, rối loạn giấc ngủ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ay đổi nội tiết (giảm khả năng tình dục, rối loạn kinh nguyệ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hô miệng và sâu ră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Bài tập nhóm nhỏ (10 phút): Chia học viên làm 3 nhóm, mỗi nhóm thảo luận 1 vấn đề trong 3 vấn đề nêu trê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iệt kê các câu hỏi đ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17360" indent="-2037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Xác định tác dụng không mong muố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360" indent="-2037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Xác định bản chất và mức độ nghiêm trọng với người bện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iệt kê các biện pháp đơn giản tại địa phương để xử tr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iện pháp nào là phổ biến nhất và dễ được người bệnh chấp nhận nhấ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ác vấn đề về răng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hô miệng/sâu răn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6000"/>
          </a:bodyPr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m ăn kẹo bánh, đường/đồ uống có 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ệ sinh răng miệng/đánh ră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ăm sóc răng (nha sĩ)/ hàn răng/ nhổ ră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ẹo cao su không đường (xylit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ực phẩm tốt cho sức khỏ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iện pháp nào khá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hiều khi vấn đề răng miệng có từ trước khi tham gia điều trị, nhưng người bệnh không để 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áo bón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Đau bụ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ếng 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ô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ụt c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ợi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Đồ ăn lỏng để giảm mất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ế độ ăn nhiều chất x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u và hoa qu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ác chất xơ metamucil ®, vỏ hạt mã đề (2 – 8 tsp B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ulose – actilax ® (30 – 60mls 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ập thể dụ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ống nhiều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òn cách nào khá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ưu ý, táo bón khác gì so với trước khi được điều trị - gây khó chịu mức độ n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ã mồ hô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7000"/>
          </a:bodyPr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ã mồ hôi mức độ nà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là vấn đề nghiêm trọ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ấn an người bệnh: quần áo thoáng, tắm thường xuyên, quạt, điều hòa nhiệt độ, nơi sinh hoạt và làm việc thoáng mát, khăn lau thường xuyê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ột số biện pháp khá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ều chỉnh liề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ùng thuốc chống ra mồ hô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óc m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òn biện pháp nào khá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Buồn ngủ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9000"/>
          </a:bodyPr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ó liên quan đến thuốc? - Có thể xảy ra 1 – 3 tiếng và tới 8 tiếng sau khi uống metha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ình trạng tồi tệ hơn nếu cơ thể mệt mỏi hoặc ngồi bất động/buồn ch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ia tăng sau khi ăn hoặc dùng đồ uống có cồ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Khuyê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ời điểm uống (chiều muộ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a 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ận động, làm việc khác khi buồn ng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nên vận hành máy móc, lái xe khi thấy buồn ngủ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01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Còn gì khác khô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Các tác dụng phụ ít gặp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Hội chứng chẹn rãnh cổ tay gây tê bì ngón t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iữ nướ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Đau khớ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ị ứng do phóng thích hista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uồn nôn dai dẳ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Arial"/>
              </a:rPr>
              <a:t>Những cách thông thường và chuyên sâu nào có thể sử dụng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ối loạn hóc-mô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998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2000"/>
          </a:bodyPr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ảm ham muốn tình dụ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ội chứng mãn ki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ếu hụt testoster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ệt dư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ảm lượng tinh trùng xuất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ảm khoái cảm/ mệt mỏ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ăng câ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ất ki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hục hồi khả năng sinh sả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ần có các biện pháp tránh th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hân biệt giữa tâm lý và thực th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Giải pháp tâm lý – tình dục họ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Giải pháp điều trị: bổ sung Testosterone hoặc liệu pháp thay thế hóc mô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4:27:08Z</dcterms:created>
  <dc:creator>David Jacka</dc:creator>
  <dc:description/>
  <dc:language>en-US</dc:language>
  <cp:lastModifiedBy>Admin</cp:lastModifiedBy>
  <cp:lastPrinted>2006-07-12T14:28:40Z</cp:lastPrinted>
  <dcterms:modified xsi:type="dcterms:W3CDTF">2013-08-12T14:40:07Z</dcterms:modified>
  <cp:revision>93</cp:revision>
  <dc:subject/>
  <dc:title>Slide 1</dc:title>
</cp:coreProperties>
</file>