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C23AC-DF41-4DAF-88EA-336A0449BBB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0D6E3-E84E-43B7-9861-D6D312EBB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iảng viên: Chào mừng các học viên đến lớp học và mời học viên ngồi sao cho họ cảm thấy thoải mái.</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ảo đảm là bạn đã sắp xếp phòng học sẵn sàng. Tài liệu để sẵn trên bàn gồm:</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1. Biển tê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Bút viết bảng và bút viế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3. Tài liệu phát ta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4. Sổ ghi chép</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một bài riêng rẽ thì bổ sung câu nói dưới đây trong phần mở đầ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ôn trọng ý kiến nhận xét của các học viên khác</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i cũng có quyền nói lên quan điểm của mình</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ếu có câu hỏi học viên có thể hỏi bất cứ lúc nào trong quá trình giản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ắt chuông điện thoại di độn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ỉ kiểm tra email và tin nhắn trong giờ nghỉ giải lao</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phần tiếp tục của các bài học khác trong khóa học thì </a:t>
            </a:r>
            <a:r>
              <a:rPr b="0" lang="en-US" sz="1100" spc="-1" strike="noStrike">
                <a:solidFill>
                  <a:srgbClr val="000000"/>
                </a:solidFill>
                <a:latin typeface="Calibri"/>
              </a:rPr>
              <a:t>NÓI,</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Bài trình bày này có liên quan chặt chẽ với bài trước, bài giới thiệu về PVTĐL.</a:t>
            </a:r>
            <a:r>
              <a:rPr b="1" i="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93F3D-6AB9-46F8-93A7-883A15FD9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Một cách khác để giúp khách hàng ra quyết định là sử dụng bảng ra quyết định. Bảng ra quyết định này giúp bạn có thể so sánh giữa lợi ích và giá phải trả của một hành vi nào đó bằng cách cho điểm các yếu tố này và so sánh điểm số. Bạn có thể thay đổi thang điểm cho phù hợp với mỗi khách hàng. Yêu cầu khách hàng điền vào các ô những lợi ích và giá phải trả, ngắn hạn và dài hạn và sau đó đề nghị khách hàng cho điểm mỗi yếu tố theo thang điểm từ 1 đến 10 theo mức độ quan trọng đối với họ (điểm lớn hơn có nghĩa là yếu tố đó quan trọng hơn). Nếu số điểm của “lợi ích” của việc thay đổi cao hơn số điểm của “cái giá phải trả” nếu thay đổi thì hy vọng khách hàng của bạn sẽ nhận ra việc thay đổi hành vi của họ là tốt. Mặt khác, nếu số điểm của giá phải trả của việc thay đổi cao hơn thì điều đó có nghĩa là khách hàng của bạn không muốn thay đổi trong thời điểm hiện tại.</a:t>
            </a: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Dưới đây là một ví dụ về cách sử dụng bảng ra quyết định khi cân nhắc lợi ích và hậu quả của việc say rượu bia: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1" lang="en-US" sz="800" spc="-1" strike="noStrike">
                <a:solidFill>
                  <a:srgbClr val="000000"/>
                </a:solidFill>
                <a:latin typeface="Calibri"/>
              </a:rPr>
              <a:t>Ngắn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Dài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Điểm</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ợi ích</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Giúp tôi thư giãn (6)</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Lãng quên các vấn đề (4)</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17</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Thích tụ tập uống rượu bia với bạn bè (7)</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Giá phải trả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Có thể sẽ mất đi tình cảm của gia đình (8)</a:t>
            </a:r>
            <a:r>
              <a:rPr b="1" lang="en-US" sz="800" spc="-1" strike="noStrike">
                <a:solidFill>
                  <a:srgbClr val="000000"/>
                </a:solidFill>
                <a:latin typeface="Calibri"/>
              </a:rPr>
              <a:t>	</a:t>
            </a:r>
            <a:r>
              <a:rPr b="0" lang="en-US" sz="800" spc="-1" strike="noStrike">
                <a:solidFill>
                  <a:srgbClr val="000000"/>
                </a:solidFill>
                <a:latin typeface="Calibri"/>
              </a:rPr>
              <a:t>Tổn hại đến khả năng suy nghĩ (3)</a:t>
            </a:r>
            <a:r>
              <a:rPr b="0" lang="en-US" sz="800" spc="-1" strike="noStrike">
                <a:solidFill>
                  <a:srgbClr val="000000"/>
                </a:solidFill>
                <a:latin typeface="Calibri"/>
              </a:rPr>
              <a:t>	</a:t>
            </a:r>
            <a:r>
              <a:rPr b="0" lang="en-US" sz="800" spc="-1" strike="noStrike">
                <a:solidFill>
                  <a:srgbClr val="000000"/>
                </a:solidFill>
                <a:latin typeface="Calibri"/>
              </a:rPr>
              <a:t>32</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Tấm gương xấu đối với con cái (8)</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Có thể mất việc (5)</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Hủy hoại sức khỏe (3)</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Lãng phí thời gian/cuộc sống (2)</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Tốn quá nhiều tiền (3)</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ừ ví dụ này, rõ ràng tổng số điểm cho thấy cái giá phải trả cao hơn lợi ích. Một khách hàng có kết quả như trên có thể sẽ quyết định rằng giá phải trả cho việc uống rượu của họ là quá cao và có thể lựa chọn dừng hoặc giảm uống rượu bia.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ột ví dụ khác về lợi ích và hậu quả của việc duy trì tập thể dục đều đặn:</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1" lang="en-US" sz="800" spc="-1" strike="noStrike">
                <a:solidFill>
                  <a:srgbClr val="000000"/>
                </a:solidFill>
                <a:latin typeface="Calibri"/>
              </a:rPr>
              <a:t>Ngắn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Dài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Điểm</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ợi ích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Trông khỏe mạnh, thon thả, có thể mặc quần áo đẹp (6)</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Sống lâu, sống khỏe, cả về thể chất (7) và tinh thần (6)</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23</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Được người bạn tình yêu hơn (4)</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Giá phải trả</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Khó có thể dậy sớm đế tập thể dục (4)</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Có thể gây chấn thương cho bản thân (1)</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16</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Cần phải giảm bớt những công việc khác để không phải thức khuya (5)</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Có thể phải từ bỏ những sở thích khác: xem phim (3)</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Sự ấm áp và dễ chịu khi nằm trên giường mỗi buổi sáng (3)</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rong ví dụ này, tổng số điểm cho thấy hành vi mong muốn (tập thể dục buổi sáng hàng ngày) sẽ mang lại nhiều lợi ích hơn. Trong khi chỉ nghĩ về điều đó không giúp khách hàng thay đổi thì việc yêu cầu họ viết những suy nghĩ của họ ra giấy sẽ giúp họ dễ thay đổi hơn.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AE074-6E48-4408-9D86-AC2D1E165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Nhìn chung, tại thời điểm này, bạn nên hạn chế cung cấp thêm thông tin. Khách hàng có thể bị quá tải về thông tin hoặc về cảm xúc. Lí tưởng nhất là lúc này khách hàng phải “biết” rõ về con đường tốt nhất mà họ nên đi.</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ây không phải là lúc để thảo luận về “CÁCH THỰC HIỆN” của một quyết định. Nếu như khách hàng băn khoăn về việc thực hiện quyết định đó bằng cách nào thì hãy trấn an họ rằng chỉ cần đưa ra một quyết định một cách chắc chắn vào thời điểm này, còn thực hiện bằng “CÁCH NÀO” thì sẽ thảo luận sa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A1272-2332-4CB3-BE2D-BE7C63A2E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Ngay sau khi khách hàng quyết định là họ muốn thay đổi, bạn cần tận dụng ngay giây phút khách hàng đang có động cơ đó để thảo luận với khách hàng về việc đặt mục tiêu. Điều này giúp đảm bảo họ sẽ hành động sau buổi tư vấ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tiêu chí SMART của việc đặt mục tiêu (Specific - Cụ thể, Measurable - Có thể đo lường được, Attainable - Có thể đạt được, Realistic - Thực tế, Timebound - Có thời hạn). Những bước khởi đầu thường là những bước nhỏ.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ặt mục tiêu có nghĩa là phải biến quyết định thành hành động. Kĩ thuật Đặt mục tiêu sẽ được thảo luận chi tiết hơn trong một bài giảng tiếp theo (Bài 5.3). Nhớ là phải đạt được cam kết sẽ hành động của khách hàng. Càng tự tin thì khách hàng càng dễ có khả năng thực hiện.</a:t>
            </a: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3B05A-31BB-4B65-955F-FF0C43E16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Để giúp học viên hiểu được các thang điểm, bạn có thể cần vẽ thước đo sự sẵn sàng và thước đo mức độ tự tin lên bảng giấy lật. Sau đó, bạn có thể dùng hình vẽ để minh họa trong quá trình thảo luận về những nội dung dưới đây.</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ói: </a:t>
            </a:r>
            <a:r>
              <a:rPr b="0" i="1" lang="en-US" sz="600" spc="-1" strike="noStrike">
                <a:solidFill>
                  <a:srgbClr val="000000"/>
                </a:solidFill>
                <a:latin typeface="Calibri"/>
              </a:rPr>
              <a:t>Trong nhiều trường hợp, những thước đo này giúp khách hàng có thể nhìn thấy họ đang ở mức độ nào đối với việc thay đổi một điều gì đó.</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ước đo sự sẵn sà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iệc sử dụng ‘thước đo sự sẵn sàng’ là một cách đơn giản để xác định xem trong suy nghĩ của khách hàng thì việc giảm sử dụng ma túy có tầm quan trọng như thế nào đối với họ. Đây chỉ là một thang điểm được chia ra thành các mức từ 1 đến 10 mà trên đó 1 có nghĩa là “không quan trọng” và 10 là “rất quan trọng”. Hãy yêu cầu khách hàng tự đánh giá về mức độ quan trọng của việc thay đổi hành vi sử dụng ma túy đối với bản thân họ.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ạn có thể hỏi: “Bạn thấy rằng việc giảm bớt hoặc ngừng sử dụng ma túy quan trọng như thế nào đối với bản thân bạn? Tính trên thang điểm từ 1 đến 10, trong đó 1 có nghĩa là không quan trọng và 10 là rất quan trọng, thì bạn tự đánh giá bản thân bạn được mấy điểm?”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t>
            </a:r>
            <a:r>
              <a:rPr b="1" lang="en-US" sz="600" spc="-1" strike="noStrike">
                <a:solidFill>
                  <a:srgbClr val="000000"/>
                </a:solidFill>
                <a:latin typeface="Calibri"/>
              </a:rPr>
              <a:t>	</a:t>
            </a:r>
            <a:r>
              <a:rPr b="1" lang="en-US" sz="600" spc="-1" strike="noStrike">
                <a:solidFill>
                  <a:srgbClr val="000000"/>
                </a:solidFill>
                <a:latin typeface="Calibri"/>
              </a:rPr>
              <a:t>2</a:t>
            </a:r>
            <a:r>
              <a:rPr b="1" lang="en-US" sz="600" spc="-1" strike="noStrike">
                <a:solidFill>
                  <a:srgbClr val="000000"/>
                </a:solidFill>
                <a:latin typeface="Calibri"/>
              </a:rPr>
              <a:t>	</a:t>
            </a:r>
            <a:r>
              <a:rPr b="1" lang="en-US" sz="600" spc="-1" strike="noStrike">
                <a:solidFill>
                  <a:srgbClr val="000000"/>
                </a:solidFill>
                <a:latin typeface="Calibri"/>
              </a:rPr>
              <a:t>3</a:t>
            </a:r>
            <a:r>
              <a:rPr b="1" lang="en-US" sz="600" spc="-1" strike="noStrike">
                <a:solidFill>
                  <a:srgbClr val="000000"/>
                </a:solidFill>
                <a:latin typeface="Calibri"/>
              </a:rPr>
              <a:t>	</a:t>
            </a:r>
            <a:r>
              <a:rPr b="1" lang="en-US" sz="600" spc="-1" strike="noStrike">
                <a:solidFill>
                  <a:srgbClr val="000000"/>
                </a:solidFill>
                <a:latin typeface="Calibri"/>
              </a:rPr>
              <a:t>4</a:t>
            </a:r>
            <a:r>
              <a:rPr b="1" lang="en-US" sz="600" spc="-1" strike="noStrike">
                <a:solidFill>
                  <a:srgbClr val="000000"/>
                </a:solidFill>
                <a:latin typeface="Calibri"/>
              </a:rPr>
              <a:t>	</a:t>
            </a:r>
            <a:r>
              <a:rPr b="1" lang="en-US" sz="600" spc="-1" strike="noStrike">
                <a:solidFill>
                  <a:srgbClr val="000000"/>
                </a:solidFill>
                <a:latin typeface="Calibri"/>
              </a:rPr>
              <a:t>5</a:t>
            </a:r>
            <a:r>
              <a:rPr b="1" lang="en-US" sz="600" spc="-1" strike="noStrike">
                <a:solidFill>
                  <a:srgbClr val="000000"/>
                </a:solidFill>
                <a:latin typeface="Calibri"/>
              </a:rPr>
              <a:t>	</a:t>
            </a:r>
            <a:r>
              <a:rPr b="1" lang="en-US" sz="600" spc="-1" strike="noStrike">
                <a:solidFill>
                  <a:srgbClr val="000000"/>
                </a:solidFill>
                <a:latin typeface="Calibri"/>
              </a:rPr>
              <a:t>6</a:t>
            </a:r>
            <a:r>
              <a:rPr b="1" lang="en-US" sz="600" spc="-1" strike="noStrike">
                <a:solidFill>
                  <a:srgbClr val="000000"/>
                </a:solidFill>
                <a:latin typeface="Calibri"/>
              </a:rPr>
              <a:t>	</a:t>
            </a:r>
            <a:r>
              <a:rPr b="1" lang="en-US" sz="600" spc="-1" strike="noStrike">
                <a:solidFill>
                  <a:srgbClr val="000000"/>
                </a:solidFill>
                <a:latin typeface="Calibri"/>
              </a:rPr>
              <a:t>7</a:t>
            </a:r>
            <a:r>
              <a:rPr b="1" lang="en-US" sz="600" spc="-1" strike="noStrike">
                <a:solidFill>
                  <a:srgbClr val="000000"/>
                </a:solidFill>
                <a:latin typeface="Calibri"/>
              </a:rPr>
              <a:t>	</a:t>
            </a:r>
            <a:r>
              <a:rPr b="1" lang="en-US" sz="600" spc="-1" strike="noStrike">
                <a:solidFill>
                  <a:srgbClr val="000000"/>
                </a:solidFill>
                <a:latin typeface="Calibri"/>
              </a:rPr>
              <a:t>8</a:t>
            </a:r>
            <a:r>
              <a:rPr b="1" lang="en-US" sz="600" spc="-1" strike="noStrike">
                <a:solidFill>
                  <a:srgbClr val="000000"/>
                </a:solidFill>
                <a:latin typeface="Calibri"/>
              </a:rPr>
              <a:t>	</a:t>
            </a:r>
            <a:r>
              <a:rPr b="1" lang="en-US" sz="600" spc="-1" strike="noStrike">
                <a:solidFill>
                  <a:srgbClr val="000000"/>
                </a:solidFill>
                <a:latin typeface="Calibri"/>
              </a:rPr>
              <a:t>9</a:t>
            </a:r>
            <a:r>
              <a:rPr b="1" lang="en-US" sz="600" spc="-1" strike="noStrike">
                <a:solidFill>
                  <a:srgbClr val="000000"/>
                </a:solidFill>
                <a:latin typeface="Calibri"/>
              </a:rPr>
              <a:t>	</a:t>
            </a:r>
            <a:r>
              <a:rPr b="1" lang="en-US" sz="600" spc="-1" strike="noStrike">
                <a:solidFill>
                  <a:srgbClr val="000000"/>
                </a:solidFill>
                <a:latin typeface="Calibri"/>
              </a:rPr>
              <a:t>10</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ông quan trọng</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Rất quan trọng</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
            </a:r>
            <a:r>
              <a:rPr b="0" lang="en-US" sz="600" spc="-1" strike="noStrike">
                <a:solidFill>
                  <a:srgbClr val="000000"/>
                </a:solidFill>
                <a:latin typeface="Calibri"/>
              </a:rPr>
              <a:t>Thước đo sự sẵn sàng’ có thể được sử dụng ngay ở giai đoạn đầu của buổi tư vấn để giúp xác định giai đoạn thay đổi hành vi của khách hàng, hoặc có thể được sử dụng trong quá trình tư vấn để động viên khách hàng nói về các lí do khiến họ thay đổi.</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ước đo sự tự ti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ó thể dùng thang điểm tương tự như trên để đánh giá sự tự tin của khách hàng về khả năng cắt giảm hoặc ngừng sử dụng ma túy của họ. Thước đo sự tự tin có thể được sử dụng với những khách hàng đã xác định được tầm quan trọng của việc thay đổi hành vi hoặc có thể được sử dụng như là một câu hỏi giả định để động viên khách hàng nói về cách họ sẽ làm để có thể thay đổi được hành vi sử dụng ma túy.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ạn có thể hỏi: “Nếu bạn đã quyết định thay đổi thì bạn cảm thấy tự tin ở mức độ nào về khả năng có thể cắt giảm hoặc ngừng sử dụng ma túy? Tính theo thang điểm từ 1 đến 10, trong đó 1 có nghĩa là không tự tin và 10 là rất tự tin, thì bạn tự đánh giá bản thân bạn được mấy điểm?</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t>
            </a:r>
            <a:r>
              <a:rPr b="1" lang="en-US" sz="600" spc="-1" strike="noStrike">
                <a:solidFill>
                  <a:srgbClr val="000000"/>
                </a:solidFill>
                <a:latin typeface="Calibri"/>
              </a:rPr>
              <a:t>	</a:t>
            </a:r>
            <a:r>
              <a:rPr b="1" lang="en-US" sz="600" spc="-1" strike="noStrike">
                <a:solidFill>
                  <a:srgbClr val="000000"/>
                </a:solidFill>
                <a:latin typeface="Calibri"/>
              </a:rPr>
              <a:t>2</a:t>
            </a:r>
            <a:r>
              <a:rPr b="1" lang="en-US" sz="600" spc="-1" strike="noStrike">
                <a:solidFill>
                  <a:srgbClr val="000000"/>
                </a:solidFill>
                <a:latin typeface="Calibri"/>
              </a:rPr>
              <a:t>	</a:t>
            </a:r>
            <a:r>
              <a:rPr b="1" lang="en-US" sz="600" spc="-1" strike="noStrike">
                <a:solidFill>
                  <a:srgbClr val="000000"/>
                </a:solidFill>
                <a:latin typeface="Calibri"/>
              </a:rPr>
              <a:t>3</a:t>
            </a:r>
            <a:r>
              <a:rPr b="1" lang="en-US" sz="600" spc="-1" strike="noStrike">
                <a:solidFill>
                  <a:srgbClr val="000000"/>
                </a:solidFill>
                <a:latin typeface="Calibri"/>
              </a:rPr>
              <a:t>	</a:t>
            </a:r>
            <a:r>
              <a:rPr b="1" lang="en-US" sz="600" spc="-1" strike="noStrike">
                <a:solidFill>
                  <a:srgbClr val="000000"/>
                </a:solidFill>
                <a:latin typeface="Calibri"/>
              </a:rPr>
              <a:t>4</a:t>
            </a:r>
            <a:r>
              <a:rPr b="1" lang="en-US" sz="600" spc="-1" strike="noStrike">
                <a:solidFill>
                  <a:srgbClr val="000000"/>
                </a:solidFill>
                <a:latin typeface="Calibri"/>
              </a:rPr>
              <a:t>	</a:t>
            </a:r>
            <a:r>
              <a:rPr b="1" lang="en-US" sz="600" spc="-1" strike="noStrike">
                <a:solidFill>
                  <a:srgbClr val="000000"/>
                </a:solidFill>
                <a:latin typeface="Calibri"/>
              </a:rPr>
              <a:t>5</a:t>
            </a:r>
            <a:r>
              <a:rPr b="1" lang="en-US" sz="600" spc="-1" strike="noStrike">
                <a:solidFill>
                  <a:srgbClr val="000000"/>
                </a:solidFill>
                <a:latin typeface="Calibri"/>
              </a:rPr>
              <a:t>	</a:t>
            </a:r>
            <a:r>
              <a:rPr b="1" lang="en-US" sz="600" spc="-1" strike="noStrike">
                <a:solidFill>
                  <a:srgbClr val="000000"/>
                </a:solidFill>
                <a:latin typeface="Calibri"/>
              </a:rPr>
              <a:t>6</a:t>
            </a:r>
            <a:r>
              <a:rPr b="1" lang="en-US" sz="600" spc="-1" strike="noStrike">
                <a:solidFill>
                  <a:srgbClr val="000000"/>
                </a:solidFill>
                <a:latin typeface="Calibri"/>
              </a:rPr>
              <a:t>	</a:t>
            </a:r>
            <a:r>
              <a:rPr b="1" lang="en-US" sz="600" spc="-1" strike="noStrike">
                <a:solidFill>
                  <a:srgbClr val="000000"/>
                </a:solidFill>
                <a:latin typeface="Calibri"/>
              </a:rPr>
              <a:t>7</a:t>
            </a:r>
            <a:r>
              <a:rPr b="1" lang="en-US" sz="600" spc="-1" strike="noStrike">
                <a:solidFill>
                  <a:srgbClr val="000000"/>
                </a:solidFill>
                <a:latin typeface="Calibri"/>
              </a:rPr>
              <a:t>	</a:t>
            </a:r>
            <a:r>
              <a:rPr b="1" lang="en-US" sz="600" spc="-1" strike="noStrike">
                <a:solidFill>
                  <a:srgbClr val="000000"/>
                </a:solidFill>
                <a:latin typeface="Calibri"/>
              </a:rPr>
              <a:t>8</a:t>
            </a:r>
            <a:r>
              <a:rPr b="1" lang="en-US" sz="600" spc="-1" strike="noStrike">
                <a:solidFill>
                  <a:srgbClr val="000000"/>
                </a:solidFill>
                <a:latin typeface="Calibri"/>
              </a:rPr>
              <a:t>	</a:t>
            </a:r>
            <a:r>
              <a:rPr b="1" lang="en-US" sz="600" spc="-1" strike="noStrike">
                <a:solidFill>
                  <a:srgbClr val="000000"/>
                </a:solidFill>
                <a:latin typeface="Calibri"/>
              </a:rPr>
              <a:t>9</a:t>
            </a:r>
            <a:r>
              <a:rPr b="1" lang="en-US" sz="600" spc="-1" strike="noStrike">
                <a:solidFill>
                  <a:srgbClr val="000000"/>
                </a:solidFill>
                <a:latin typeface="Calibri"/>
              </a:rPr>
              <a:t>	</a:t>
            </a:r>
            <a:r>
              <a:rPr b="1" lang="en-US" sz="600" spc="-1" strike="noStrike">
                <a:solidFill>
                  <a:srgbClr val="000000"/>
                </a:solidFill>
                <a:latin typeface="Calibri"/>
              </a:rPr>
              <a:t>10</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ông tự tin</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Rất tự tin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ông nhất thiết phải đưa ra một cái thước đo thật, nhưng nếu có thì rất hữu ích, đặc biệt là đối với những khách hàng không biết đọc hoặc không biết đếm số. Đối với một số khách hàng thì chỉ cần mô tả thước đo và thang điểm bằng lời nói là đủ. Sau khi yêu cầu khách hàng tự đánh giá, nếu họ cho điểm từ 7 trở xuống, hãy hỏi xem điều gì ngăn cản họ tiến hành các bước tiếp theo, hoặc có thể hỏi họ cần phải giải quyết vấn đề gì để có thể tiến hành thay đổi.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Cho học viên thực hành các bước phỏng vấn tạo động lực bằng một bài tập đóng vai, có người đóng làm khách hàng, có người đóng làm tư vấn viên.</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BBB5E-6583-40CE-9444-E4488AD4F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 </a:t>
            </a:r>
            <a:r>
              <a:rPr b="0" i="1" lang="en-US" sz="500" spc="-1" strike="noStrike">
                <a:solidFill>
                  <a:srgbClr val="000000"/>
                </a:solidFill>
                <a:latin typeface="Calibri"/>
              </a:rPr>
              <a:t>Công thức FRAMES được sử dụng để nói tới những yếu tố quan trọng cần được đề cập trong PVTĐL. FRAMES là viết tắt của: Feedback - Phản hồi, Responsibility - Trách nhiệm, Advice - Lời khuyên, Menu - Thực đơn các chiến lược thay đổi, Empathy - Thấu cảm, và Self-Efficacy - Tự tin vào khả năng bản thâ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ông tin tham khảo: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hản hồi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Đưa ra ý kiến nhận xét phù hợp là một thành tố quan trọng trong tư vấn điều trị nghiện ma túy và thường được thực hiện sau khi đã tiến hành đánh giá kĩ lưỡng việc sử dụng ma túy và những vấn đề liên quan đến việc sử dụng ma túy của khách hàng. Nhận xét phản hồi có thể bao gồm cả thông tin về việc sử dụng ma túy và những vấn đề liên quan đến việc sử dụng ma túy của khách hàng, thông tin về những nguy cơ có liên quan đến hình thái sử dụng ma túy hiện tại của khách hàng và thông tin về những nguy cơ và tác hại nói chung của ma túy. Nếu những vấn đề hiện tại của khách hàng có thể có liên quan tới việc sử dụng ma túy, thì trong khi nhận xét cần phải cho khách hàng biết về mối liên quan này. Trong quá trình phản hồi, bạn cũng có thể so sánh giữa những vấn đề liên quan đến việc sử dụng ma túy của khách hàng với những vấn đề liên quan đến việc sử dụng ma túy của những người khác có hoàn cảnh tương tự.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rách nhiệm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Điều quan trọng là khách hàng phải nhận thức được rằng họ phải chịu trách nhiệm cho những hành vi của mình và họ có sự lựa chọn đối với việc sử dụng ma túy. Tư vấn viên cần đưa ra những thông điệp như là “Bạn làm gì đối với việc sử dụng ma túy của bạn là tùy thuộc vào chính bản thân bạn” và “Không một ai có thể quyết định thay cho bạn được” để giúp khách hàng duy trì được sự kiểm soát đối với các hành vi của họ cũng như hậu quả của các hành vi đó. Khi cảm thấy mình kiểm soát được sự việc thì khách hàng sẽ có thêm động lực để thay đổi và bớt phản kháng.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Lời khuyê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ho những lời khuyên cụ thể và rõ ràng về các tác hại liên quan tới việc tiếp tục sử dụng ma túy là yếu tố cơ bản của các can thiệp tư vấn hiệu quả. Khách hàng thường không nhận thức được rằng cấp độ sử dụng ma túy hiện tại của họ có thể dẫn tới những vấn đề về sức khỏe và những hậu quả khác hoặc có thể khiến cho những vấn đề hiện có trở nên trầm trọng hơn. Việc đưa ra những lời khuyên cụ thể và rõ ràng về việc giảm bớt hoặc ngừng sử dụng ma túy sẽ làm giảm các nguy cơ trong tương lai, nâng cao nhận thức của khách hàng về những nguy cơ đối với cá nhân họ, và đưa ra những lí do để họ tự cân nhắc về việc thay đổi hành vi của bản thân. Bảng ra quyết định có thể là một công cụ hữu ích để đưa ra lời khuyê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Đưa ra nhiều giải pháp thay thế để lựa chọ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ác can thiệp có hiệu quả cần cung cấp cho khách hàng nhiều chiến lược khác nhau để cắt giảm hoặc ngừng sử dụng ma túy. Điều này cho phép khách hàng tự lựa chọn các giải pháp phù hợp nhất với hoàn cảnh của họ và là giải pháp mà họ cảm thấy hữu ích nhất. Tạo ra nhiều sự lựa chọn sẽ củng cố cảm giác tự chủ, trách nhiệm và động lực của khách hàng để thay đổi hành vi. Về lí thuyết, lựa chọn của khách hàng thường liên quan đến giai đoạn thay đổi hành vi của họ. Sau đây là một số ví dụ tham khảo để khách hàng lựa chọ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Ghi chép hàng ngày về việc sử dụng ma túy (địa điểm, thời gian, liều lượng, dùng với ai, tại sao dùng)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Giúp khách hàng chuẩn bị các hướng dẫn về việc sử dụng ma túy cho chính bản thân họ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Xác định các tình huống nguy cơ cao và các chiến lược để đối phó với các tình huống đó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Xác định các hoạt động có thể làm thay vì sử dụng ma túy- sở thích, thể thao, các câu lạc bộ, thể dục thể hình, vv.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Động viên khách hàng xác định ra những người có thể hỗ trợ và giúp đỡ họ thay đổi hành vi như mong muốn của họ.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Cung cấp thông tin về các nhóm tự giúp đỡ khác và các tài liệu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Động viên khách hàng không giữ tiền trong người và dành số tiền để mua ma túy cho một mục đích khá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ấu cảm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ột can thiệp có hiệu quả cần phải dựa trên thái độ hiểu biết, thấu cảm, thân thiện và có phản hồi của tư vấn viên. Những yếu tố trên sẽ đảm bảo khách hàng cảm thấy thoải mái và được chào đón. Chúng cũng góp phần làm tăng khả năng khách hàng tiếp tục nhận dịch vụ tư vấn và điều trị, và do đó sẽ nâng cao kết quả tư vấn và điều trị.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ự tin</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ư vấn viên cần phải giúp khách hàng tự tin rằng họ có thể thay đổi được hành vi sử dụng ma túy. Những người tin rằng họ có thể thay đổi được thường sẽ thực sự bắt tay vào việc hơn so với những người không tin hoặc không hi vọng vào bản thân. Tư vấn viên cần giúp khách hàng nói ra sự tự tin của họ, bởi vì khách hàng thường hay tin vào những gì mà chính bản thân họ nói ra hơn là những điều nghe được từ người khá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1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AF2EB-4E90-4599-9877-4A91AC60F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Khi khách hàng không muốn thay đổi hành vi thì họ sẽ thể hiện sự phản kháng bằng những biểu hiện liệt kê ở đây. Họ có thể tranh cãi với bạn, phản đối những điều bạn nói. Hoặc khi bạn đang cố gắng giải thích về một điều gì đó, họ sẽ lập tức ngắt lời bạn vì họ không muốn nghe bạn nói nữa.</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ọ có thể nói với bạn rằng các vấn đề của họ chả liên quan gì đến sử dụng ma túy cả. Hoặc họ sẽ phớt lờ tất cả các vấn đề như thể là chúng chưa từng xảy ra. Cuối cùng, họ có thể không nói chuyện với bạn nữa hoặc không quay trở lại nữa. Đó là sự phủ nhậ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9B581-7F06-404F-BB59-2A5810D36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ói:</a:t>
            </a:r>
            <a:r>
              <a:rPr b="1" i="1" lang="en-US" sz="600" spc="-1" strike="noStrike">
                <a:solidFill>
                  <a:srgbClr val="000000"/>
                </a:solidFill>
                <a:latin typeface="Calibri"/>
              </a:rPr>
              <a:t> </a:t>
            </a:r>
            <a:r>
              <a:rPr b="0" i="1" lang="en-US" sz="600" spc="-1" strike="noStrike">
                <a:solidFill>
                  <a:srgbClr val="000000"/>
                </a:solidFill>
                <a:latin typeface="Calibri"/>
              </a:rPr>
              <a:t>Có nhiều phương pháp để giảm bớt sự phản kháng của khách hàng, bao gồm: lựa theo sự phản kháng, chuyển chủ đề, chỉnh khung, nhấn mạnh sự tự lựa chọn và tự chủ của cá nhân khách hàng, và dừng việc đưa ra các giải pháp. </a:t>
            </a:r>
            <a:r>
              <a:rPr b="1" i="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 Lựa theo sự phản khá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húng ta đã thảo luận về kĩ năng lựa theo sự phản kháng trong bài học 2.4 về các kĩ năng tư vấ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hản kháng xảy ra khi khách hàng tranh cãi, cắt ngang hoặc phủ nhận những gợi ý của tư vấn viên. Trong trường hợp này, điều quan trọng là không tiếp tục tranh cãi với họ vì sẽ làm họ phản kháng mạnh hơn. Lựa theo sự phản kháng có nghĩa là không đối đầu với khách hàng. Có nhiều kĩ thuật có thể dùng trong trường hợp này. Ví dụ, bạn có thể nói: “Hiện tại, bạn có vẻ là chưa sẵn sàng thay đổi phải không?”. Đây là cách phản hồi một chiều quan điểm của khách hàng.</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hản hồi hai chiều là bạn chấp nhận những gì khách hàng nói và bổ sung thêm mặt kia của vấn đề để làm rõ sự xung đột giữa suy nghĩ và hành động của họ. Bạn có thể nói: “Tôi có thể thấy điều này khiến cho bạn lúng túng. Một mặt bạn lo lắng về việc sử dụng ma túy của bạn, nhưng mặt khác bạn lại cảm thấy là bạn không sử dụng nhiều hơn bạn bè và họ có vẻ là không có vấn đề gì hết”. Mục đích của việc lựa theo sự phản kháng là giúp khách hàng cân nhắc về những thông tin và cách nhìn nhận mới về việc sử dụng ma túy của họ.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 Chuyển chủ đề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huyển chủ đề là chuyển hướng quan tâm của khách hàng từ những điều đi vào ngõ cụt chuyển sang một lối đi thoáng đãng hơn. Cách đi vòng như vậy có thể là một cách giải quyết tốt hoặc ít nhất là trì hoãn sự bất đồng giữa khách hàng và tư vấn viên khi đang thảo luận đến một nội dung đặc biệt khó khăn. Một nguyên tắc để chuyển chủ đề hiệu quả là trước tiên giải tỏa sự lo lắng ban đầu rồi sau đó định hướng sang một chủ đề khác dễ giải quyết hơ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3. Chỉnh khu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ột phương pháp khác để làm giảm nhẹ sự phản kháng là phương pháp chỉnh khung những gì khách hàng đang nói. Với phương pháp này, tư vấn viên ghi nhận những thông tin ban đầu khách hàng đã đưa ra nhưng sau đó diễn giải cũng chính những thông tin đó với một cách nhìn mới. Thông tin của khách hàng được đặt vào trong một khung mới và được rọi chiếu bởi một ánh sáng mới, qua đó giúp họ hiểu sự việc tường tận hơn để thay đổi. Phương pháp chỉnh khung cũng đã được thảo luận trong bài 2.4 về Kỹ năng tư vấ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4. Nhấn mạnh vào sự lựa chọn và tự chủ của cá nhân khách hà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ự phản kháng đôi khi nảy sinh từ một hiện tượng phản ứng về mặt tâm lí. Khi người ta cảm thấy rằng quyền tự do lựa chọn của họ bị đe dọa, họ thường có thiên hướng phản ứng lại bằng cách khẳng định quyền tự do đó (ví dụ: “Không ai có thể ra lệnh cho tôi phải làm việc này hay việc kia!” ) Đó là những cách phản ứng rất tự nhiên khi người ta cảm thấy bị mất quyền lựa chọn. Có lẽ biện pháp tốt nhất khi gặp trường hợp này là khẳng định với họ về sự thật: cuối cùng thì khách hàng vẫn là người quyết định điều gì sẽ được thực hiện. Làm rõ điều này với khách hàng ngay từ đầu sẽ làm giảm được hiện tượng phản kháng tự nhiên này. Dưới đây là một ví dụ: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a:solidFill>
                  <a:srgbClr val="000000"/>
                </a:solidFill>
                <a:latin typeface="Calibri"/>
              </a:rPr>
              <a:t>Khách hàng: Nếu tôi nói với anh rằng tôi thích hút thuốc lá và tôi không muốn cai thì sa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a:solidFill>
                  <a:srgbClr val="000000"/>
                </a:solidFill>
                <a:latin typeface="Calibri"/>
              </a:rPr>
              <a:t>Tư vấn viên: Anh là một người tự do, và đó là sự lựa chọn của anh. Tôi không thể quyết định hộ cho anh, kể cả khi tôi muốn làm như vậy.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5. Dừng việc đưa ra giải pháp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ếu đã dùng nhiều phương pháp để làm giảm sự đối kháng của khách hàng nhưng không thành công thì tư vấn viên cần phải ngừng việc đưa ra giải pháp.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21940-1B44-412C-BD1B-10D5B70F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Nếu khách hàng không đưa ra được quyết định thì bạn cần phải chấp nhận lựa chọn của họ. Bạn cần thể hiện sự thấu cảm với khách hàng về những khó khăn khi họ còn cảm thấy mơ hồ và lưỡng lự. Bạn có thể hỏi khách hàng xem họ có kế hoạch nào để xử trí trong trường hợp không đưa ra được quyết định không. Bạn cũng có thể cần hỏi xem họ có cần thêm điều gì để có thể đưa ra được quyết định không, ví dụ như thêm thời gian, thêm thông tin hoặc cần hỗ trợ thê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21B3F-027A-4C8F-895A-AAA18FE9D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uy nhiên, cần luôn luôn mở rộng cánh cử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0D10D-87B5-411D-BD80-8F1799AA8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BD54E-D0AE-49C9-B2D0-E7B6815EA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Trình bày trực tiếp nội dung bản chiếu. Tham khảo thông tin dưới đây về phỏng vấn tạo động lực và hạn chế của nó.</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r>
              <a:rPr b="0" lang="en-US" sz="600" spc="-1" strike="noStrike">
                <a:solidFill>
                  <a:srgbClr val="000000"/>
                </a:solidFill>
                <a:latin typeface="Calibri"/>
              </a:rPr>
              <a:t>Những điểm cần lưu ý và những hạn chế của PVTĐ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ính hiệu quả của kĩ thuật PVTĐL đã được nghiên cứu rộng rãi trong các cộng đồng dân cư khác nhau và đi đến kết luận rằng đây là một trong những biện pháp hiệu quả nhất để điều trị nghiện. Tuy nhiên, kĩ thuật này cũng còn có một số hạn chế nhất định cần được xem xét (Burke, Arkowitz, &amp; Dunn, in press; Noonan &amp; Moyers, 1997). Thứ nhất, không nên cho rằng PVTĐL là một phương thuốc trị bách bệnh dùng cho điều trị nghiện ma túy toàn diện. Thay vào đó, PVTĐL là một giải pháp để giải quyết sự mâu thuẫn giữa suy nghĩ và hành động của khách hàng và có thể chỉ là giải pháp ban đầu. Bởi vì PVTĐL cơ bản là dùng để hỗ trợ khách hàng giải quyết các yếu tố mâu thuẫn nên nếu sử dụng quá nhiều có thể lại gây trở ngại hoặc khiến cho những khách hàng có động cơ mạnh mẽ và cam kết sẽ thay đổi hành vi cảm thấy bực mình. Trong những trường hợp này, vai trò của PVTĐL chỉ đơn thuần là để giải quyết những vấn đề liên quan đến sự mâu thuẫn giữa suy nghĩ và hành động của khách hàng, nếu có.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ương tự như những kĩ năng tư vấn khác, để áp dụng thành thạo PVTĐL đòi hỏi phải thực hành thường xuyên chứ không chỉ dừng lại ở việc học qua sách vở. Ngoài ra, không nên nghĩ rằng PVTĐL là một phương pháp được lập trình sẵn theo từng bước một, mà đây là một phương pháp linh hoạt của sự tương tác trong điều trị. Cuối cùng, để nắm chắc các kĩ thuật PVTĐL, bạn cần phải nghiên cứu và thực hành rất nhiều. Chúng tôi cũng cung cấp cho các bạn những nguồn tài liệu tham khảo chi tiết ở phần cuối của tài liệu này. Hi vọng rằng đây sẽ là những nguồn tài liệu tham khảo bổ ích giúp các bạn thành thạo cả về lí thuyết lẫn thực hành PVTĐ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Cảm ơn học viên vì đã tham gia thảo luận tích cực và đặt câu hỏi. Hỏi xem họ muốn hỏi điều gì nữa không. Trong trường hợp họ có câu hỏi, hãy trả lời các câu hỏi liên quan đến nội dung bài giảng này. Những câu liên quan đến bài khác, đề nghị họ ghi lại câu hỏi để trả lời ở bài sau.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ài liệu tham khả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guồn: </a:t>
            </a:r>
            <a:r>
              <a:rPr b="0" lang="en-US" sz="600" spc="-1" strike="noStrike">
                <a:solidFill>
                  <a:srgbClr val="000000"/>
                </a:solidFill>
                <a:latin typeface="Calibri"/>
              </a:rPr>
              <a:t>Jarvis, T., Tebutt, J. &amp; Mattick, R. 1995, ‘Motivational Interviewing’, Treatment Approaches for Alcohol and Drug Dependence, An Introductory Guide, ch. 3, John Wiley &amp; Sons Ltd., Chichester, England.</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guồn: </a:t>
            </a:r>
            <a:r>
              <a:rPr b="0" lang="en-US" sz="600" spc="-1" strike="noStrike">
                <a:solidFill>
                  <a:srgbClr val="000000"/>
                </a:solidFill>
                <a:latin typeface="Calibri"/>
              </a:rPr>
              <a:t>Mason, P. 1997, Respecting Choice: Brief Motivational Interviewing, National Centre for Education and Training on Addiction (NCETA), Flinders University, Adelaide.</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guồn: </a:t>
            </a:r>
            <a:r>
              <a:rPr b="0" lang="en-US" sz="600" spc="-1" strike="noStrike">
                <a:solidFill>
                  <a:srgbClr val="000000"/>
                </a:solidFill>
                <a:latin typeface="Calibri"/>
              </a:rPr>
              <a:t>McDonald, J., Roche, A.M., Durbridge, M. &amp; Skinner, N. 2003, Peer Education: From Evidence to Practice. An Alcohol and Other Drugs Primer, National Centre for Education and Training on Addiction (NCETA), Flinders University, Adelaide.</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iller, W. &amp; Rollnick, S. 1991, ‘Motivational Interviewing’ Preparing People to Change Addictive Behavior, The Guilford Press, New York.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otivational Interviewing at: http://www.drugnet.bizland.com/intervention/motivati.htm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niel D. Squires &amp; Theresa B. Moyers. ‘Motivational Interviewing’ A Guideline developed for the Behavioral Health Recovery Management Project. University of New Mexico Center on Alcoholism, Substance Abuse and Addictions, Albuquerque, New Mexic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John Howard, 2006. A Toolkit for Building Capacity For Community-based Treatment and Continuing Care of Young Drug Abusers in The Greater Mekong Subregion. The United Nations Economic and Social Commission for Asia and the Pacifi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illiam R. Miller, 1999. ‘Enhancing Motivation for Change in Substance Abuse Treatment’ Treatment Improvement Protocol (TIP) Series 35. Center for Substance Abuse Treatment (CSAT).  Substance Abuse and Mental Health Services Administration's (SAMHSA). U.S. Department Of Health And Human Servic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 http://www.ncbi.nlm.nih.gov/books/bv.fcgi?rid=hstat5.chapter.61302</a:t>
            </a:r>
            <a:endParaRPr b="0" lang="en-US" sz="600" spc="-1" strike="noStrike">
              <a:solidFill>
                <a:srgbClr val="000000"/>
              </a:solidFill>
              <a:latin typeface="Calibri"/>
            </a:endParaRPr>
          </a:p>
        </p:txBody>
      </p:sp>
      <p:sp>
        <p:nvSpPr>
          <p:cNvPr id="1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F2411-7B49-4982-A1EE-07E028160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hông tin tham khảo: </a:t>
            </a:r>
            <a:r>
              <a:rPr b="0" lang="en-US" sz="1000" spc="-1" strike="noStrike">
                <a:solidFill>
                  <a:srgbClr val="000000"/>
                </a:solidFill>
                <a:latin typeface="Calibri"/>
              </a:rPr>
              <a:t>Khi áp dụng kĩ thuật PVTĐL, việc thể hiện sự </a:t>
            </a:r>
            <a:r>
              <a:rPr b="1" lang="en-US" sz="1000" spc="-1" strike="noStrike">
                <a:solidFill>
                  <a:srgbClr val="000000"/>
                </a:solidFill>
                <a:latin typeface="Calibri"/>
              </a:rPr>
              <a:t>thấu cảm</a:t>
            </a:r>
            <a:r>
              <a:rPr b="0" lang="en-US" sz="1000" spc="-1" strike="noStrike">
                <a:solidFill>
                  <a:srgbClr val="000000"/>
                </a:solidFill>
                <a:latin typeface="Calibri"/>
              </a:rPr>
              <a:t> là một việc vô cùng quan trọng. Nếu bạn thể hiện sự quan tâm thì khách hàng sẽ cảm thấy tự tin hơn để có thể thổ lộ những thông tin cá nhân của họ, và có thể kể với bạn về những gì đã xảy ra trong cuộc đời họ. Chúng ta cũng cần phải hỗ trợ khách hàng chuyển từ giai đoạn dự định sang giai đoạn thay đổi hành vi. Như đã thảo luận ở bài trước, khách hàng đang trong giai đoạn dự định thay đổi hành vi thường tự nhủ: "đây là những điều mà tôi thích về việc sử dụng ma túy, nhưng cũng có những vấn đề mà tôi gặp phải liên quan đến sử dụng ma túy". Đó được gọi là sự </a:t>
            </a:r>
            <a:r>
              <a:rPr b="1" lang="en-US" sz="1000" spc="-1" strike="noStrike">
                <a:solidFill>
                  <a:srgbClr val="000000"/>
                </a:solidFill>
                <a:latin typeface="Calibri"/>
              </a:rPr>
              <a:t>mơ hồ </a:t>
            </a:r>
            <a:r>
              <a:rPr b="0" lang="en-US" sz="1000" spc="-1" strike="noStrike">
                <a:solidFill>
                  <a:srgbClr val="000000"/>
                </a:solidFill>
                <a:latin typeface="Calibri"/>
              </a:rPr>
              <a:t>- họ đang mơ hồ không biết có nên thay đổi hay không. Một tư vấn viên giỏi sẽ giúp khách hàng nhận ra sự </a:t>
            </a:r>
            <a:r>
              <a:rPr b="1" lang="en-US" sz="1000" spc="-1" strike="noStrike">
                <a:solidFill>
                  <a:srgbClr val="000000"/>
                </a:solidFill>
                <a:latin typeface="Calibri"/>
              </a:rPr>
              <a:t>không nhất quán </a:t>
            </a:r>
            <a:r>
              <a:rPr b="0" lang="en-US" sz="1000" spc="-1" strike="noStrike">
                <a:solidFill>
                  <a:srgbClr val="000000"/>
                </a:solidFill>
                <a:latin typeface="Calibri"/>
              </a:rPr>
              <a:t>giữa những gì họ đang làm và những gì họ muốn làm. Bên cạnh đó, nếu người ta cảm thấy tự tin hơn về việc thay đổi một hành vi, họ sẽ cảm thấy có nhiệt tình để thay đổi. Tư vấn viên cần giúp khách hàng tự thúc đẩy bản thân và thêm tự tin để tiếp tục thay đổi.</a:t>
            </a:r>
            <a:r>
              <a:rPr b="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ột số người sẽ phản kháng lại những gợi ý về việc thay đổi hành vi. Có thể là họ thiếu tự tin vào khả năng của bản thân và do đó, thiếu động cơ để thay đổi. Một phương pháp hiệu quả để xử lý sự phản kháng này là tránh đối đầu, thay vào đó hãy </a:t>
            </a:r>
            <a:r>
              <a:rPr b="1" lang="en-US" sz="1000" spc="-1" strike="noStrike">
                <a:solidFill>
                  <a:srgbClr val="000000"/>
                </a:solidFill>
                <a:latin typeface="Calibri"/>
              </a:rPr>
              <a:t>lựa theo sự phản kháng. </a:t>
            </a:r>
            <a:r>
              <a:rPr b="0" lang="en-US" sz="1000" spc="-1" strike="noStrike">
                <a:solidFill>
                  <a:srgbClr val="000000"/>
                </a:solidFill>
                <a:latin typeface="Calibri"/>
              </a:rPr>
              <a:t>Sẽ không hiệu quả nếu chúng ta cố thuyết phục khách hàng thay đổi quan điểm hoặc  đối đầu với họ với những câu hỏi như: "Bạn bị điên à? Tại sao bạn lại làm như vậy?" Bạn càng cố ép khách hàng phải thay đổi hành vi thì họ lại càng dễ phản kháng lại và chống đối lại bạn.</a:t>
            </a:r>
            <a:r>
              <a:rPr b="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hắc lại với học viên rằng bạn đã thảo luận với họ về các </a:t>
            </a:r>
            <a:r>
              <a:rPr b="1" lang="en-US" sz="1000" spc="-1" strike="noStrike">
                <a:solidFill>
                  <a:srgbClr val="000000"/>
                </a:solidFill>
                <a:latin typeface="Calibri"/>
              </a:rPr>
              <a:t>kĩ năng tư </a:t>
            </a:r>
            <a:r>
              <a:rPr b="0" lang="en-US" sz="1000" spc="-1" strike="noStrike">
                <a:solidFill>
                  <a:srgbClr val="000000"/>
                </a:solidFill>
                <a:latin typeface="Calibri"/>
              </a:rPr>
              <a:t>vấn có thể áp dụng bao gồm: đặt câu hỏi mở, lắng nghe tích cực, khen ngợi và tóm tắt những điều khách hàng nói. Có rất nhiều cách để giúp khách hàng bình tâm lại để hàng suy nghĩ về những điều họ đang làm và họ có thực sự muốn tiếp tục hành vi đó hay không. Những kĩ năng này có thể sử dụng phối hợp với nhau để khởi xướng cuộc thảo luận với khách hàng về sự thay đổi.</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Nói với học viên rằng họ có thể tham khảo Tài liệu phát tay 4.2-1 về 5 nguyên tắc cơ bản trong PVTĐL để có thêm kiến thức về kĩ thuật này.</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FBBC8-9223-42C9-B5B1-5F1007B8A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 </a:t>
            </a:r>
            <a:r>
              <a:rPr b="0" i="1" lang="en-US" sz="700" spc="-1" strike="noStrike">
                <a:solidFill>
                  <a:srgbClr val="000000"/>
                </a:solidFill>
                <a:latin typeface="Calibri"/>
              </a:rPr>
              <a:t>Quá trình thực hiện kĩ thuật PVTĐL bao gồm 4 bước:</a:t>
            </a:r>
            <a:r>
              <a:rPr b="1"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1: Đánh giá khách hàng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Nội dung chi tiết về đánh giá khách hàng sẽ được đề cập đến trong bài 5.1. Thông thường trong một buổi tư vấn sẽ khó có thể đánh giá tất cả những nội dung cần thiết. Quá trình đánh giá là một quá trình lâu dài và liên tục. Để có thể thực hiện kĩ thuật PVTĐL nhằm khuyến khích sự thay đổi, có thể chỉ cần thực hiện một đánh giá sơ bộ ban đầu để giúp tư vấn viên định hướng cho quá trình PVTĐL.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2. Tìm hiểu về những điều tốt và không tốt của hành vi hiện tại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Khách hàng thường mong đợi bạn hỏi họ về những điều không tốt liên quan tới việc sử dụng ma túy của họ. Họ không bao giờ nghĩ rằng bạn lại quan tâm và sẽ hỏi họ về những điều mà họ thấy có lợi khi sử dụng ma túy.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Tại sao một tư vấn viên lại cần quan tâm đến những điều mà khách hàng cho là những lợi ích có được khi sử dụng ma túy?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Dành thời gian để học viên trả lời câu hỏi</a:t>
            </a: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 </a:t>
            </a:r>
            <a:r>
              <a:rPr b="0" i="1" lang="en-US" sz="700" spc="-1" strike="noStrike">
                <a:solidFill>
                  <a:srgbClr val="000000"/>
                </a:solidFill>
                <a:latin typeface="Calibri"/>
              </a:rPr>
              <a:t>Điều quan trọng là khuyến khích khách hàng bắt đầu việc trao đổi thông tin giữa miệng và não của họ để họ có thể nghe thấy những điều họ thích và những điều họ không thích. Làm như vậy sẽ giúp bạn hiểu rõ xem họ đang ở giai đoạn tiền dự định hay giai đoạn dự định đối với việc thay đổi hành vi. Nó cũng sẽ giúp bạn hiểu điều gì là quan trọng đối với họ và điều gì là không quan trọng. Những điểm khách hàng cho rằng có lợi từ việc sử dụng ma túy của họ sẽ là trọng tâm để bạn tập trung vào trong phần tiếp theo của buổi tư vấn. Hãy tiến hành sắm vai và bạn sẽ hiểu lý do.</a:t>
            </a:r>
            <a:r>
              <a:rPr b="1"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Tiến hành đóng vai với một học viên tình nguyện. Đề nghị học viên đó lựa chọn một hành vi cụ thể, không nhất thiết phải liên quan tới việc sử dụng ma túy. Bạn sẽ vào vai tư vấn viên còn học viên vào vai khách hàng. Mục tiêu của phần đóng vai là để thảo luận với khách hàng về những điều tốt và không tốt về hành vi đó. Ví dụ về bài tập đóng vai giữa giảng viên và học viên trong Tài liệu phát tay 4.2-1: Ví dụ về một buổi tư vấn tìm hiểu về những điều tốt và không tốt về một hành vi cụ thể (thói quen đi ngủ - hay thức khuya). Bảng mẫu liệt kê những điều tốt và không tốt của việc sử dụng ma túy cũng được trình bày trong Tìa liệu phát tay 4.2-4</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3: Giúp khách hàng ra quyết định (sử dụng Bảng ra quyết định)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Một trong những cách để giúp cho khách hàng ra quyết định là sử dụng Bảng ra quyết định. Khách hàng thường cùng lúc có nhiều động cơ mâu thuẫn với nhau, vì hành vi hiện tại của họ (ví dụ như việc uống rượu) hoặc một hành vi họ muốn thực hiện (ví dụ như tập thể dục) bao giờ cũng có hai mặt có lợi và không có lợi. Chúng ta sẽ thảo luận về Bảng ra quyết định sau một vài bản chiếu tiếp theo.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4: Giúp đề ra mục tiêu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Ngay sau khi khách hàng quyết định là họ sẽ thay đổi, tư vấn viên cần tận dụng ngay thời điểm đó để thảo luận với khách hàng về việc đề ra mục tiêu nhằm đảm bảo họ sẽ hành động ngay sau buổi tư vấn. Có thể cũng cần tìm hiểu xem khách hàng coi việc thay đổi này quan trọng như thế nào và họ tự tin đến đâu khi thực hiện thay đổi. Một cách để xác định chính là hỏi họ xem họ cần hỗ trợ gì để thay đổi.</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AF1B0-13BC-4720-ABD3-B03E84E50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Trước khi tiến hành PVTĐL, nên tiến hành đánh giá khách hàng một cách ngắn gọn. Trong khi đánh giá khách hàng, bạn cần xây dựng mối quan hệ tốt với họ, thể hiện sự thấu cảm trong quá trình đánh giá, tìm hiểu về tiền sử sử dụng ma túy (mục đích là có được thông tin về loại ma túy khách hàng dùng và lượng sử dụng trong một ngày nhất định), và phản hồi về kết quả đánh giá một cách khách quan. Chúng ta sẽ thảo luận chi tiết về cách đánh giá việc sử dụng ma túy và rượu trong bài sa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827D4-DE36-4748-B5B4-C275CABD3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Sau khi bạn đã khai thác được tiền sử sử dụng ma túy của khách hàng, bước tiếp theo là tìm hiểu những điều họ thích về việc sử dụng ma túy của họ. Những câu hỏi liệt kê trên bản chiếu là ví dụ về những cách bạn có thể áp dụng để tìm hiểu. Không hiếm khi khách hàng sẽ ngạc nhiên với những câu hỏi này và ngần ngại đưa ra những suy nghĩ bên trong về những điều họ thích về sử dụng ma túy. Họ có thể lo lắng và không hiểu động cơ của bạn là gì. Tuy nhiên, thảo luận về những lợi ích đó là rất quan trọng vì chúng sẽ là những điểm khởi đầu cho các can thiệp tiếp theo trong quá trình PVTĐ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au khi tóm tắt lại những lợi điểm vừa thảo luận với khách hàng, hãy hỏi họ xem còn những lợi ích nào khác của việc sử dụng ma túy không, để đề phòng trường hợp bỏ sót. Bạn cũng có thể sắp xếp những lợi điểm này theo thứ tự quan trọng từ góc nhìn của khách hàng. Đừng chủ quan cho rằng điều gì được liệt kê trước thì quan trọng hơn. Bạn có thể đặt câu hỏi như: "Trong số này, điều gì là quan trọng nhất đối với bạn? Điều gì ít quan trọng nhất?" Đồng thời, luôn khen ngợi và hỗ trợ những nỗ lực thay đổi của khách hàng. Cám ơn họ đã đến với dịch vụ tư vấn và đã cân nhắc thay đổi sẽ khuyến khích khách hàng tự tin hơn về sự thay đổi mà họ đang cố gắng thực hiện.</a:t>
            </a:r>
            <a:endParaRPr b="0" lang="en-US" sz="1200" spc="-1" strike="noStrike">
              <a:solidFill>
                <a:srgbClr val="000000"/>
              </a:solidFill>
              <a:latin typeface="Calibri"/>
            </a:endParaRPr>
          </a:p>
        </p:txBody>
      </p:sp>
      <p:sp>
        <p:nvSpPr>
          <p:cNvPr id="1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4B8D4-8FEE-4BEC-8F07-619D512DB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Có một số câu hỏi mẫu có thể được sử dụng để tìm hiểu về những điều không tốt liên quan đến việc sử dụng ma túy của khách hàng. Giống như với phần hỏi về những điều tốt, hãy sắp xếp các yếu tố không tốt theo thứ tự từ ít quan trọng nhất đến quan trọng nhất. Tham khảo một ví dụ về 5 phút tìm hiểu về những điều tốt và chưa tốt về việc sử dụng heroin trong một buổi tư vấn kèm theo nhận xét phản hồi trong Tài liệu  phát tay 4.2-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217F5-8516-4922-94FA-C94F4C752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Việc tóm tắt lại sau mỗi bước là rất quan trọng. Nó giúp bạn chắc chắn rằng bạn hiểu đúng khách hàng và để khách hàng khẳng định những điều họ đã nói. Ghi chép lại những nội dung chính trong quá trình trao đổi có thể giúp tư vấn viên tóm tắt chính xác hơn. Tóm tắt cũng giúp khách hàng sắp xếp lại và xác định điều gì là quan trọng nhất với họ. Phải nhớ đảm bảo rằng việc tóm tắt nhấn mạnh vào những điều mà khách hàng cho là quan trọng nhất.</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D8AD1-86FB-43F5-BB6B-ACBF3E899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Mục đích chính của việc tóm tắt lợi ích và giá phải trả của việc sử dụng ma túy của khách hàng là giúp họ so sách giữa giá phải trả và lợi ích để họ có thể ra quyết định. Thực ra khi đến dịch vụ tư vấn là khách hàng thường đã bắt đầu nhận ra rằng họ cần thay đổi cách sống. Tuy nhiên, họ có thể vẫn còn mơ hồ. Quá trình tóm tắt và đánh giá mức độ quan trọng có thể giúp họ nhìn nhận sự việc rõ ràng hơn. Hãy nhớ: việc quyết định tiến hành thay đổi hay không phải là lựa chọn của khách hà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BFC68-4EB9-4739-A2BD-E40E55D00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0134F-7E30-4FA2-B39D-0863911F5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4D67-9748-46BF-BB9A-46B2AFB4D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28BEA-C89C-4B7A-BC55-A957910F4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FF610-5AF6-450B-B065-9C6FFFAE8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5D06B-2BA9-46BE-80E1-AB104EC9A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2C551-DD90-464F-9A07-3F3EE552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4D8DB-57CE-4B81-B740-0F3ECFD82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59EBF-BC7A-4177-B0E6-E3BAFFA5F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3D92E-8D83-4B19-85E0-56747159B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77B0-69B8-4CA0-B538-7E280195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C9AD9-96E3-4EF6-82CC-C64918289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27CB-A122-4A38-9A60-005C70162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06FC4-897C-4EEA-8BBB-68B858F817E2}"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24001-A1B5-450C-94A4-B3BEF71B5C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11040" y="152280"/>
            <a:ext cx="860436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99835-5198-4E06-B6DE-0343CE02FD7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C9D6D-DBF6-4D07-891C-5D14220EAE4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11040" y="152280"/>
            <a:ext cx="860436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6B046-1491-40FE-93E1-CB9F871FD5C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2.1-1.ai"/>
          <p:cNvPicPr/>
          <p:nvPr/>
        </p:nvPicPr>
        <p:blipFill>
          <a:blip r:embed="rId1"/>
          <a:stretch/>
        </p:blipFill>
        <p:spPr>
          <a:xfrm>
            <a:off x="311040" y="152280"/>
            <a:ext cx="8604360" cy="6480360"/>
          </a:xfrm>
          <a:prstGeom prst="rect">
            <a:avLst/>
          </a:prstGeom>
          <a:ln w="0">
            <a:noFill/>
          </a:ln>
        </p:spPr>
      </p:pic>
      <p:sp>
        <p:nvSpPr>
          <p:cNvPr id="7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B1884-1716-4820-A1BB-E2917B881BA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2.1-1.ai"/>
          <p:cNvPicPr/>
          <p:nvPr/>
        </p:nvPicPr>
        <p:blipFill>
          <a:blip r:embed="rId1"/>
          <a:stretch/>
        </p:blipFill>
        <p:spPr>
          <a:xfrm>
            <a:off x="311040" y="152280"/>
            <a:ext cx="8604360" cy="6480360"/>
          </a:xfrm>
          <a:prstGeom prst="rect">
            <a:avLst/>
          </a:prstGeom>
          <a:ln w="0">
            <a:noFill/>
          </a:ln>
        </p:spPr>
      </p:pic>
      <p:sp>
        <p:nvSpPr>
          <p:cNvPr id="7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D3BF1-4356-459A-9732-2DFD08E3DB9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11040" y="152280"/>
            <a:ext cx="860436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0723E-4C31-4F23-BC1D-B3E0F26A973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2.1-1.ai"/>
          <p:cNvPicPr/>
          <p:nvPr/>
        </p:nvPicPr>
        <p:blipFill>
          <a:blip r:embed="rId1"/>
          <a:stretch/>
        </p:blipFill>
        <p:spPr>
          <a:xfrm>
            <a:off x="311040" y="152280"/>
            <a:ext cx="8604360" cy="6480360"/>
          </a:xfrm>
          <a:prstGeom prst="rect">
            <a:avLst/>
          </a:prstGeom>
          <a:ln w="0">
            <a:noFill/>
          </a:ln>
        </p:spPr>
      </p:pic>
      <p:sp>
        <p:nvSpPr>
          <p:cNvPr id="7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131DF-AE2D-4849-8381-3DDF659D7A0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F0A9F-D042-4DF1-9D3F-0C03E34A66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9" name="Picture 10" descr="C:\Users\tfreese\AppData\Local\Microsoft\Windows\Temporary Internet Files\Content.IE5\LAE8VZPQ\MP900386814[1].jpg"/>
          <p:cNvPicPr/>
          <p:nvPr/>
        </p:nvPicPr>
        <p:blipFill>
          <a:blip r:embed="rId1"/>
          <a:stretch/>
        </p:blipFill>
        <p:spPr>
          <a:xfrm>
            <a:off x="-76320" y="352440"/>
            <a:ext cx="9220320" cy="549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6" repeatCount="1000">
                                  <p:stCondLst>
                                    <p:cond delay="0"/>
                                  </p:stCondLst>
                                  <p:childTnLst>
                                    <p:animMotion origin="layout" path="M 0 0 C 0 0.033 0.027 0.06 0.06 0.06 C 0.099 0.06 0.113 0.03 0.119 0.012 L 0.125 -0.012 C 0.131 -0.03 0.146 -0.06 0.19 -0.06 C 0.218 -0.06 0.25 -0.033 0.25 0 C 0.25 0.033 0.218 0.06 0.19 0.06 C 0.146 0.06 0.131 0.03 0.125 0.012 L 0.119 -0.012 C 0.113 -0.03 0.099 -0.06 0.06 -0.06 C 0.027 -0.06 0 -0.033 0 0 Z">
                                      <p:cBhvr>
                                        <p:cTn id="6" dur="1500" fill="hold"/>
                                        <p:tgtEl>
                                          <p:spTgt spid="79"/>
                                        </p:tgtEl>
                                      </p:cBhvr>
                                    </p:animMotion>
                                  </p:childTnLst>
                                </p:cTn>
                              </p:par>
                            </p:childTnLst>
                          </p:cTn>
                        </p:par>
                        <p:par>
                          <p:cTn id="7" nodeType="afterEffect" fill="hold">
                            <p:stCondLst>
                              <p:cond delay="1500"/>
                            </p:stCondLst>
                            <p:childTnLst>
                              <p:par>
                                <p:cTn id="8" nodeType="afterEffect" fill="hold" presetClass="path" presetID="26" repeatCount="1000">
                                  <p:stCondLst>
                                    <p:cond delay="0"/>
                                  </p:stCondLst>
                                  <p:childTnLst>
                                    <p:animMotion origin="layout" path="M -2.77778E-006 -3.7037E-007 C -0.00156 -0.0331 -0.02986 -0.05741 -0.06284 -0.0544 C -0.10173 -0.05093 -0.11423 -0.01991 -0.11927 -0.00139 L -0.12413 0.02315 C -0.12916 0.04167 -0.14271 0.07269 -0.18646 0.07662 C -0.21458 0.07917 -0.24757 0.05787 -0.2493 0.02222 C -0.25104 -0.01088 -0.22048 -0.04051 -0.19236 -0.04306 C -0.14861 -0.04676 -0.13229 -0.01829 -0.12517 -0.00093 L -0.11805 0.02269 C -0.11128 0.04005 -0.09566 0.06852 -0.05694 0.06528 C -0.02396 0.06227 0.00174 0.0331 -2.77778E-006 -3.7037E-007 Z">
                                      <p:cBhvr>
                                        <p:cTn id="9" dur="15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2.1-1.ai"/>
          <p:cNvPicPr/>
          <p:nvPr/>
        </p:nvPicPr>
        <p:blipFill>
          <a:blip r:embed="rId1"/>
          <a:stretch/>
        </p:blipFill>
        <p:spPr>
          <a:xfrm>
            <a:off x="311040" y="152280"/>
            <a:ext cx="8604360" cy="6480360"/>
          </a:xfrm>
          <a:prstGeom prst="rect">
            <a:avLst/>
          </a:prstGeom>
          <a:ln w="0">
            <a:noFill/>
          </a:ln>
        </p:spPr>
      </p:pic>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7129C-69A2-45E2-B4C4-21563D3450E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2.1-1.ai"/>
          <p:cNvPicPr/>
          <p:nvPr/>
        </p:nvPicPr>
        <p:blipFill>
          <a:blip r:embed="rId1"/>
          <a:stretch/>
        </p:blipFill>
        <p:spPr>
          <a:xfrm>
            <a:off x="311040" y="152280"/>
            <a:ext cx="8604360" cy="6480360"/>
          </a:xfrm>
          <a:prstGeom prst="rect">
            <a:avLst/>
          </a:prstGeom>
          <a:ln w="0">
            <a:noFill/>
          </a:ln>
        </p:spPr>
      </p:pic>
      <p:sp>
        <p:nvSpPr>
          <p:cNvPr id="8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9388D-416D-48F7-89B8-F044BC8368C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2.1-1.ai"/>
          <p:cNvPicPr/>
          <p:nvPr/>
        </p:nvPicPr>
        <p:blipFill>
          <a:blip r:embed="rId1"/>
          <a:stretch/>
        </p:blipFill>
        <p:spPr>
          <a:xfrm>
            <a:off x="311040" y="152280"/>
            <a:ext cx="8604360" cy="6480360"/>
          </a:xfrm>
          <a:prstGeom prst="rect">
            <a:avLst/>
          </a:prstGeom>
          <a:ln w="0">
            <a:noFill/>
          </a:ln>
        </p:spPr>
      </p:pic>
      <p:sp>
        <p:nvSpPr>
          <p:cNvPr id="8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76260-674C-47F0-A5AC-ED78AC0110D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46A0C-D695-46E6-8FFA-7BA882AF420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2.1-1.ai"/>
          <p:cNvPicPr/>
          <p:nvPr/>
        </p:nvPicPr>
        <p:blipFill>
          <a:blip r:embed="rId1"/>
          <a:stretch/>
        </p:blipFill>
        <p:spPr>
          <a:xfrm>
            <a:off x="311040" y="152280"/>
            <a:ext cx="8604360" cy="6480360"/>
          </a:xfrm>
          <a:prstGeom prst="rect">
            <a:avLst/>
          </a:prstGeom>
          <a:ln w="0">
            <a:noFill/>
          </a:ln>
        </p:spPr>
      </p:pic>
      <p:sp>
        <p:nvSpPr>
          <p:cNvPr id="8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40FA0-BABC-415D-9F68-C899D82E65D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9EC43-A5CF-4B5E-BF70-A02328C7DB1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900EA-C039-422C-B079-090DEBA889A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B1F76-31E3-4D33-B0B4-F8EDBA5EBA7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47831-C484-441E-93BF-B90B8A38889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DF9DD-21F5-4A95-9CC7-CCC31E36D59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0CB04-5A09-4384-A9B8-C58D4CC5EDB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81E7A-E1EA-4F99-9383-9D79459A70B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03:54:57Z</dcterms:created>
  <dc:creator>Hoang Anh</dc:creator>
  <dc:description/>
  <dc:language>en-US</dc:language>
  <cp:lastModifiedBy>Nhu Trang</cp:lastModifiedBy>
  <dcterms:modified xsi:type="dcterms:W3CDTF">2017-06-16T01:24:50Z</dcterms:modified>
  <cp:revision>30</cp:revision>
  <dc:subject/>
  <dc:title>1</dc:title>
</cp:coreProperties>
</file>