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B2BB4-BC97-4C11-AFEC-7966239C21A8}"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DEEC5-D923-46F7-AF93-8809D0B71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Say: </a:t>
            </a:r>
            <a:r>
              <a:rPr b="0" i="1" lang="en-US" sz="1100" spc="-1" strike="noStrike">
                <a:solidFill>
                  <a:srgbClr val="000000"/>
                </a:solidFill>
                <a:latin typeface="Calibri"/>
              </a:rPr>
              <a:t>The second category includes determinants that are primarily associated with interpersonal factors. Examples of this include present or recent interactions with another person or persons who influence the user (reactions to events that occurred in the relatively distant past are classified in the first category). One’s being in the presence of others at the time of the relapse is not, by default, an interpersonal classification, unless the client mentions/implies that these people had some influence, or were somehow involved in the even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oping with interpersonal conflict. This includes coping with a current or relatively recent conflict associated with any interpersonal relationship such as marriage, friendship, family, or employer-employee relations.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Social pressure. These determinants involve client response to the influences of another individual or group of individuals who exert pressure (either direct or indirect) on the individual to use the substance.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FYI: </a:t>
            </a:r>
            <a:r>
              <a:rPr b="0" lang="en-US" sz="1100" spc="-1" strike="noStrike">
                <a:solidFill>
                  <a:srgbClr val="000000"/>
                </a:solidFill>
                <a:latin typeface="Calibri"/>
              </a:rPr>
              <a:t>(1) Direct social pressure. This is direct contact (usually with verbal interaction) with another person or group who puts pressure on the user, or who supplies the substance to the user (e.g. being offered a drug by someone, or being urged to use a drug by someone else). This is distinguished from situations in which the substance is obtained from someone else at the request of the user (who has already decided to use).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Indirect social pressure. This is when the individual responds based on the observation of another person or group that is using the substance, or who serve(s) as a model for the user.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05DAF-5ED2-40B8-9970-954920EAB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 </a:t>
            </a:r>
            <a:r>
              <a:rPr b="0" i="1" lang="en-US" sz="1000" spc="-1" strike="noStrike">
                <a:solidFill>
                  <a:srgbClr val="000000"/>
                </a:solidFill>
                <a:latin typeface="Calibri"/>
              </a:rPr>
              <a:t>Dự phòng tái nghiện là thành phần vô cùng quan trọng trong quá trình hồi phục sau cai nghiện. Sau khi khách hàng đã chuyển sang giai đoạn tương đối ổn định, họ cần xây dựng ngay những kĩ năng dự phòng tái nghiện trong tương lai. Khách hàng cần học cách xác định những nguyên nhân gây ra tái nghiện và kiểm soát chúng mà không tái sử dụng heroin hay các loại ma túy khác.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Dự phòng tái nghiện bao gồm dạy khách hàng nhận biết trước khi nào thì họ đang có xu hướng tái nghiện để có thể quay ngược lại. Quá trình tái nghiện không phải chỉ bắt đầu khi khách hàng bắt đầu sử dụng lại ma túy - nó là cả một quá trình dài được bắt đầu từ trước đó. Nếu được giáo dục thì khách hàng có thể nhận biết dễ dàng những dấu hiệu cảnh báo/yếu tố cám dỗ dẫn tới tái nghiện. Các dấu hiệu cảnh báo/yếu tố cám dỗ này là những trạng thái cảm xúc, cảm giác và hành vi tiêu cực. Thông thường, khách hàng có thể nhận biết những ví dụ về những thay đổi tiêu cực này trong cuộc đời họ và, vì vậy, họ có thể hiểu được quá trình tái nghiện xảy ra như thế nào.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ác bạn có tin không, người ta hoàn toàn có thể giúp một người tái sử dụng một lần không bị tái nghiện hoàn toàn. Bạn phải cùng với khách hàng xây dựng các chiến lược hành vi và/hoặc nhận thức để nhận biết và dự phòng thói quen cũ. Các chiến lược này có thể bao gồm thường xuyên tham dự các cuộc họp hỗ trợ đồng đẳng, chỉ dành thời gian với những người hỗ trợ bạn phục hồi, duy trì cuộc sống ổn định, tránh hoặc đối phó với những yếu tố cám dỗ bên ngoài, như tránh đến chơi nhà hàng xóm nơi mình vẫn mua ma túy trước đây.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Kết quả điều trị cho thấy nhiều người tái sử dụng nhưng không phải ai cũng sử dụng lại nhiều như trước khi cai. Trước đây nhiều người nghĩ rằng chỉ cần sử dụng lại một lần thì có nghĩa là đã tái nghiện hoàn toàn. Chúng ta biết rằng hiểu như vậy là không đú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húng ta có thể xác định rằng khoảng 90% những người cai nghiện trong trung tâm cai nghiện (trung tâm 06) sẽ sử dụng lại heroin trong vòng 1 năm kể từ thời điểm ra khỏi trung tâm. Tuy nhiên, chỉ có 60% trong số này là sẽ quay trở lại sử dụng với cường độ sử dụng như trước đây.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húng ta sẽ thảo luận những cách để có thể giúp họ, kể cả những người mới lỡ sử dụng một vài lần và những người đã tái nghiện hoàn toàn, để họ có thể lấy lại được khả năng kiểm soát.</a:t>
            </a:r>
            <a:endParaRPr b="0" lang="en-US" sz="10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97891-5E88-4A4E-BEAC-0F5F1A607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ay:</a:t>
            </a:r>
            <a:r>
              <a:rPr b="1" i="1" lang="en-US" sz="1100" spc="-1" strike="noStrike">
                <a:solidFill>
                  <a:srgbClr val="000000"/>
                </a:solidFill>
                <a:latin typeface="Calibri"/>
              </a:rPr>
              <a:t> </a:t>
            </a:r>
            <a:r>
              <a:rPr b="0" i="1" lang="en-US" sz="1100" spc="-1" strike="noStrike">
                <a:solidFill>
                  <a:srgbClr val="000000"/>
                </a:solidFill>
                <a:latin typeface="Calibri"/>
              </a:rPr>
              <a:t>There are a number of factors that may affect the outcomes of relapse prevention treatmen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Personal characteristics include self-efficacy and loss of control.  Female clients may have different needs/circumstances that may be more complicated. Can anyone think of some exampl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eaching instructions: </a:t>
            </a:r>
            <a:r>
              <a:rPr b="0" lang="en-US" sz="1100" spc="-1" strike="noStrike">
                <a:solidFill>
                  <a:srgbClr val="000000"/>
                </a:solidFill>
                <a:latin typeface="Calibri"/>
              </a:rPr>
              <a:t>Allow participants a few minutes to provide responses. </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ay: </a:t>
            </a:r>
            <a:r>
              <a:rPr b="0" i="1" lang="en-US" sz="1100" spc="-1" strike="noStrike">
                <a:solidFill>
                  <a:srgbClr val="000000"/>
                </a:solidFill>
                <a:latin typeface="Calibri"/>
              </a:rPr>
              <a:t>Higher levels of self-efficacy are predictive of improved treatment outcomes, as discussed in the previous sli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Of similar importance are the factors related to drug use, which include the client’s level of addiction and cognitive ability. The greater the severity of addiction, the lower the probability of succes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lients with poor cognitive skills are less suited to relapse prevention training. In addition, a client’s lifestyle will influence treatment outcomes. Those who have healthier lifestyles (regular physical exercise, good eating habits, positive hobbies, etc.) are more likely to be successful.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he environment in which the client is living is also critical. Remember the importance of the interaction between the drug, the individual, and the environment.  Peer pressure is a good example.</a:t>
            </a:r>
            <a:endParaRPr b="0" lang="en-US" sz="11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2DA78-10DC-45E4-B9EE-0133BDE6E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Say:</a:t>
            </a:r>
            <a:r>
              <a:rPr b="1" i="1" lang="en-US" sz="500" spc="-1" strike="noStrike">
                <a:solidFill>
                  <a:srgbClr val="000000"/>
                </a:solidFill>
                <a:latin typeface="Calibri"/>
              </a:rPr>
              <a:t> </a:t>
            </a:r>
            <a:r>
              <a:rPr b="0" i="1" lang="en-US" sz="500" spc="-1" strike="noStrike">
                <a:solidFill>
                  <a:srgbClr val="000000"/>
                </a:solidFill>
                <a:latin typeface="Calibri"/>
              </a:rPr>
              <a:t>The items on this slide are helpful for initial discussion with clients. They form the framework for identifying potential problems the client may have in coping with risk of relapse. They also form the framework of a theoretical relapse model that can be discussed with the clie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ifferentiate between slip, lapse and relapse</a:t>
            </a:r>
            <a:r>
              <a:rPr b="0" i="1" lang="en-US"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If somebody who is addicted to heroin stopped using heroin and then decided to try heroin again, and they use one time, will they automatically becoming addicted to heroin again? Who here believes they will always go back to being addicted to heroin agai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FYI: </a:t>
            </a:r>
            <a:r>
              <a:rPr b="0" lang="en-US" sz="500" spc="-1" strike="noStrike">
                <a:solidFill>
                  <a:srgbClr val="000000"/>
                </a:solidFill>
                <a:latin typeface="Calibri"/>
              </a:rPr>
              <a:t>It is important to explain that even though heroin addiction is a chronic relapsing disorder, not everybody who re-uses heroin on only one occasion will automatically go back to becoming fully addicted to heroin agai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Say: </a:t>
            </a:r>
            <a:r>
              <a:rPr b="1" i="1" lang="en-US" sz="500" spc="-1" strike="noStrike">
                <a:solidFill>
                  <a:srgbClr val="000000"/>
                </a:solidFill>
                <a:latin typeface="Calibri"/>
              </a:rPr>
              <a:t> </a:t>
            </a:r>
            <a:r>
              <a:rPr b="0" i="1" lang="en-US" sz="500" spc="-1" strike="noStrike">
                <a:solidFill>
                  <a:srgbClr val="000000"/>
                </a:solidFill>
                <a:latin typeface="Calibri"/>
              </a:rPr>
              <a:t>Does anyone here know the difference between slip, lapse and relapse? </a:t>
            </a:r>
            <a:endParaRPr b="0" lang="en-US" sz="5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eaching instructions: </a:t>
            </a:r>
            <a:r>
              <a:rPr b="0" lang="en-US" sz="500" spc="-1" strike="noStrike">
                <a:solidFill>
                  <a:srgbClr val="000000"/>
                </a:solidFill>
                <a:latin typeface="Calibri"/>
              </a:rPr>
              <a:t>Facilitate a brainstorming session for a few minutes to elicit ideas from the participants. </a:t>
            </a:r>
            <a:r>
              <a:rPr b="1" lang="en-US"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Say: </a:t>
            </a:r>
            <a:r>
              <a:rPr b="0" i="1" lang="en-US" sz="500" spc="-1" strike="noStrike">
                <a:solidFill>
                  <a:srgbClr val="000000"/>
                </a:solidFill>
                <a:latin typeface="Calibri"/>
              </a:rPr>
              <a:t>A slip is like a trip, when people make a small mistake and they realize, “Oh, I made a mistake”, and they immediately regain control and do not continue using. They may think about the benefits and the costs of what they have just done. They may think, “Why did I do that? I will lose all these things if I go back to drugs agai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A lapse is like a stumble; it takes longer for them to regain control. Maybe they will use a few times, and then decide it is not worth it, and stop.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A relapse is like a fall. They think, “I have no control”, and they continue using and return to their previous intensity of us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Many clients do not know that their return to drug use can be categorized in these three types of behaviors. After using heroin again on one occasion, they are not yet addicted again. Note - it is not possible to say whether following their first reuse of heroin they will become re-addicted again if they continue to use. There are many factors that contribute. If they do have a slip, they can learn from it to prevent a lapse or relapse. As a counselor, you can use that lapse to talk about preventing relaps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Identify high-risk situation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hese might be either internal or external cues, or both. Relapse prevention strategies need to be matched to the individual’s triggers to help them cope with their risk. It is important for you to eliminate myths about the positive outcomes of returning to drug use. These mythical expectations are particularly influential in relapse. Many clients glorify their drug use experiences by focusing only on positive experiences, such as euphoria and excitement, or pain relief and relaxation. At the same time, they may not acknowledge or may minimize the more negative consequences (e.g. hangovers, health risks, and legal consequences). It is important for clients to understand that once they have been a slave to drug addiction, they can never be a master of the dru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iscuss apparently irrelevant decision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Sometimes people make a decision that appears to them to be accidental. They do not realize that a seemingly harmless decision they have made may have led to another, more harmful decision. For example, they might decide to go and buy coffee at their local café. At the café they meet some of their old friends who happen to use drugs, and who want them to use. While they did not intend to do this, they may not have considered the consequences of heading to the café. Counselors need to help clients to understand apparently irrelevant decisions that may lead to harmful outcom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iscuss the Abstinence Violation Effec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he Abstinence Violation Effect occurs when an individual, having made a personal commitment to abstain from using a substance, has a slip and proceeds to uncontrolled use. The individual thinks, “Well I used once; there is nothing I can do to control it. I might as well just go back to using and not fight it.” Of course, clients CAN control their drug use, and you will need to make them aware of this throughout the recovery proces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evelop coping responses to high-risk situation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Relapse should be viewed as a normal part of change and an opportunity for new learning. Rather than relying on client willpower, relapse prevention training emphasizes skill-powe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raining on relapse prevention can provide specific skills that help the recovering client to cope with each high-risk situatio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You will also need to help clients enhance their sense of self-efficacy. Self-efficacy is defined as the extent to which an individual feels capable of performing a specific task. Higher levels of self-efficacy are predictive of improved treatment outcom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Focus on their confidence and competence in deciding to stop using drug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Counselors need to help build client confidence and competence to abstain from drugs by discussing the long- and short-term costs and benefits of not using drugs, versus the costs and benefits of returning to drug use. Pay particular attention to the long-term benefits and costs. In particular, encourage clients to focus on the long-term benefits of not using drugs and the long-term costs (drug users often do not often think far into the future). You will also need to assess how confident they are with their decision, and use this to gauge which kinds of skills and strategies you will need to proceed. </a:t>
            </a:r>
            <a:endParaRPr b="0" lang="en-US" sz="5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B22D6-583F-42B8-BBB9-066B88C40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Giúp khách hàng tìm ra những yếu tố nguy cơ và nguyên nhân tái nghiện, không chỉ là những nguyên nhân bên trong mà còn cả các mối quan hệ và/hoặc môi trường, rồi sau đó cùng với khách hàng lập các chiến lược dự phòng tái sử dụ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ôi khi người ta quên những tiểu tiết của các yếu tố nguy cơ. Ví dụ: cần phải hỏi họ xem khi nào thì họ thèm nhớ, yêu cầu họ ghi lại lúc đó họ ở đâu, họ đang làm gì, bên cạnh họ có những ai, và những hoàn cảnh khác. Làm như vậy sẽ tăng thêm tính cụ thể khi bạn trao đổi với khách hà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ũng cần phải xem xét những sự kiện có thể là những yếu tố nguy cơ phổ biến. Đó có thể là lễ kỷ niệm một sự kiện vui hay sự kiện buồn, ví dụ như ngày chia tay người yêu hoặc ngày người thân mất, hay sinh nhậ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0D275-92B9-47AC-9E81-08EF40CFE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rên đây là những loại câu hỏi mà bạn có thể sử dụng để làm rõ những tình huống nguy cơ:</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i gặp người như thế nào, nơi nào hoặc điều gì khiến bạn khó có thể cảm thấy thoải mái?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hững tình huống nào bạn cảm thấy có nguy cơ cao dùng lại ma túy?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Làm thế nào bạn biết được một cú vấp có thể xảy ra với bạn?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hững cảm xúc nào khiến bạn cảm thấy khó kiểm soát ham muốn sử dụng ma túy? </a:t>
            </a:r>
            <a:endParaRPr b="0" lang="en-US" sz="1200" spc="-1" strike="noStrike">
              <a:solidFill>
                <a:srgbClr val="000000"/>
              </a:solidFill>
              <a:latin typeface="Calibri"/>
            </a:endParaRPr>
          </a:p>
          <a:p>
            <a:pPr lvl="1" marL="45720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73AD5-D89F-45D0-A86A-FE8C58888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Mục đích ở đây là xác định những tình huống nguy cơ cao để xây dựng các chiến lược cụ thể và các cơ chế đối phó. Đồng thời tư vấn viên cũng nên trao đổi với khách hàng về cảm giác của họ sau mỗi lần “trượt” vì làm như vậy sẽ giúp xác định được mức độ cam kết của họ trong việc giành lại khả năng kiểm soát.</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ôi khi “trượt” xảy ra khi ở trong một tình huống cụ thể và không dẫn tới tái nghiện hoàn toàn. Tình huống đó có thể là lễ kỉ niệm một sự kiện đặc biệt trong đời. Giúp khách hàng phân biệt rõ ràng tình huống nào là tình huống có thể dẫn đến “vấp”, “trượt” và tái nghiện sẽ giúp cho khách hàng cam kết hơn trong việc duy trì không sử dụng ma tú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5FB45-4111-4394-8EC8-2CB2324B8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Giúp khách hàng nhận biết được các dấu hiệu cảnh báo tái nghiện là rất quan trọng. Tư vấn viên nên cùng với khách hàng thảo luận về những dấu hiệu đó để khách hàng có thể theo dõi được chúng. Khách hàng có thể cam kết lại việc thực hiện từ bỏ ma túy bằng cách tăng cường tham dự các cuộc họp nhóm tự lực, chuyển đến một nơi ở mới không có ma túy, hoặc thực hiện những hành động tích cực để giải quyết các vấn đề về quan hệ, cá nhân hay công việ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là không ai lường trước được điều gì sẽ xảy ra trong cuộc sống nên bạn cũng không thể luôn tiên đoán được những điều gì sẽ xảy ra với khách hàng của bạn. Vì vậy, chúng ta nên hướng dẫn những kĩ năng cần thiết cho mọi khách hà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ụm từ “kĩ năng từ chối” và “đối phó với cơn thèm nhớ” được bôi đỏ ở trên bản chiếu vì chúng là những kĩ năng quan trọng và hiệu quả nhất để chống tái nghiện. Chúng ta sẽ có hai bài riêng về hai nội dung này. </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0862B-781B-4E43-8391-F2F37CDE5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Sử dụng thông tin dưới đây để làm rõ nội dung trên bản chiếu.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r>
              <a:rPr b="0" lang="en-US" sz="600" spc="-1" strike="noStrike">
                <a:solidFill>
                  <a:srgbClr val="000000"/>
                </a:solidFill>
                <a:latin typeface="Calibri"/>
              </a:rPr>
              <a:t>Kĩ thuật đánh giá dự phòng tái nghiện và các chiến lược can thiệp đều nhằm hướng dẫn khách hàng tiên liệu và đối phó được với khả năng tái nghiện. Ngay khi bắt đầu hướng dẫn DPTN, khách hàng được hướng dẫn cách nhận biết và đối phó với các tình huống nguy cơ cao thúc đẩy họ sử dụng lại ma túy, và điều chỉnh suy nghĩ và hành vi nhằm ngăn chặn chuyển từ một lần tái sử dụng thành tái nghiện thực sự. Do quy trình này tập trung vào những yếu tố thúc đẩy trực tiếp quá trình tái nghiện nên nó được đề cập đến như là các chiến lược can thiệp DPTN cụ thể.</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i khách hàng thành thục các kĩ thuật này rồi thì có thể phát triển thêm những phân tích sâu hơn về quá trình tái nghiện và tái sử dụng, bao gồm các chiến lược nhằm thay đổi lối sống của khách hàng cũng như để xác định và đối phó với những yếu tố gây tái nghiện (dấu hiệu cảnh báo sớm, suy giảm nhận thức, v.v…). Khi được tập hợp lại, những quy trình này được gọi là </a:t>
            </a:r>
            <a:r>
              <a:rPr b="1" lang="en-US" sz="600" spc="-1" strike="noStrike">
                <a:solidFill>
                  <a:srgbClr val="000000"/>
                </a:solidFill>
                <a:latin typeface="Calibri"/>
              </a:rPr>
              <a:t>Các chiến lược can thiệp DPTN chu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an thiệp dự phòng tái nghiện chu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ào tạo khách hàng về các kĩ năng hành vi và các chiến lược nhận thức để đối phó với các tình huống nguy cơ cao và việc tái sử dụng một vài lần là rất quan trọng. Những kĩ thuật này có thể là trọng tâm chính của những nỗ lực nhằm kiêng và duy trì kiêng sử dụng heroin trong khoảng thời gian đầu giai đoạn duy trì của tiến trình điều trị. Tuy nhiên, nếu chỉ dạy khách hàng đối phó với tình huống nguy cơ cao khi chúng lần lượt xuất hiện thì không đủ để tạo ra thành công dài hạn. Tư vấn viên và khách hàng không thể xác định được hết tất cả những tình huống nguy cơ cao mà khách hàng có thể phải đối mặt. Vì vậy, cần thực hiện một số hoạt động sau: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Giúp khách hàng xây dựng một lối sống cân bằng hơn để nâng cao năng lực chung của họ trong việc đối phó với trạng thái căng thẳng và giúp họ tăng dần sự tự tin vào năng lực bản thâ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Hướng dẫn khách hàng cách xác định và tiên liệu được những dấu hiệu cảnh báo sớm trước khi rơi vào tình huống nguy cơ cao và thực hiện các chiến lược tự kiềm chế nhằm giảm khả năng xảy ra tái sử dụng hoặc tái nghiệ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Đối phó với sự biện hộ và chối bỏ. Ngoài sự thèm nhớ, những nguyên nhân sâu sa khiến tái nghiện còn bị ảnh hưởng bởi 3 yếu tố cấu thành nhận thức: sự biện hộ, chối bỏ, và những quyết định không liên quan. Những yếu tố này liên quan đến chuỗi những sự kiện xảy ra trước khi rơi vào tình huống nguy cơ cao. Sự biện hộ là một lời giải thích hoặc một lí do đưa ra để hợp lí hóa việc thực hiện vào một hành vi cụ thể nào đó.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ự biện hộ được sử dụng nhằm cho phép một cá nhân nào đó tiếp cận với một tình huống hoặc có một hành vi mà không phải thừa nhận với chính họ hay người khác về mục đích thật sự hay dự định của họ. Cá nhân đó hành động sai lầm nhưng họ viện dẫn những động cơ đáng tin cậy là nguyên nhân thực hiện hành vi đó mà không chú ý hoặc không tin vào những lí do “thực” khiến họ thực hiện hành vi đó. Sự chối bỏ cũng là một cơ chế tự vệ tương tự mà trong đó cá nhân không chịu thừa nhận một số khía cạnh trong động cơ, quyết định của họ, hoặc những đặc điểm của một tình huống hay một loạt các sự kiện. Người đó thường phủ nhận sự tồn tại của mọi động cơ khiến họ dễ bị tái nghiện và cũng có thể phủ nhận cả sự nhận thức về hậu quả của việc quay lại thói quen sử dụng ma túy. Thỉnh thoảng họ phủ nhận cả nguy cơ tái nghiệ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Giúp khách hàng quản lí căng thẳng. Ngoài việc hướng dẫn khách hàng đáp ứng hiệu quả với những tình huống nguy cơ cao thì cũng cần hướng dẫn họ về cách thư giãn cũng như giảm bớt căng thẳng để nâng cao năng lực chung của khách hàng trong đối phó với căng thẳng. Hướng dẫn cách thư giãn có thể giúp khách hàng tăng khả năng tự kiểm soát, từ đó giảm bớt các yếu tố gây căng thẳng mà họ phải đối mặt. Những cách đó có thể là thả lỏng hoàn toàn các cơ của cơ thể, ngồi thiền, tập thể dục, và nhiều kĩ thuật giảm bớt căng thẳng khác giúp khách hàng đối phó hiệu quả hơn với những đòi hỏi trong cuộc sống hàng ngà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5)  Đánh giá động cơ thay đổi. Do việc sử dụng ma túy là một quá trình có tính lặp lại nên hầu hết mọi người không thể thành công hoàn toàn sau lần thay đổi đầu tiên. Bài học rút ra từ mỗi lần tái sử dụng, tái nghiện có thể giúp khách hàng tiến gần hơn đến việc duy trì thành công nếu chúng được coi như là những cơ hội để học hỏi thay vì là những thất bại. Như đã thảo luận trong chương 4, Prochaska và DiClemente (1984) đã mô tả tái nghiện trong một mô hình gồm 6 giai đoạn: tiền dự định, dự định, chuẩn bị, hành động, duy trì và tái nghiện. Những giai đoạn thay đổi này đã được áp dụng thành công trong tìm hiểu động cơ của khách hàng khi tham gia điều trị nghiện (DiClemente &amp; Hughes, 1990). Động cơ thay đổi có sự liên quan chặt chẽ với kết quả điều trị và tái nghiện (Xem chương 4 - Phỏng vấn tạo động lự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777E8-8449-463C-ADA1-CAB575CBC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Có một số liệu pháp can thiệp DPTN cụ thể có thể giúp khách hàng dự phòng tái sử dụng và/hoặc dự phòng chuyển từ tái sử dụng sang tái nghiện hoàn toàn.</a:t>
            </a:r>
            <a:r>
              <a:rPr b="1"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Giúp khách hàng đối phó với cơn thèm nhớ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ì thèm nhớ là một vấn đề rất khó khăn đối với nhiều người sử dụng heroin nên chủ đề này cần được bàn đến rất sớm trong quá trình điều trị. Những cơn thèm nhớ mạnh mẽ thường xuất hiện trong một vài tuần, thậm chí một vài tháng sau khi từ bỏ ma túy hoàn toàn. Chịu đựng thèm nhớ có thể là rất khó chịu đối với khách hàng và có thể dẫn đến tái sử dụng heroin nếu nó không được hiểu và giải quyết hiệu quả.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Đánh giá tiền sử sử dụng ma tú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Lí do chính mà khách hàng tìm đến dịch vụ của bạn có thể không phải là họ muốn từ bỏ ma túy. Có thể là họ muốn làm thế nào giảm bớt các triệu chứng cắt cơn liên quan đến tình trạng nghiện của họ hoặc có thể là những lí do khác. Bạn sẽ cần rất nhiều thông tin về việc sử dụng ma túy trong quá khứ và hiện tại của khách hàng để có thể phán đoán tình huống thực của họ.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ì vậy cần đặt câu hỏi sau đâ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Calibri"/>
              </a:rPr>
              <a:t>Loại ma túy nào được khách hàng cho rằng nó gây ra cho họ nhiều vấn đề rắc rối nhất? </a:t>
            </a:r>
            <a:endParaRPr b="0" lang="en-US" sz="9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Calibri"/>
              </a:rPr>
              <a:t>Lợi ích của những đợt điều trị trước đây là gì? Trước đây, khách hàng của bạn có thể đã được điều trị trong những chương trình khác. Vì vậy, cần tìm hiểu khoảng thời gian từ bỏ được mỗi loại ma túy mà họ lạm dụng trước đây và lí do tái nghiệ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Điều quan trọng là phải xác định xem liệu đó có phải là một cú vấp, trượt hay là tái nghiện và các yếu tố cám dỗ có liên quan là gì.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Giúp đối phó với tình huống nguy cơ cao và tăng sự tự ti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Chúng ta đã đề cập đến điều này trong phần Mô hình tái nghiện. Những người tin tưởng vào khả năng dự phòng tái nghiện của chính họ sẽ dễ đối phó thành công với những tình huống nguy cơ cao. Vì vậy, cần khuyến khích khách hàng cảm thấy rằng họ có thể kiểm soát được những tình huống khó khăn hay căng thẳng. Bằng cách khuyến khích khách hàng mỗi khi họ xử trí thành công và củng cố cảm giác tự tin, bạn sẽ giúp họ thêm tự tin vào năng lực bản thân.</a:t>
            </a:r>
            <a:endParaRPr b="0" lang="en-US" sz="9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694F9-F32E-4187-B613-8B4484D3B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húng ta đã thảo luận về bảng ra quyết định trong Chương 4. Bạn có thể sử dụng bảng này để giúp khách hàng ra quyết định liên quan đến tránh tái sử dụng và tái nghiện. Với người sử dụng heroin, họ sẽ thấy việc nói về những lợi ích ngắn hạn rất dễ dàng. Người sử dụng heroin có thể phủ nhận các tác hại và hậu quả dài hạn của hành động họ đã thực hiện. Họ muốn sống hết mình cho hôm nay và không nghĩ đến ngày mai. Có vẻ như heroin giúp họ giải quyết rất tốt mọi vấn đề và giúp họ đối mặt với mọi cảm xúc và hoàn cảnh.</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uy nhiên, bạn vẫn cần phải hỏi về những lợi ích và hậu quả dài hạn. Khi họ nhìn thấy chúng được viết ra họ sẽ tập trung hơn vào những cam kết dài hạn. Họ có thể chưa bao giờ nghĩ đến những lợi ích dài hạn của việc không sử dụng ma tú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Nên chuẩn bị trước khi bắt đầu bài giảng một bảng ra quyết định trên bảng lật. Đến thời điểm này, mở trang giấy đó ra và từng bước yêu cầu học viên nêu ra những điểm tốt và không tốt của việc sử dụng ma túy, hậu quả ngắn hạn và hậu quả dài hạn của nó. Làm như vậy sẽ giúp học viên hiểu được mục đích của bảng ra quyết định và cảm thấy tự tin hơn trong việc xây dựng bảng này với khách hàng trong một buổi tư vấn thực sự.</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Xem ví dụ về bảng ra quyết định trong Bài 4.2, bản chiếu số 10. </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9C677-3CF0-4018-BF33-BFD2AE93B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heo thời gian, nhiều người nghiện heroin chỉ biết sử dụng heroin để đối phó và giải quyết tất cả các vấn đề của họ. Nhiều khách hàng không nhận thức được vấn đề khi nó xuất hiện lần đầu tiên và lờ đi cho đến tận khi nó khiến họ bị khủng hoảng. Người khác lại nghĩ rằng họ có kĩ năng giải quyết vấn đề rất tốt, nhưng khi đối mặt với vấn đề họ lại hành động một cách thiếu suy nghĩ.</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ặc dù nhiều khách hàng tưởng là cuộc sống sẽ dễ dàng hơn và không gặp khó khăn gì sau khi đã ngừng sử dụng heroin, chỉ đến khi phải kiêng heroin họ mới nhận ra những vấn đề mà trước đây họ đã lờ đi hoặc trốn tránh. Thực hành dự phòng tái nghiện là một cách rất hữu ích giúp khách hàng giải quyết vấn đề. Nếu họ không thực hành với bạn, họ có thể sẽ phạm sai lầm và sai lầm sẽ khiến họ dễ bị tái nghiện hơ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ách hàng phải hiểu là tái sử dụng chỉ là một lỗi nhỏ và họ có thể lấy lại thăng bằng. Khi người ta dùng lại một hoặc vài lần, điều đó không có nghĩa là họ sẽ tái nghiện. Để tránh tái nghiện hoàn toàn, khách hàng cần dành thời gian để suy ngẫm về những lợi ích lâu dài của việc không sử dụng lại ma túy và những hậu quả dài hạn của việc sử dụng lại ma tú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ột điều cũng hết sức quan trọng là bạn cần thảo luận về hiệu ứng vi phạm kiêng khem với khách hàng để giúp khách hàng không chuyển sang tái nghiện hoàn toàn sau khi vấp một lần. Thảo luận với họ trước khi cú vấp xảy ra và tìm hiểu những cơ hội và tiềm năng của khách hàng để lấy lại thăng bằng khi bị vấp là vấn đề mang tính chiến lược.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D37CC-0772-4D32-83B0-5A3E50DC5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Ôn lại những thông điệp chính trong bài bằng cách trình bày trực tiếp nội dung bản chiếu.</a:t>
            </a: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ảm ơn học viên vì đã tham gia thảo luận tích cực và đặt các câu. Hỏi xem họ muốn hỏi điều gì nữa không. Trong trường hợp họ có câu hỏi, trả lời các câu hỏi liên quan đến nội dung bài giảng này. Những câu liên quan đến bài sau, đề nghị họ ghi lại câu hỏi để trả lời ở bài sau.</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guồn: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G. Alan Marlatt, George A. Parks, Katie Witkiewitz (2002). Clinical Guidelines for Implementing: A Guideline Developed for the Behavioral Health Recovery Management Projec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b Sites on Cognitive Behavioral Therapy and Relapse Prevention Therapy: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nida.nih.gov/TXManuals/CBT/CBT1.htm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drugabuse.gov/TXmanuals/IDCA/IDCA1.htm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med.nyu.edu/substanceabuse/manuals/nt/network-therapy.htm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atforum.com/siteroot/pages/current_pastissues/fall2003.shtml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drugnet.bizland.com/intervention/relapse1.htm </a:t>
            </a:r>
            <a:endParaRPr b="0" lang="en-US" sz="11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93502-68CB-4ECE-A5EC-83ABB6553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iảng viên: Chào mừng các học viên đến lớp học và mời học viên ngồi sao cho họ cảm thấy thoải má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ảo đảm là bạn đã sắp xếp phòng học sẵn sàng. Tài liệu để sẵn trên bàn gồm:</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1. Biển tê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 Bút viết bảng và bút viết</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3.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4. Sổ ghi chép</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một bài riêng rẽ thì bổ sung câu nói dưới đây trong phần mở đầ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ôn trọng ý kiến nhận xét của các học viên khá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i cũng có quyền nói lên quan điểm của mình</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ếu có câu hỏi học viên có thể hỏi bất cứ lúc nào trong quá trình giả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ắt chuông điện thoại di độ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ỉ kiểm tra email và tin nhắn trong giờ nghỉ giải lao</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phần tiếp tục của các bài học khác trong khóa học thì </a:t>
            </a:r>
            <a:r>
              <a:rPr b="0" lang="en-US" sz="1000" spc="-1" strike="noStrike">
                <a:solidFill>
                  <a:srgbClr val="000000"/>
                </a:solidFill>
                <a:latin typeface="Calibri"/>
              </a:rPr>
              <a:t>NÓ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 </a:t>
            </a:r>
            <a:r>
              <a:rPr b="0" i="1" lang="en-US" sz="1000" spc="-1" strike="noStrike">
                <a:solidFill>
                  <a:srgbClr val="000000"/>
                </a:solidFill>
                <a:latin typeface="Calibri"/>
              </a:rPr>
              <a:t>Trong bài này chúng ta sẽ thảo luận nhiều nội dung khác nhau về liệu pháp dự phòng tái nghiện (DPTN). Trước khi bắt đầu, tôi đề nghị các bạn suy nghĩ về những lí do khiến người sau cai tái nghiện?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Dẫn dắt một buổi thảo luận nhóm lớn kéo dài 20 phút, ghi chép câu trả lời của học viên trên giấy khổ lớn.</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2528A-A3DB-4956-A4F4-0016C2426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eaching instructions: </a:t>
            </a:r>
            <a:r>
              <a:rPr b="0" lang="en-US" sz="1200" spc="-1" strike="noStrike">
                <a:solidFill>
                  <a:srgbClr val="000000"/>
                </a:solidFill>
                <a:latin typeface="Calibri"/>
              </a:rPr>
              <a:t>Use the bullets on this slide to present direct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sk:</a:t>
            </a:r>
            <a:r>
              <a:rPr b="0" lang="en-US" sz="1200" spc="-1" strike="noStrike">
                <a:solidFill>
                  <a:srgbClr val="000000"/>
                </a:solidFill>
                <a:latin typeface="Calibri"/>
              </a:rPr>
              <a:t> What are the common reasons for relap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eaching instructions:</a:t>
            </a:r>
            <a:r>
              <a:rPr b="0" lang="en-US" sz="1200" spc="-1" strike="noStrike">
                <a:solidFill>
                  <a:srgbClr val="000000"/>
                </a:solidFill>
                <a:latin typeface="Calibri"/>
              </a:rPr>
              <a:t> Write answers down in one of two columns [Personal and soc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A5226-DFAB-4A08-B052-D33768976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húng ta có thể nhóm các nguyên nhân khiến khách hàng tái nghiện thành hai nhóm, đó là: nhóm nguyên nhân cá nhân và nhóm nguyên nhân do quan hệ cá nhân/xã hội. Nhóm đầu tiên có thể xuất hiện mỗi khi khách hàng tái sử dụng (trượt) và nó thường liên quan đến việc phải chống chọi với những sự kiện quan trọng về tâm lí và thể chất (ví dụ: đối phó với cảm xúc tiêu cực, rơi vào trạng thái thèm muốn “nội tâm”, do các triệu chứng cắt cơn,...), hoặc muốn kiểm tra xem mình còn lệ thuộc vào ma túy nữa hay không. Điểm cần nhấn mạnh ở đây là những sự kiện này có thể không phải là nguyên nhân quan trọng đối với người khác hoặc nhóm người khác.</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rong nhóm nguyên nhân thứ hai, khách hàng tái sử dụng là do những ảnh hưởng từ những người khác (như mâu thuẫn cá nhân, áp lực xã hội).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Quay lại danh sách những lí do tái nghiện (kết quả thảo luận nhóm) và yêu cầu học viên chia chúng thành 2 nhóm: a) các nguyên nhân cá nhân và b) các nguyên nhân quan hệ cá nhân/xã hội. Dành 5 phút cho hoạt động này.</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ác bạn đã đưa ra được một danh sách đầy đủ những nguyên nhân tái nghiện và bây giờ chúng ta sẽ phân loại thành 2 nhóm: nguyên nhân liên quan đến cá nhân và nguyên nhân liên quan đến quan hệ với người khác/cộng đồng. Khi bạn thảo luận với khách hàng, bạn sẽ hiểu được có nhiều điều (thuộc về cá nhân hoặc quan hệ cá nhân/xã hội) có thể là yếu tố thúc đẩy họ tái sử dụng ma túy. Chúng ta sẽ thảo luận chi tiết hơn về một số yếu tố nà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69232-447D-49A6-92F2-CAF62545E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 </a:t>
            </a:r>
            <a:r>
              <a:rPr b="0" i="1" lang="en-US" sz="900" spc="-1" strike="noStrike">
                <a:solidFill>
                  <a:srgbClr val="000000"/>
                </a:solidFill>
                <a:latin typeface="Calibri"/>
              </a:rPr>
              <a:t>Hãy nói kĩ hơn về các nhóm nguyên nhân. Nhóm nguyên nhân thứ nhất bao gồm những yếu tố liên quan chủ yếu đến cá nhân (bên trong con người), và/hoặc những phản ứng đối với những sự kiện trong môi trường không liên quan đến con người. Nó có thể là phản ứng trước những sự kiện giữa con người và con người trong quá khứ (nghĩa là mối quan hệ tương tác ấy không còn có tác động quan trọng nào). Hãy thảo luận về một số yếu tố đó. </a:t>
            </a:r>
            <a:r>
              <a:rPr b="1"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Đối phó với trạng thái cảm xúc tiêu cực. </a:t>
            </a:r>
            <a:r>
              <a:rPr b="0" i="1" lang="en-US" sz="900" spc="-1" strike="noStrike">
                <a:solidFill>
                  <a:srgbClr val="000000"/>
                </a:solidFill>
                <a:latin typeface="Calibri"/>
              </a:rPr>
              <a:t>Những yếu tố này liên quan đến việc đối phó với trạng thái cảm xúc, tâm trạng hoặc cảm giác tiêu cực (không thoải mái).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1)  Đối phó với sự thất vọng và/hoặc tức giận. Những yếu tố này có liên quan đến sự thất vọng - một phản ứng trước những điều khiến họ bế tắc, bị gò ép theo mục tiêu - và/hoặc tức giận (gồm thái độ thù địch hoặc hung hăng) đối với cá nhân họ hoặc một yếu tố môi trường không liên quan đến con người. Những yếu tố môi trường này bao gồm cảm giác tội lỗi và phản ứng chống đối lại những đòi hỏi ("cãi lại") xuất phát từ môi trường hoặc từ chính cá nhân họ, mà dễ tạo ra cảm xúc tức giậ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2)  Đối phó với các trạng thái cảm xúc tiêu cực khác. Đây là những trạng thái cảm xúc khác mang lại sự không hài lòng hoặc đối kháng (ngoài thất vọng/ tức giận),  bao gồm sợ hãi, lo âu, căng thẳng, trầm cảm, cô đơn, buồn bã, chán nản, lo lắng, thương tiếc, đau khổ, mất mát và những cảm xúc khó chịu tương tự.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1" i="1" lang="en-US" sz="900" spc="-1" strike="noStrike">
                <a:solidFill>
                  <a:srgbClr val="000000"/>
                </a:solidFill>
                <a:latin typeface="Calibri"/>
              </a:rPr>
              <a:t>Chịu đựng trạng thái thể chất - sinh lí tiêu cực. </a:t>
            </a:r>
            <a:r>
              <a:rPr b="0" i="1" lang="en-US" sz="900" spc="-1" strike="noStrike">
                <a:solidFill>
                  <a:srgbClr val="000000"/>
                </a:solidFill>
                <a:latin typeface="Calibri"/>
              </a:rPr>
              <a:t>Các yếu tố này liên quan đến phản ứng không thoải mái hoặc đau đớn về sinh lí hoặc thể chấ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1)  Chịu đựng trạng thái thể chất liên quan đến quá khứ sử dụng ma túy. Chịu đựng trạng thái thể chất liên quan chặt chẽ với việc sử dụng ma túy hoặc chất gây nghiện trước đây như "sự đau đớn trong khi cắt cơn" hoặc "sự thèm nhớ" liên quan đến quá trình cắt cơ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2)  Chịu đựng những trạng thái tiêu cực khác về thể chất. Chịu đựng các cơn đau, bệnh tật, chấn thương, mệt mỏi và các rối loạn khác (như đau đầu) không liên quan đến việc sử dụng ma túy trước đâ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1" i="1" lang="en-US" sz="900" spc="-1" strike="noStrike">
                <a:solidFill>
                  <a:srgbClr val="000000"/>
                </a:solidFill>
                <a:latin typeface="Calibri"/>
              </a:rPr>
              <a:t>Tăng cường trạng thái cảm xúc tích cực. </a:t>
            </a:r>
            <a:r>
              <a:rPr b="0" i="1" lang="en-US" sz="900" spc="-1" strike="noStrike">
                <a:solidFill>
                  <a:srgbClr val="000000"/>
                </a:solidFill>
                <a:latin typeface="Calibri"/>
              </a:rPr>
              <a:t>Sử dụng ma tuý nhằm tăng cảm giác hài lòng, phấn khởi,... kể cả khi sử dụng ma túy chỉ với tác động tích cực của chúng là "để phê" hoặc chỉ để thử mức độ tác động mạnh hơn của ma tú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7EF00-AC8D-4F76-95ED-43056A747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Hơn nữa, khách hàng có thể dùng lại ma túy để kiểm tra khả năng kiềm chế bản thân. Nghĩa là họ sử dụng ma tuý để “kiểm tra” xem mình có khả năng sử dụng ma túy có kiểm soát hoặc có điều độ hay không; để "thử một lần xem thế nào"; hoặc có thể khách hàng muốn kiểm tra hiệu quả điều trị hoặc kiểm tra mức độ cam kết kiêng sử dụng ma túy của mình (kiểm định "sức mạnh ý chí").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i người ta bắt đầu sử dụng ma túy, họ cảm thấy họ có thể kiểm soát được ma túy. Tuy nhiên, khi đã nghiện ma túy, con người mất đi khả năng kiểm soát việc sử dụng ma túy của họ. Thông thường, khi người ta mới thoát khỏi ma túy trong một khoảng thời gian ngắn, họ rất muốn kiểm tra xem họ đã thực sự kiểm soát được việc sử dụng ma túy như trước kia hay chư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CD8A9-3E97-4EAA-8685-4FA5C9E70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48A45-D2E5-4C4F-8525-70B7B8131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9556E-1EEA-4737-98DE-815064345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D862A-F9AF-46B8-B870-D8BCB2AEB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0669-C8D0-4754-A4FB-456E61079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FC5AF-2561-4F71-A244-DC63A7FB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3668-5825-49FC-A17A-464F12C88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6B188-5C6B-4D04-863E-283436E40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D1E53-0486-42AD-A9FE-95E03C9D5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CE41-02A3-4610-928F-F89651B10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5801-C781-46EC-88FD-5C2E798C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5FC3-9253-4375-A40E-35D29F6E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76BD-F9F5-4F75-92F2-4936249B7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207FC-913C-4C26-85A2-612AA57A39B8}"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66E57-AF64-4053-93B8-AE96A6DE61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Dự phòng tái nghiện</a:t>
            </a:r>
            <a:endParaRPr b="0" lang="en-US" sz="48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ư vấn, truyền đạt các kỹ năng, kỹ thuật giúp người bệnh dự phòng tái nghiệ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ỹ năng từ chố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ỹ năng đối phó với cơn thèm nhớ</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thời gi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sự căng thẳ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sự nóng giậ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tiền bạ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1AFED-98EC-48F3-944B-9A6A8306A96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70" name="Rectangle 4"/>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CÁ NHÂN/XÃ HỘI</a:t>
            </a:r>
            <a:endParaRPr b="0" lang="en-US" sz="4000" spc="-1" strike="noStrike">
              <a:solidFill>
                <a:srgbClr val="000000"/>
              </a:solidFill>
              <a:latin typeface="Arial"/>
            </a:endParaRPr>
          </a:p>
        </p:txBody>
      </p:sp>
      <p:sp>
        <p:nvSpPr>
          <p:cNvPr id="71"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Text Box 7"/>
          <p:cNvSpPr/>
          <p:nvPr/>
        </p:nvSpPr>
        <p:spPr>
          <a:xfrm>
            <a:off x="457200" y="1916280"/>
            <a:ext cx="8229600" cy="37465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spcBef>
                <a:spcPts val="17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Áp lực xã hội:</a:t>
            </a:r>
            <a:endParaRPr b="0" lang="en-US" sz="2800" spc="-1" strike="noStrike">
              <a:solidFill>
                <a:srgbClr val="000000"/>
              </a:solidFill>
              <a:latin typeface="Arial"/>
            </a:endParaRPr>
          </a:p>
          <a:p>
            <a:pPr marL="447840" indent="-447840">
              <a:lnSpc>
                <a:spcPct val="100000"/>
              </a:lnSpc>
              <a:spcBef>
                <a:spcPts val="1749"/>
              </a:spcBef>
              <a:buSzPct val="100000"/>
              <a:buBlip>
                <a:blip r:embed="rId1"/>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Ảnh hưởng của một người hoặc của một nhóm người tạo nên áp lực trực tiếp hoặc gián tiếp khiến một người phải sử dụng ma túy</a:t>
            </a:r>
            <a:endParaRPr b="0" lang="en-US" sz="2800" spc="-1" strike="noStrike">
              <a:solidFill>
                <a:srgbClr val="000000"/>
              </a:solidFill>
              <a:latin typeface="Arial"/>
            </a:endParaRPr>
          </a:p>
          <a:p>
            <a:pPr marL="447840" indent="-447840">
              <a:lnSpc>
                <a:spcPct val="100000"/>
              </a:lnSpc>
              <a:spcBef>
                <a:spcPts val="17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Đối phó với các mâu thuấn cá nhân:</a:t>
            </a:r>
            <a:endParaRPr b="0" lang="en-US" sz="2800" spc="-1" strike="noStrike">
              <a:solidFill>
                <a:srgbClr val="000000"/>
              </a:solidFill>
              <a:latin typeface="Arial"/>
            </a:endParaRPr>
          </a:p>
          <a:p>
            <a:pPr marL="447840" indent="-447840">
              <a:lnSpc>
                <a:spcPct val="100000"/>
              </a:lnSpc>
              <a:spcBef>
                <a:spcPts val="1749"/>
              </a:spcBef>
              <a:buSzPct val="100000"/>
              <a:buBlip>
                <a:blip r:embed="rId2"/>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iải quyết các vấn đề nẩy sinh do tranh cãi, ghen tức, chống đối, v.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11040" y="152280"/>
            <a:ext cx="860436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88AE3-63FF-48AA-8175-9CEC83D4031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73C41-369D-44B4-BFA5-2B1ACEDE9BD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77"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Rectangle 4"/>
          <p:cNvSpPr/>
          <p:nvPr/>
        </p:nvSpPr>
        <p:spPr>
          <a:xfrm>
            <a:off x="457200" y="72216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CÁC YẾU TỐ ẢNH HƯỞNG ĐẾN KẾT QUẢ ĐIỀU TRỊ</a:t>
            </a:r>
            <a:endParaRPr b="0" lang="en-US" sz="4000" spc="-1" strike="noStrike">
              <a:solidFill>
                <a:srgbClr val="000000"/>
              </a:solidFill>
              <a:latin typeface="Arial"/>
            </a:endParaRPr>
          </a:p>
        </p:txBody>
      </p:sp>
      <p:sp>
        <p:nvSpPr>
          <p:cNvPr id="80" name="TextBox 6"/>
          <p:cNvSpPr/>
          <p:nvPr/>
        </p:nvSpPr>
        <p:spPr>
          <a:xfrm>
            <a:off x="457200" y="2143080"/>
            <a:ext cx="8472600" cy="400896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51"/>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Đặc điểm cá nhân</a:t>
            </a:r>
            <a:endParaRPr b="0" lang="en-US" sz="3000" spc="-1" strike="noStrike">
              <a:solidFill>
                <a:srgbClr val="000000"/>
              </a:solidFill>
              <a:latin typeface="Arial"/>
            </a:endParaRPr>
          </a:p>
          <a:p>
            <a:pPr marL="449280" indent="-449280">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như giới, mức độ tự tin, khả năng kiểm soát</a:t>
            </a:r>
            <a:endParaRPr b="0" lang="en-US" sz="3000" spc="-1" strike="noStrike">
              <a:solidFill>
                <a:srgbClr val="000000"/>
              </a:solidFill>
              <a:latin typeface="Arial"/>
            </a:endParaRPr>
          </a:p>
          <a:p>
            <a:pPr marL="449280" indent="-449280">
              <a:lnSpc>
                <a:spcPct val="150000"/>
              </a:lnSpc>
              <a:spcBef>
                <a:spcPts val="51"/>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Các yếu tố liên quan đến việc sử dụng ma túy</a:t>
            </a:r>
            <a:endParaRPr b="0" lang="en-US" sz="3000" spc="-1" strike="noStrike">
              <a:solidFill>
                <a:srgbClr val="000000"/>
              </a:solidFill>
              <a:latin typeface="Arial"/>
            </a:endParaRPr>
          </a:p>
          <a:p>
            <a:pPr marL="449280" indent="-449280">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mức độ nghiện nặng hay nhẹ, khả năng nhận thức</a:t>
            </a:r>
            <a:endParaRPr b="0" lang="en-US" sz="3000" spc="-1" strike="noStrike">
              <a:solidFill>
                <a:srgbClr val="000000"/>
              </a:solidFill>
              <a:latin typeface="Arial"/>
            </a:endParaRPr>
          </a:p>
          <a:p>
            <a:pPr marL="449280" indent="-449280">
              <a:lnSpc>
                <a:spcPct val="150000"/>
              </a:lnSpc>
              <a:spcBef>
                <a:spcPts val="51"/>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ách sống </a:t>
            </a:r>
            <a:endParaRPr b="0" lang="en-US" sz="3000" spc="-1" strike="noStrike">
              <a:solidFill>
                <a:srgbClr val="000000"/>
              </a:solidFill>
              <a:latin typeface="Arial"/>
            </a:endParaRPr>
          </a:p>
          <a:p>
            <a:pPr marL="449280" indent="-449280">
              <a:lnSpc>
                <a:spcPct val="150000"/>
              </a:lnSpc>
              <a:spcBef>
                <a:spcPts val="51"/>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ôi trườ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73415-25D7-480B-B6F2-45AFF76DA3F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82" name="Rectangle 4"/>
          <p:cNvSpPr/>
          <p:nvPr/>
        </p:nvSpPr>
        <p:spPr>
          <a:xfrm>
            <a:off x="457200" y="15084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CÁC BƯỚC DỰ PHÒNG TÁI NGHIỆN</a:t>
            </a:r>
            <a:endParaRPr b="0" lang="en-US" sz="4000" spc="-1" strike="noStrike">
              <a:solidFill>
                <a:srgbClr val="000000"/>
              </a:solidFill>
              <a:latin typeface="Arial"/>
            </a:endParaRPr>
          </a:p>
        </p:txBody>
      </p:sp>
      <p:sp>
        <p:nvSpPr>
          <p:cNvPr id="83"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Text Box 7"/>
          <p:cNvSpPr/>
          <p:nvPr/>
        </p:nvSpPr>
        <p:spPr>
          <a:xfrm>
            <a:off x="457200" y="1293840"/>
            <a:ext cx="8229600" cy="51843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spcBef>
                <a:spcPts val="1500"/>
              </a:spcBef>
              <a:buSzPct val="100000"/>
              <a:buBlip>
                <a:blip r:embed="rId1"/>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ần phân biệt rõ vấp, trượt, ngã/tái nghiện</a:t>
            </a:r>
            <a:endParaRPr b="0" lang="en-US" sz="2400" spc="-1" strike="noStrike">
              <a:solidFill>
                <a:srgbClr val="000000"/>
              </a:solidFill>
              <a:latin typeface="Arial"/>
            </a:endParaRPr>
          </a:p>
          <a:p>
            <a:pPr marL="447840" indent="-447840">
              <a:lnSpc>
                <a:spcPct val="100000"/>
              </a:lnSpc>
              <a:spcBef>
                <a:spcPts val="1500"/>
              </a:spcBef>
              <a:buSzPct val="100000"/>
              <a:buBlip>
                <a:blip r:embed="rId2"/>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Xác định các tình huống nguy cơ cao</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Yếu tố cám dỗ bên trong và bên ngoài</a:t>
            </a:r>
            <a:endParaRPr b="0" lang="en-US" sz="2400" spc="-1" strike="noStrike">
              <a:solidFill>
                <a:srgbClr val="000000"/>
              </a:solidFill>
              <a:latin typeface="Arial"/>
            </a:endParaRPr>
          </a:p>
          <a:p>
            <a:pPr marL="447840" indent="-447840">
              <a:lnSpc>
                <a:spcPct val="100000"/>
              </a:lnSpc>
              <a:spcBef>
                <a:spcPts val="1500"/>
              </a:spcBef>
              <a:buSzPct val="100000"/>
              <a:buBlip>
                <a:blip r:embed="rId3"/>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Xây dựng các phương án đối phó với các tình huống nguy cơ cao</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Kỹ năng và khả năng bản thân</a:t>
            </a:r>
            <a:endParaRPr b="0" lang="en-US" sz="2400" spc="-1" strike="noStrike">
              <a:solidFill>
                <a:srgbClr val="000000"/>
              </a:solidFill>
              <a:latin typeface="Arial"/>
            </a:endParaRPr>
          </a:p>
          <a:p>
            <a:pPr marL="447840" indent="-447840">
              <a:lnSpc>
                <a:spcPct val="100000"/>
              </a:lnSpc>
              <a:spcBef>
                <a:spcPts val="1500"/>
              </a:spcBef>
              <a:buSzPct val="100000"/>
              <a:buBlip>
                <a:blip r:embed="rId4"/>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ảo luận :</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Các quyết định tưởng chừng như không liên quan</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Hiệu ứng vi phạm kiêng khem</a:t>
            </a:r>
            <a:endParaRPr b="0" lang="en-US" sz="2400" spc="-1" strike="noStrike">
              <a:solidFill>
                <a:srgbClr val="000000"/>
              </a:solidFill>
              <a:latin typeface="Arial"/>
            </a:endParaRPr>
          </a:p>
          <a:p>
            <a:pPr marL="447840" indent="-447840">
              <a:lnSpc>
                <a:spcPct val="100000"/>
              </a:lnSpc>
              <a:spcBef>
                <a:spcPts val="1500"/>
              </a:spcBef>
              <a:buSzPct val="100000"/>
              <a:buBlip>
                <a:blip r:embed="rId5"/>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ần chú trọng đến sự tự tin và năng lực quyết định dừng sử dụng ma túy của khách hà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2.1-1.ai"/>
          <p:cNvPicPr/>
          <p:nvPr/>
        </p:nvPicPr>
        <p:blipFill>
          <a:blip r:embed="rId1"/>
          <a:stretch/>
        </p:blipFill>
        <p:spPr>
          <a:xfrm>
            <a:off x="311040" y="152280"/>
            <a:ext cx="8604360" cy="6480360"/>
          </a:xfrm>
          <a:prstGeom prst="rect">
            <a:avLst/>
          </a:prstGeom>
          <a:ln w="0">
            <a:noFill/>
          </a:ln>
        </p:spPr>
      </p:pic>
      <p:sp>
        <p:nvSpPr>
          <p:cNvPr id="8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3D081-F95F-49EA-B784-9E141087EAD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88" name="Text Box 4"/>
          <p:cNvSpPr/>
          <p:nvPr/>
        </p:nvSpPr>
        <p:spPr>
          <a:xfrm>
            <a:off x="1476360" y="4653000"/>
            <a:ext cx="640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1332000" y="4653000"/>
            <a:ext cx="669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èm nhớ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áp lực bạn b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2.1-1.ai"/>
          <p:cNvPicPr/>
          <p:nvPr/>
        </p:nvPicPr>
        <p:blipFill>
          <a:blip r:embed="rId1"/>
          <a:stretch/>
        </p:blipFill>
        <p:spPr>
          <a:xfrm>
            <a:off x="311040" y="115920"/>
            <a:ext cx="8604360" cy="6480000"/>
          </a:xfrm>
          <a:prstGeom prst="rect">
            <a:avLst/>
          </a:prstGeom>
          <a:ln w="0">
            <a:noFill/>
          </a:ln>
        </p:spPr>
      </p:pic>
      <p:sp>
        <p:nvSpPr>
          <p:cNvPr id="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93FC8-932B-4DBE-B744-70CFF6C1D8E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92" name="Text Box 5"/>
          <p:cNvSpPr/>
          <p:nvPr/>
        </p:nvSpPr>
        <p:spPr>
          <a:xfrm>
            <a:off x="971640" y="3789360"/>
            <a:ext cx="720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971640" y="3789360"/>
            <a:ext cx="720072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Text Box 7"/>
          <p:cNvSpPr/>
          <p:nvPr/>
        </p:nvSpPr>
        <p:spPr>
          <a:xfrm>
            <a:off x="1116000" y="3933720"/>
            <a:ext cx="69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ý nghĩ nào thúc đẩy bạn muốn sử dụng lại ma tú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2.1-1.ai"/>
          <p:cNvPicPr/>
          <p:nvPr/>
        </p:nvPicPr>
        <p:blipFill>
          <a:blip r:embed="rId1"/>
          <a:stretch/>
        </p:blipFill>
        <p:spPr>
          <a:xfrm>
            <a:off x="311040" y="152280"/>
            <a:ext cx="8604360" cy="6480360"/>
          </a:xfrm>
          <a:prstGeom prst="rect">
            <a:avLst/>
          </a:prstGeom>
          <a:ln w="0">
            <a:noFill/>
          </a:ln>
        </p:spPr>
      </p:pic>
      <p:sp>
        <p:nvSpPr>
          <p:cNvPr id="9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CA7B1-3B23-4B64-8BB5-17E9F12FA55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2.1-1.ai"/>
          <p:cNvPicPr/>
          <p:nvPr/>
        </p:nvPicPr>
        <p:blipFill>
          <a:blip r:embed="rId1"/>
          <a:stretch/>
        </p:blipFill>
        <p:spPr>
          <a:xfrm>
            <a:off x="311040" y="152280"/>
            <a:ext cx="8604360" cy="6480360"/>
          </a:xfrm>
          <a:prstGeom prst="rect">
            <a:avLst/>
          </a:prstGeom>
          <a:ln w="0">
            <a:noFill/>
          </a:ln>
        </p:spPr>
      </p:pic>
      <p:sp>
        <p:nvSpPr>
          <p:cNvPr id="9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654EB-DE94-42A8-964F-8B39B1807DC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2.1-1.ai"/>
          <p:cNvPicPr/>
          <p:nvPr/>
        </p:nvPicPr>
        <p:blipFill>
          <a:blip r:embed="rId1"/>
          <a:stretch/>
        </p:blipFill>
        <p:spPr>
          <a:xfrm>
            <a:off x="311040" y="152280"/>
            <a:ext cx="8604360" cy="6480360"/>
          </a:xfrm>
          <a:prstGeom prst="rect">
            <a:avLst/>
          </a:prstGeom>
          <a:ln w="0">
            <a:noFill/>
          </a:ln>
        </p:spPr>
      </p:pic>
      <p:sp>
        <p:nvSpPr>
          <p:cNvPr id="100"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39E4C-618D-4E84-8F0A-944E444EA86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2.1-1.ai"/>
          <p:cNvPicPr/>
          <p:nvPr/>
        </p:nvPicPr>
        <p:blipFill>
          <a:blip r:embed="rId1"/>
          <a:stretch/>
        </p:blipFill>
        <p:spPr>
          <a:xfrm>
            <a:off x="311040" y="152280"/>
            <a:ext cx="8604360" cy="6480360"/>
          </a:xfrm>
          <a:prstGeom prst="rect">
            <a:avLst/>
          </a:prstGeom>
          <a:ln w="0">
            <a:noFill/>
          </a:ln>
        </p:spPr>
      </p:pic>
      <p:sp>
        <p:nvSpPr>
          <p:cNvPr id="102"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25E39-E10E-4837-8055-66BBA61AA5C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uân thủ điều trị và củng cố động cơ điều trị</a:t>
            </a:r>
            <a:endParaRPr b="0" lang="en-US" sz="4400" spc="-1" strike="noStrike">
              <a:solidFill>
                <a:srgbClr val="000000"/>
              </a:solidFill>
              <a:latin typeface="Calibri"/>
            </a:endParaRPr>
          </a:p>
        </p:txBody>
      </p:sp>
      <p:sp>
        <p:nvSpPr>
          <p:cNvPr id="51" name="PlaceHolder 2"/>
          <p:cNvSpPr>
            <a:spLocks noGrp="1"/>
          </p:cNvSpPr>
          <p:nvPr>
            <p:ph/>
          </p:nvPr>
        </p:nvSpPr>
        <p:spPr>
          <a:xfrm>
            <a:off x="277920" y="18558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áo dục về tầm quan trọng của tuân thủ điều tr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Đánh giá định kỳ về tuân thủ điều tr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ỏng vấn tạo động lực – duy trì và củng cố động cơ điều tr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êu gọi sự tham gia và hỗ trợ của gia đìn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hen ngợi, khuyến khích những kết quả đã đạt đượ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2.1-1.ai"/>
          <p:cNvPicPr/>
          <p:nvPr/>
        </p:nvPicPr>
        <p:blipFill>
          <a:blip r:embed="rId1"/>
          <a:stretch/>
        </p:blipFill>
        <p:spPr>
          <a:xfrm>
            <a:off x="311040" y="152280"/>
            <a:ext cx="8604360" cy="6480360"/>
          </a:xfrm>
          <a:prstGeom prst="rect">
            <a:avLst/>
          </a:prstGeom>
          <a:ln w="0">
            <a:noFill/>
          </a:ln>
        </p:spPr>
      </p:pic>
      <p:sp>
        <p:nvSpPr>
          <p:cNvPr id="10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6925F-3FBB-45C1-AD0E-AFC5BE0FDE5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2.1-1.ai"/>
          <p:cNvPicPr/>
          <p:nvPr/>
        </p:nvPicPr>
        <p:blipFill>
          <a:blip r:embed="rId1"/>
          <a:stretch/>
        </p:blipFill>
        <p:spPr>
          <a:xfrm>
            <a:off x="311040" y="152280"/>
            <a:ext cx="8604360" cy="6480360"/>
          </a:xfrm>
          <a:prstGeom prst="rect">
            <a:avLst/>
          </a:prstGeom>
          <a:ln w="0">
            <a:noFill/>
          </a:ln>
        </p:spPr>
      </p:pic>
      <p:sp>
        <p:nvSpPr>
          <p:cNvPr id="10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428A6-5D6D-4754-B62D-3D5852CEEEA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2.1-1.ai"/>
          <p:cNvPicPr/>
          <p:nvPr/>
        </p:nvPicPr>
        <p:blipFill>
          <a:blip r:embed="rId1"/>
          <a:stretch/>
        </p:blipFill>
        <p:spPr>
          <a:xfrm>
            <a:off x="82440" y="378000"/>
            <a:ext cx="8604360" cy="6480000"/>
          </a:xfrm>
          <a:prstGeom prst="rect">
            <a:avLst/>
          </a:prstGeom>
          <a:ln w="0">
            <a:noFill/>
          </a:ln>
        </p:spPr>
      </p:pic>
      <p:sp>
        <p:nvSpPr>
          <p:cNvPr id="10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846AD-E7FE-42BA-BE25-4A338037446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Đặt mục tiêu và lập kế hoạch</a:t>
            </a:r>
            <a:endParaRPr b="0" lang="en-US" sz="4800" spc="-1" strike="noStrike">
              <a:solidFill>
                <a:srgbClr val="000000"/>
              </a:solidFill>
              <a:latin typeface="Calibri"/>
            </a:endParaRPr>
          </a:p>
        </p:txBody>
      </p:sp>
      <p:sp>
        <p:nvSpPr>
          <p:cNvPr id="53" name="PlaceHolder 2"/>
          <p:cNvSpPr>
            <a:spLocks noGrp="1"/>
          </p:cNvSpPr>
          <p:nvPr>
            <p:ph/>
          </p:nvPr>
        </p:nvSpPr>
        <p:spPr>
          <a:xfrm>
            <a:off x="456840" y="1341000"/>
            <a:ext cx="8435880" cy="49532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ục tiêu trung hạn và dài hạn</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ệc làm</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Xây dựng lại niềm tin</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Xây dựng mối quan hệ mới, bạn bè mới</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ia đình, con cái</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ây dựng kế hoạch người bệnh sẽ thực hiện để đạt được mục tiêu, </a:t>
            </a:r>
            <a:r>
              <a:rPr b="1" lang="en-US" sz="3200" spc="-1" strike="noStrike">
                <a:solidFill>
                  <a:srgbClr val="000000"/>
                </a:solidFill>
                <a:latin typeface="Calibri"/>
              </a:rPr>
              <a:t>với sự định hướng và hỗ trợ của tư vấn viên và gia đình</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huyến khích </a:t>
            </a:r>
            <a:r>
              <a:rPr b="1" lang="en-US" sz="3200" spc="-1" strike="noStrike">
                <a:solidFill>
                  <a:srgbClr val="000000"/>
                </a:solidFill>
                <a:latin typeface="Calibri"/>
              </a:rPr>
              <a:t>tham gia nhóm tự hỗ trợ</a:t>
            </a:r>
            <a:r>
              <a:rPr b="0" lang="en-US" sz="3200" spc="-1" strike="noStrike">
                <a:solidFill>
                  <a:srgbClr val="000000"/>
                </a:solidFill>
                <a:latin typeface="Calibri"/>
              </a:rPr>
              <a:t>, khuyến khích sự </a:t>
            </a:r>
            <a:r>
              <a:rPr b="1" lang="en-US" sz="3200" spc="-1" strike="noStrike">
                <a:solidFill>
                  <a:srgbClr val="000000"/>
                </a:solidFill>
                <a:latin typeface="Calibri"/>
              </a:rPr>
              <a:t>hỗ trợ của gia đìn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Kết luận</a:t>
            </a:r>
            <a:endParaRPr b="0" lang="en-US" sz="4800" spc="-1" strike="noStrike">
              <a:solidFill>
                <a:srgbClr val="000000"/>
              </a:solidFill>
              <a:latin typeface="Calibri"/>
            </a:endParaRPr>
          </a:p>
        </p:txBody>
      </p:sp>
      <p:sp>
        <p:nvSpPr>
          <p:cNvPr id="55" name="PlaceHolder 2"/>
          <p:cNvSpPr>
            <a:spLocks noGrp="1"/>
          </p:cNvSpPr>
          <p:nvPr>
            <p:ph/>
          </p:nvPr>
        </p:nvSpPr>
        <p:spPr>
          <a:xfrm>
            <a:off x="457200" y="1469520"/>
            <a:ext cx="8229600" cy="49834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y trì là giai đoạn dài nhất trong quá trình điều tr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ần hỗ trợ KH để liên tục củng cố và duy trì động cơ điều trị - tuân thủ điều trị - ổn định về thuốc, chất gây nghiện và tâm lý xã hộ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ỗ trợ giải quyết các vấn đề khó khăn, đặt mục tiêu và lập kế hoạch để có cuộc sống ổn địn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ự phòng tái nghiện</a:t>
            </a:r>
            <a:r>
              <a:rPr b="0" lang="en-US" sz="2800" spc="-1" strike="noStrike">
                <a:solidFill>
                  <a:srgbClr val="000000"/>
                </a:solidFill>
                <a:latin typeface="Calibri"/>
              </a:rPr>
              <a:t> và </a:t>
            </a:r>
            <a:r>
              <a:rPr b="1" lang="en-US" sz="2800" spc="-1" strike="noStrike">
                <a:solidFill>
                  <a:srgbClr val="000000"/>
                </a:solidFill>
                <a:latin typeface="Calibri"/>
              </a:rPr>
              <a:t>tái hòa nhập</a:t>
            </a:r>
            <a:r>
              <a:rPr b="0" lang="en-US" sz="2800" spc="-1" strike="noStrike">
                <a:solidFill>
                  <a:srgbClr val="000000"/>
                </a:solidFill>
                <a:latin typeface="Calibri"/>
              </a:rPr>
              <a:t> (bao gồm việc làm) là 2 nội dung trọng tâm trong giai đoạn nà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ư vấn dựa trên cơ sở tự nguyện. Tần xuất tư vấn tùy thuộc vào nhu cầu của người bện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04920" y="152280"/>
            <a:ext cx="860400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3F490-8785-44BA-BB32-83C981B84FB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D0E41-3B40-4802-9C5E-2EFA69EC4EB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9" name="Rectangle 4"/>
          <p:cNvSpPr/>
          <p:nvPr/>
        </p:nvSpPr>
        <p:spPr>
          <a:xfrm>
            <a:off x="457200" y="15084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MỤC TIÊU BÀI HỌC</a:t>
            </a:r>
            <a:endParaRPr b="0" lang="en-US" sz="4000" spc="-1" strike="noStrike">
              <a:solidFill>
                <a:srgbClr val="000000"/>
              </a:solidFill>
              <a:latin typeface="Arial"/>
            </a:endParaRPr>
          </a:p>
        </p:txBody>
      </p:sp>
      <p:sp>
        <p:nvSpPr>
          <p:cNvPr id="60"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Text Box 7"/>
          <p:cNvSpPr/>
          <p:nvPr/>
        </p:nvSpPr>
        <p:spPr>
          <a:xfrm>
            <a:off x="365040" y="1214280"/>
            <a:ext cx="832176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Kết thúc bài học này, học viên sẽ có thể :</a:t>
            </a:r>
            <a:endParaRPr b="0" lang="en-US" sz="2400" spc="-1" strike="noStrike">
              <a:solidFill>
                <a:srgbClr val="000000"/>
              </a:solidFill>
              <a:latin typeface="Arial"/>
            </a:endParaRPr>
          </a:p>
          <a:p>
            <a:pPr>
              <a:lnSpc>
                <a:spcPct val="100000"/>
              </a:lnSpc>
              <a:spcBef>
                <a:spcPts val="601"/>
              </a:spcBef>
              <a:buSzPct val="100000"/>
              <a:buBlip>
                <a:blip r:embed="rId1"/>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xác định được nguyên nhân tái nghiện</a:t>
            </a:r>
            <a:endParaRPr b="0" lang="en-US" sz="2400" spc="-1" strike="noStrike">
              <a:solidFill>
                <a:srgbClr val="000000"/>
              </a:solidFill>
              <a:latin typeface="Arial"/>
            </a:endParaRPr>
          </a:p>
          <a:p>
            <a:pPr>
              <a:lnSpc>
                <a:spcPct val="100000"/>
              </a:lnSpc>
              <a:spcBef>
                <a:spcPts val="601"/>
              </a:spcBef>
              <a:buSzPct val="100000"/>
              <a:buBlip>
                <a:blip r:embed="rId2"/>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giải thích được Tái nghiện:</a:t>
            </a:r>
            <a:endParaRPr b="0" lang="en-US" sz="2400" spc="-1" strike="noStrike">
              <a:solidFill>
                <a:srgbClr val="000000"/>
              </a:solidFill>
              <a:latin typeface="Arial"/>
            </a:endParaRPr>
          </a:p>
          <a:p>
            <a:pPr lvl="1" marL="457200">
              <a:lnSpc>
                <a:spcPct val="100000"/>
              </a:lnSpc>
              <a:spcBef>
                <a:spcPts val="601"/>
              </a:spcBef>
              <a:buSzPct val="100000"/>
              <a:buBlip>
                <a:blip r:embed="rId3"/>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vấp, trượt, ngã</a:t>
            </a:r>
            <a:endParaRPr b="0" lang="en-US" sz="2400" spc="-1" strike="noStrike">
              <a:solidFill>
                <a:srgbClr val="000000"/>
              </a:solidFill>
              <a:latin typeface="Arial"/>
            </a:endParaRPr>
          </a:p>
          <a:p>
            <a:pPr lvl="1" marL="457200">
              <a:lnSpc>
                <a:spcPct val="100000"/>
              </a:lnSpc>
              <a:spcBef>
                <a:spcPts val="601"/>
              </a:spcBef>
              <a:buSzPct val="100000"/>
              <a:buBlip>
                <a:blip r:embed="rId4"/>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các yếu tố ảnh hưởng đến kết quả điều trị</a:t>
            </a:r>
            <a:endParaRPr b="0" lang="en-US" sz="2400" spc="-1" strike="noStrike">
              <a:solidFill>
                <a:srgbClr val="000000"/>
              </a:solidFill>
              <a:latin typeface="Arial"/>
            </a:endParaRPr>
          </a:p>
          <a:p>
            <a:pPr lvl="1" marL="457200">
              <a:lnSpc>
                <a:spcPct val="100000"/>
              </a:lnSpc>
              <a:spcBef>
                <a:spcPts val="601"/>
              </a:spcBef>
              <a:buSzPct val="100000"/>
              <a:buBlip>
                <a:blip r:embed="rId5"/>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các tình huống nguy cơ cao</a:t>
            </a:r>
            <a:endParaRPr b="0" lang="en-US" sz="2400" spc="-1" strike="noStrike">
              <a:solidFill>
                <a:srgbClr val="000000"/>
              </a:solidFill>
              <a:latin typeface="Arial"/>
            </a:endParaRPr>
          </a:p>
          <a:p>
            <a:pPr>
              <a:lnSpc>
                <a:spcPct val="100000"/>
              </a:lnSpc>
              <a:spcBef>
                <a:spcPts val="601"/>
              </a:spcBef>
              <a:buSzPct val="100000"/>
              <a:buBlip>
                <a:blip r:embed="rId6"/>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miêu tả các chiến lược đối phó với các tình huống nguy cơ cao</a:t>
            </a:r>
            <a:endParaRPr b="0" lang="en-US" sz="2400" spc="-1" strike="noStrike">
              <a:solidFill>
                <a:srgbClr val="000000"/>
              </a:solidFill>
              <a:latin typeface="Arial"/>
            </a:endParaRPr>
          </a:p>
          <a:p>
            <a:pPr lvl="1" marL="457200">
              <a:lnSpc>
                <a:spcPct val="100000"/>
              </a:lnSpc>
              <a:spcBef>
                <a:spcPts val="601"/>
              </a:spcBef>
              <a:tabLst>
                <a:tab algn="l" pos="0"/>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giải thích được các can thiệp chung về dự phòng tái nghiện</a:t>
            </a:r>
            <a:endParaRPr b="0" lang="en-US" sz="2400" spc="-1" strike="noStrike">
              <a:solidFill>
                <a:srgbClr val="000000"/>
              </a:solidFill>
              <a:latin typeface="Arial"/>
            </a:endParaRPr>
          </a:p>
          <a:p>
            <a:pPr lvl="1" marL="457200">
              <a:lnSpc>
                <a:spcPct val="100000"/>
              </a:lnSpc>
              <a:spcBef>
                <a:spcPts val="601"/>
              </a:spcBef>
              <a:tabLst>
                <a:tab algn="l" pos="0"/>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giải thích các can thiệp cụ thể về dự phòng tái nghiệ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2.1-1.ai"/>
          <p:cNvPicPr/>
          <p:nvPr/>
        </p:nvPicPr>
        <p:blipFill>
          <a:blip r:embed="rId1"/>
          <a:stretch/>
        </p:blipFill>
        <p:spPr>
          <a:xfrm>
            <a:off x="311040" y="152280"/>
            <a:ext cx="8604360" cy="6480360"/>
          </a:xfrm>
          <a:prstGeom prst="rect">
            <a:avLst/>
          </a:prstGeom>
          <a:ln w="0">
            <a:noFill/>
          </a:ln>
        </p:spPr>
      </p:pic>
      <p:sp>
        <p:nvSpPr>
          <p:cNvPr id="6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22637-FF88-47D2-B4B7-3CCE0EC770A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2.1-1.ai"/>
          <p:cNvPicPr/>
          <p:nvPr/>
        </p:nvPicPr>
        <p:blipFill>
          <a:blip r:embed="rId1"/>
          <a:stretch/>
        </p:blipFill>
        <p:spPr>
          <a:xfrm>
            <a:off x="311040" y="152280"/>
            <a:ext cx="8604360" cy="6480360"/>
          </a:xfrm>
          <a:prstGeom prst="rect">
            <a:avLst/>
          </a:prstGeom>
          <a:ln w="0">
            <a:noFill/>
          </a:ln>
        </p:spPr>
      </p:pic>
      <p:sp>
        <p:nvSpPr>
          <p:cNvPr id="6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6E4F9-9AB4-495B-BE51-E498FB18113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2.1-1.ai"/>
          <p:cNvPicPr/>
          <p:nvPr/>
        </p:nvPicPr>
        <p:blipFill>
          <a:blip r:embed="rId1"/>
          <a:stretch/>
        </p:blipFill>
        <p:spPr>
          <a:xfrm>
            <a:off x="311040" y="262080"/>
            <a:ext cx="8604360" cy="6480000"/>
          </a:xfrm>
          <a:prstGeom prst="rect">
            <a:avLst/>
          </a:prstGeom>
          <a:ln w="0">
            <a:noFill/>
          </a:ln>
        </p:spPr>
      </p:pic>
      <p:sp>
        <p:nvSpPr>
          <p:cNvPr id="6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FC395-5BF6-438C-8352-D0AA03BD3CD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2:39:35Z</dcterms:created>
  <dc:creator>Hoang Anh</dc:creator>
  <dc:description/>
  <dc:language>en-US</dc:language>
  <cp:lastModifiedBy>Nhu Trang</cp:lastModifiedBy>
  <dcterms:modified xsi:type="dcterms:W3CDTF">2017-06-16T01:25:48Z</dcterms:modified>
  <cp:revision>27</cp:revision>
  <dc:subject/>
  <dc:title>1</dc:title>
</cp:coreProperties>
</file>