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44998D-33E0-4BE8-B1C6-5368BE61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3A23A6-0E28-476D-8EDD-D596BDAC4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2D9291-DC9A-4749-B12B-B70A35F4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24736F-58F2-4544-8B0A-7E3CCC46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5BE7DB-A3AA-4940-AD4F-CBD2EFDF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9440" y="397152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08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300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656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944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300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656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76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08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840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FHI Whitelogo01a"/>
          <p:cNvPicPr/>
          <p:nvPr/>
        </p:nvPicPr>
        <p:blipFill>
          <a:blip r:embed="rId2"/>
          <a:stretch/>
        </p:blipFill>
        <p:spPr>
          <a:xfrm>
            <a:off x="4191120" y="6095880"/>
            <a:ext cx="1600200" cy="51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3" descr="USAID logo"/>
          <p:cNvPicPr/>
          <p:nvPr/>
        </p:nvPicPr>
        <p:blipFill>
          <a:blip r:embed="rId3"/>
          <a:srcRect l="0" t="9142" r="0" b="0"/>
          <a:stretch/>
        </p:blipFill>
        <p:spPr>
          <a:xfrm>
            <a:off x="228600" y="6172200"/>
            <a:ext cx="198108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4" descr="Vietnam PEPFAR Logo"/>
          <p:cNvPicPr/>
          <p:nvPr/>
        </p:nvPicPr>
        <p:blipFill>
          <a:blip r:embed="rId4"/>
          <a:stretch/>
        </p:blipFill>
        <p:spPr>
          <a:xfrm>
            <a:off x="7772400" y="60958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ổng quan về tư vấn trong từng giai đoạn điều trị bệnh nhân trong chương trình Điều trị duy trì bằng Methad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ai đoạn giảm liều kết thúc điều trị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ác bướ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́c buổi đánh giá toàn diện về sẵn sàng kết thúc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: dự phòng tái nghiện, đặt mục tiêu và giải quyết vấn đ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ế hoạch hỗ trợ trong giai đoạn giảm li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ế hoạch hỗ trợ và theo dõi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yển gửi các dịch vụ điều trị và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ủng cố và duy trì động cơ dừng sử dụng ma tú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UÔN MỞ RỘNG CÁNH C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ần suất tư vấ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m liều và kết thúc điều trị: trung b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ần/tuần trong tháng đầu tiên mới giả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lần/tháng từ tháng thứ 2 trở đi đến khi kết th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ng tháng trong ít nhất 6 tháng sau khi kết thúc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ần thiết, theo nhu cầu người bệ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ư vấn và hỗ trợ sau khi kết thúc điều trị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9440" y="1828440"/>
            <a:ext cx="811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uyến khích bệnh nhân tiếp tục đến tư vấn ít nhất trong 6 tháng đầu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ệnh nhân có thể điều trị lại nếu xuất hiện thèm nhớ mãnh liệt hoặc nguy cơ tái sử dụng lại trong vòng 2 năm đầu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ên giữ mối liên hệ giữa cơ sở điều trị với người bệnh và gia đình trong thời gian  tối đa có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Xin chân thành cảm ơ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Câu hỏi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âu hỏi động nã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13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ác giai đoạn chính trong tư vấn điều trị duy trì Methadone là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ư vấn, giáo dục nhóm  chuẩn bị trước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ư vấn trong quá trình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ư vấn khi giảm liều và tiến tới kết thúc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Tư vấn và hỗ trợ sau khi kết thúc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ư vấn và hỗ trợ tâm lý xã hội mỗi giai đoạn cần tập trung vào những nội dung gì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 học viên làm 4 nhóm, mỗi nhóm thảo luận 1 giai đoạn trong 10 phú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 Giai đoạn chuẩn bị trước điều trị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̃y rà soát các bước từ khi một bệnh nhân lần đầu tiên được giới thiệu đến phòng khám Methadone cho đến khi bắt đầu nhận thuốc methad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ư vấn, giáo dục nhóm chuẩn bị trước điều tr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ục tiê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ết lập mối quan hệ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động cơ và tính sẵn sàng tham gia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ng cấp thông tin về Methadone và chương tr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tìm các giải pháp tuân thủ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ng cấp thông tin HIV và giảm tác h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ẩn bị an toàn cho khởi li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Giai đoạn chuẩn bị và khởi liều: Các bướ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ban đ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cá nhâ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ư vấn trong quá trình điều trị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9440" y="1447560"/>
            <a:ext cx="811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dò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điều chỉnh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duy trì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ục tiê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tâm lý,giải thích những khó khăn lo lắng của bệnh nh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úp người bệnh tuân thủ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ủng cố động cơ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giải quyết những tác dụng không mong muố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ự phòng tái nghi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ục tiêu trung hạn và dài hạn:việc làm, mối quan hệ, tái hòa nhập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ảm nguy cơ và các hỗ trợ chuyển g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lối sống lành mạnh : cung cấp và hướng dẫn các kỹ năng, kỹ thuật : quản lý thời gian, quản lý căng thẳ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ác bước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rà soát tuân thủ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rà soát tuân thủ điều trị và đánh giá toàn diện về TL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u vấn về dự phòng tái ngh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 về giảm nguy c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ực hiện các buổi họp , tư vấn gia đình , các nhóm hỗ trợ xã hộ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ần suất tư vấ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440" y="15238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1: tuần đầu tiên - 2 lần/1tuần, tuần thứ 2 đến tuần thứ 4: 1lần/tu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2 đến tháng thứ 6: 1tháng /l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7 trở đi: tùy thuộc từng bệnh nhân nhưng ít nhất 3 tháng / 1l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5:11:30Z</dcterms:created>
  <dc:creator>First Middle Last</dc:creator>
  <dc:description/>
  <dc:language>en-US</dc:language>
  <cp:lastModifiedBy>Admin</cp:lastModifiedBy>
  <dcterms:modified xsi:type="dcterms:W3CDTF">2013-08-11T15:50:11Z</dcterms:modified>
  <cp:revision>275</cp:revision>
  <dc:subject/>
  <dc:title>PowerPoint Presentation</dc:title>
</cp:coreProperties>
</file>