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BFFD-354B-44A0-866B-CB4239B84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CF9F-2DBA-4F6A-AFEE-D856B5DCA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0A0A-6CFF-43B1-BB8D-C266F468B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20A6-8C8D-40C1-91EF-88E7C67BD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xamples – Clients feel better, go back to work, get busy…these things influence adher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5916-3A21-4AE2-A63B-84EA2039E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0509-C69A-468F-A011-A07726E8D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3440" cy="343044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AC8A7-0909-44A9-AE8B-4EA8ED2E6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3AE69-A60C-4D7F-952B-FB5809EB9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1CBEC-2A23-4B2A-BD7F-4BD1300A3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F5E79-0A3C-47E8-9D27-9A72A1E58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AA41A-C6A2-4CD7-B73D-B5E808138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1D807-54A1-4DA1-9417-D6EB9EE07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ADF7B-AB1B-462A-81F5-86675FAF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61371-C01E-418D-A99B-26825A22B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AAEFD-8517-4BC5-AE69-68FB85F6D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632AE-E49A-4266-A602-5CE3FEE4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2E13-754C-4712-891A-1736309E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0122-5AF3-46E5-86BD-0F5DB156E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1B9D-FD24-4F76-87B9-E08D4EDB7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ư vấn Đánh giá Quá trình Tuân thủ Điều trị Duy trì bằng Methadone (ĐTDTM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ác nội dung chính do TVV thực hiện với KH</a:t>
            </a:r>
            <a:endParaRPr b="0" lang="en-US" sz="4000" spc="-1" strike="noStrike">
              <a:solidFill>
                <a:srgbClr val="000000"/>
              </a:solidFill>
              <a:latin typeface="Arial"/>
            </a:endParaRPr>
          </a:p>
        </p:txBody>
      </p:sp>
      <p:sp>
        <p:nvSpPr>
          <p:cNvPr id="71" name="PlaceHolder 2"/>
          <p:cNvSpPr>
            <a:spLocks noGrp="1"/>
          </p:cNvSpPr>
          <p:nvPr>
            <p:ph/>
          </p:nvPr>
        </p:nvSpPr>
        <p:spPr>
          <a:xfrm>
            <a:off x="304920" y="1722600"/>
            <a:ext cx="8610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n cảm nhận thế nào về việc điều trị methadone của bạ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n bỏ uống thuốc bao nhiêu lần? (bao nhiêu lần liên tục và lần gần đây nhất là vào khi nà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ý do bạn bỏ uống thuố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ác dụng phụ và các tác dụng không mong muốn liên quan đến ĐTDTM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n bạn có đang sử dụng các loại thuốc khác không – tương tác thuố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ảo luận nhanh về vấn đề sử dụng rượu/ma túy, nhu cầu hỗ trợ tâm lý và tình trạng sức khỏe tâm thầ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ước quan trọng nhất…</a:t>
            </a:r>
            <a:endParaRPr b="0" lang="en-US" sz="4400" spc="-1" strike="noStrike">
              <a:solidFill>
                <a:srgbClr val="000000"/>
              </a:solidFill>
              <a:latin typeface="Arial"/>
            </a:endParaRPr>
          </a:p>
        </p:txBody>
      </p:sp>
      <p:sp>
        <p:nvSpPr>
          <p:cNvPr id="73" name="PlaceHolder 2"/>
          <p:cNvSpPr>
            <a:spLocks noGrp="1"/>
          </p:cNvSpPr>
          <p:nvPr>
            <p:ph/>
          </p:nvPr>
        </p:nvSpPr>
        <p:spPr>
          <a:xfrm>
            <a:off x="228600" y="1494000"/>
            <a:ext cx="8686800" cy="45259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ảo luận lại các trở ngại đối với việc tuân thủ điều trị và các giải pháp khắc phục. </a:t>
            </a:r>
            <a:endParaRPr b="0" lang="en-US" sz="2400" spc="-1" strike="noStrike">
              <a:solidFill>
                <a:srgbClr val="000000"/>
              </a:solidFill>
              <a:latin typeface="Arial"/>
            </a:endParaRPr>
          </a:p>
          <a:p>
            <a:pPr lvl="1" marL="698400" indent="-268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ảo luận cùng khách hàng và sử dụng những thông tin khách hàng đưa ra để cập nhật danh sách các trở ngại</a:t>
            </a:r>
            <a:endParaRPr b="0" lang="en-US" sz="2400" spc="-1" strike="noStrike">
              <a:solidFill>
                <a:srgbClr val="000000"/>
              </a:solidFill>
              <a:latin typeface="Arial"/>
            </a:endParaRPr>
          </a:p>
          <a:p>
            <a:pPr lvl="1" marL="698400" indent="-268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ếu có nhiều trở ngại mới – sử dụng thêm </a:t>
            </a:r>
            <a:r>
              <a:rPr b="0" i="1" lang="en-AU" sz="2400" spc="-1" strike="noStrike">
                <a:solidFill>
                  <a:srgbClr val="000000"/>
                </a:solidFill>
                <a:latin typeface="Arial"/>
              </a:rPr>
              <a:t>bảng ghi trở ngại-giải pháp (</a:t>
            </a:r>
            <a:r>
              <a:rPr b="0" lang="en-AU" sz="2400" spc="-1" strike="noStrike">
                <a:solidFill>
                  <a:srgbClr val="000000"/>
                </a:solidFill>
                <a:latin typeface="Arial"/>
              </a:rPr>
              <a:t>được sử dụng trong buổi tư vấn cá nhân về tuân thủ điều trị). </a:t>
            </a:r>
            <a:endParaRPr b="0" lang="en-US" sz="2400" spc="-1" strike="noStrike">
              <a:solidFill>
                <a:srgbClr val="000000"/>
              </a:solidFill>
              <a:latin typeface="Arial"/>
            </a:endParaRPr>
          </a:p>
          <a:p>
            <a:pPr lvl="1" marL="698400" indent="-268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Đánh giá lại các giải pháp khắc phục các trở ngại như thay đổi thời gian đến uống thuốc, tăng số lần tư vấn, sử dụng sự trợ giúp của các bệnh nhân khác hoặc của giáo dục viên đồng đẳng</a:t>
            </a:r>
            <a:endParaRPr b="0" lang="en-US" sz="2400" spc="-1" strike="noStrike">
              <a:solidFill>
                <a:srgbClr val="000000"/>
              </a:solidFill>
              <a:latin typeface="Arial"/>
            </a:endParaRPr>
          </a:p>
          <a:p>
            <a:pPr lvl="1" marL="698400" indent="-268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uyển gửi khách hàng đến các dịch vụ cần thiết khá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iện pháp giải quyết vấn đề</a:t>
            </a:r>
            <a:endParaRPr b="0" lang="en-US" sz="4400" spc="-1" strike="noStrike">
              <a:solidFill>
                <a:srgbClr val="000000"/>
              </a:solidFill>
              <a:latin typeface="Arial"/>
            </a:endParaRPr>
          </a:p>
        </p:txBody>
      </p:sp>
      <p:graphicFrame>
        <p:nvGraphicFramePr>
          <p:cNvPr id="75" name=""/>
          <p:cNvGraphicFramePr/>
          <p:nvPr/>
        </p:nvGraphicFramePr>
        <p:xfrm>
          <a:off x="228600" y="1179360"/>
          <a:ext cx="8763120" cy="4992840"/>
        </p:xfrm>
        <a:graphic>
          <a:graphicData uri="http://schemas.openxmlformats.org/drawingml/2006/table">
            <a:tbl>
              <a:tblPr/>
              <a:tblGrid>
                <a:gridCol w="1828800"/>
                <a:gridCol w="2743200"/>
                <a:gridCol w="4191120"/>
              </a:tblGrid>
              <a:tr h="49928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ấn đề</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ông đến uống thuốc</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ở ngại</a:t>
                      </a:r>
                      <a:endParaRPr b="0" lang="en-US" sz="24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ận</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ồn chán (trầm cảm)/ bệnh tâm lý</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ống một mìn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ướng giải quyế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ử dụng lời nhắc – xem lại liều dùng</a:t>
                      </a:r>
                      <a:endParaRPr b="0" lang="en-US" sz="2400" spc="-1" strike="noStrike">
                        <a:solidFill>
                          <a:srgbClr val="000000"/>
                        </a:solidFill>
                        <a:latin typeface="Arial"/>
                      </a:endParaRPr>
                    </a:p>
                    <a:p>
                      <a:pPr>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cường hỗ trợ gia đình</a:t>
                      </a:r>
                      <a:endParaRPr b="0" lang="en-US" sz="24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trị bệnh trầm cảm</a:t>
                      </a:r>
                      <a:endParaRPr b="0" lang="en-US" sz="24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cường hỗ trợ của gia đình</a:t>
                      </a:r>
                      <a:endParaRPr b="0" lang="en-US" sz="24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ỗ trợ của bệnh nhân khác</a:t>
                      </a:r>
                      <a:endParaRPr b="0" lang="en-US" sz="24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 đồng đẳ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ối buổi tư vấn</a:t>
            </a:r>
            <a:endParaRPr b="0" lang="en-US" sz="4400" spc="-1" strike="noStrike">
              <a:solidFill>
                <a:srgbClr val="000000"/>
              </a:solidFill>
              <a:latin typeface="Arial"/>
            </a:endParaRPr>
          </a:p>
        </p:txBody>
      </p:sp>
      <p:sp>
        <p:nvSpPr>
          <p:cNvPr id="77" name="PlaceHolder 2"/>
          <p:cNvSpPr>
            <a:spLocks noGrp="1"/>
          </p:cNvSpPr>
          <p:nvPr>
            <p:ph/>
          </p:nvPr>
        </p:nvSpPr>
        <p:spPr>
          <a:xfrm>
            <a:off x="533520" y="141768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ấn mạnh lại các thông tin quan trọng và kiểm tra lại xem khách hàng có hiểu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ôn hỏi xem khách hàng có thắc mắc hoặc muốn hỏi gì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ch lệ khách hàng – nói cho họ biết họ đã có tiến bộ như thế nào và chỉ ra những điểm tích cực trong các thay đổi của họ</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ổng kết sự tiến bộ của khách hàng trong thời gian qu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óm tắt một cách ngắn gọn sự tiến bộ của khách hàng liên quan đến việc ổn định liều, ổn định cuộc sống, chất lượng sống được cải thiện, tuân thủ điều trị, vv</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hi nhớ </a:t>
            </a:r>
            <a:endParaRPr b="0" lang="en-US" sz="4400" spc="-1" strike="noStrike">
              <a:solidFill>
                <a:srgbClr val="000000"/>
              </a:solidFill>
              <a:latin typeface="Arial"/>
            </a:endParaRPr>
          </a:p>
        </p:txBody>
      </p:sp>
      <p:sp>
        <p:nvSpPr>
          <p:cNvPr id="79" name="PlaceHolder 2"/>
          <p:cNvSpPr>
            <a:spLocks noGrp="1"/>
          </p:cNvSpPr>
          <p:nvPr>
            <p:ph/>
          </p:nvPr>
        </p:nvSpPr>
        <p:spPr>
          <a:xfrm>
            <a:off x="304920" y="1752120"/>
            <a:ext cx="4038480" cy="48006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ột trong những yếu tố quan trọng nhất ảnh hưởng đến việc duy trì điều trị của khách hàng là sự tin tưởng và giao tiếp có hiệu quả của những nhà cung cấp dịch vụ chăm sóc sức khỏe.</a:t>
            </a:r>
            <a:endParaRPr b="0" lang="en-US" sz="2800" spc="-1" strike="noStrike">
              <a:solidFill>
                <a:srgbClr val="000000"/>
              </a:solidFill>
              <a:latin typeface="Arial"/>
            </a:endParaRPr>
          </a:p>
        </p:txBody>
      </p:sp>
      <p:pic>
        <p:nvPicPr>
          <p:cNvPr id="80" name="Picture 4" descr="DSC00256"/>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353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ực hành mẫu</a:t>
            </a:r>
            <a:br>
              <a:rPr sz="4400"/>
            </a:br>
            <a:r>
              <a:rPr b="1" lang="en-US" sz="4400" spc="-1" strike="noStrike">
                <a:solidFill>
                  <a:srgbClr val="000000"/>
                </a:solidFill>
                <a:latin typeface="Arial"/>
              </a:rPr>
              <a:t>Một buổi tư vấn về Tuân thủ điều tr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ực hành nhóm 3 ngườ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hận xét/phản hồi cho phần thực hành mẫu/thực hành nhóm</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Bạn cảm thấy thế nào khi thực hiện phần tư vấn đánh giá quá trình tuân thủ điều trị?</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ạn thấy nội dung nào dễ thực hiện nhất trong buổi tư vấn đó?</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Bạn thấy nội dung nào khó thực hiện nhất?</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ạn có thể làm gì khác đi cho lần thực hành sau?</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hần nội dung nào bạn thấy cần thực hành nhiều hơn?</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Bạn có câu hỏi gì khô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75960"/>
            <a:ext cx="8991720" cy="132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Ôn tập: Làm thế nào để tối đa hóa tuân thủ chương trình ĐTDTMT?</a:t>
            </a:r>
            <a:endParaRPr b="0" lang="en-US" sz="3200" spc="-1" strike="noStrike">
              <a:solidFill>
                <a:srgbClr val="000000"/>
              </a:solidFill>
              <a:latin typeface="Arial"/>
            </a:endParaRPr>
          </a:p>
        </p:txBody>
      </p:sp>
      <p:sp>
        <p:nvSpPr>
          <p:cNvPr id="50" name="PlaceHolder 2"/>
          <p:cNvSpPr>
            <a:spLocks noGrp="1"/>
          </p:cNvSpPr>
          <p:nvPr>
            <p:ph/>
          </p:nvPr>
        </p:nvSpPr>
        <p:spPr>
          <a:xfrm>
            <a:off x="152280" y="1523880"/>
            <a:ext cx="8839440" cy="51055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liều tối ưu cho mỗi bệnh nhân! 3 tác dụng của liều đúng: loại trừ hội chứng cai, giảm đáng kể thèm nhớ và khóa tác dụng của Heroin nếu dùng thêm.</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ỗ trợ tuân thủ để khuyến khích và tạo cho khách hàng tự có trách nhiệm với sức khỏe và sự điều trị của họ.</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ập huấn tuân thủ trong đó khách hàng được giáo dục và nhận được đầy đủ thông tin có thể ‘sẵn sàng’ điều trị</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cá nhân tuân theo và bám sát chế độ uống thuốc, các hướng dẫn và lời khuyên của bác sĩ điều trị, hiểu và tin vào tầm quan trọng của tuân thủ</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ỗ trợ các cá nhân tự xác định được các rào cản đối với việc tuân thủ điều trị và tìm các giải pháp tháo gỡ các rào cản đó</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i hỗ trợ khách hàng, luôn duy trì thái độ không phán xét, giúp họ tự thay đổi cuộc sống và hoàn cảnh sống</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ư vấn Đánh giá Quá trình Tuân thủ Điều trị Duy trì bằng Methadone (ĐTDTMT)</a:t>
            </a:r>
            <a:endParaRPr b="0" lang="en-US" sz="3000" spc="-1" strike="noStrike">
              <a:solidFill>
                <a:srgbClr val="000000"/>
              </a:solidFill>
              <a:latin typeface="Arial"/>
            </a:endParaRPr>
          </a:p>
        </p:txBody>
      </p:sp>
      <p:sp>
        <p:nvSpPr>
          <p:cNvPr id="52" name="PlaceHolder 2"/>
          <p:cNvSpPr>
            <a:spLocks noGrp="1"/>
          </p:cNvSpPr>
          <p:nvPr>
            <p:ph/>
          </p:nvPr>
        </p:nvSpPr>
        <p:spPr>
          <a:xfrm>
            <a:off x="228600" y="1371600"/>
            <a:ext cx="8763120" cy="2819520"/>
          </a:xfrm>
          <a:prstGeom prst="rect">
            <a:avLst/>
          </a:prstGeom>
          <a:noFill/>
          <a:ln w="0">
            <a:noFill/>
          </a:ln>
        </p:spPr>
        <p:txBody>
          <a:bodyPr anchor="t">
            <a:normAutofit fontScale="93000"/>
          </a:bodyPr>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buổi đánh giá “ngắn gọn” về sự tiến bộ của khách hàng trong quá trình tham gia điều trị bằng methadone</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tra số lần khách hàng bỏ uống thuốc và (nếu có) lý do tại sao</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liệu khách hàng có cần được chuyển gửi đến các dịch vụ khác hoặc điều chỉnh lại liều dùng</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em xét các tác dụng phụ của thuốc hoặc tương tác thuốc ở bệnh nhân</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nhu cầu được hỗ trợ tâm lý và phòng tránh sử dụng rượu và ma túy</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ảo luận lại các trở ngại khách hàng gặp phải trong việc tuân thủ ĐTDTMT và các hướng giải quyết trở ngại</a:t>
            </a:r>
            <a:endParaRPr b="0" lang="en-US" sz="2000" spc="-1" strike="noStrike">
              <a:solidFill>
                <a:srgbClr val="000000"/>
              </a:solidFill>
              <a:latin typeface="Arial"/>
            </a:endParaRPr>
          </a:p>
        </p:txBody>
      </p:sp>
      <p:pic>
        <p:nvPicPr>
          <p:cNvPr id="53" name="Picture 4" descr="MCj04325490000[1]"/>
          <p:cNvPicPr/>
          <p:nvPr/>
        </p:nvPicPr>
        <p:blipFill>
          <a:blip r:embed="rId1"/>
          <a:stretch/>
        </p:blipFill>
        <p:spPr>
          <a:xfrm>
            <a:off x="6019920" y="4343400"/>
            <a:ext cx="1828800" cy="1828800"/>
          </a:xfrm>
          <a:prstGeom prst="rect">
            <a:avLst/>
          </a:prstGeom>
          <a:ln w="0">
            <a:noFill/>
          </a:ln>
        </p:spPr>
      </p:pic>
      <p:sp>
        <p:nvSpPr>
          <p:cNvPr id="54" name="Text Box 5"/>
          <p:cNvSpPr/>
          <p:nvPr/>
        </p:nvSpPr>
        <p:spPr>
          <a:xfrm>
            <a:off x="457200" y="4800600"/>
            <a:ext cx="53341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èn giao thông – minh họa cho nội dung của phần đánh giá này– cần được chuyển tiếp và theo dõi khách hàng</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0"/>
            <a:ext cx="80773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ại sao phải thường xuyên đánh giá quá trình tuân thủ ĐTDTMT của khách hàng? </a:t>
            </a:r>
            <a:endParaRPr b="0" lang="en-US" sz="3200" spc="-1" strike="noStrike">
              <a:solidFill>
                <a:srgbClr val="000000"/>
              </a:solidFill>
              <a:latin typeface="Arial"/>
            </a:endParaRPr>
          </a:p>
        </p:txBody>
      </p:sp>
      <p:sp>
        <p:nvSpPr>
          <p:cNvPr id="56" name="PlaceHolder 2"/>
          <p:cNvSpPr>
            <a:spLocks noGrp="1"/>
          </p:cNvSpPr>
          <p:nvPr>
            <p:ph/>
          </p:nvPr>
        </p:nvSpPr>
        <p:spPr>
          <a:xfrm>
            <a:off x="304920" y="1600200"/>
            <a:ext cx="8534160" cy="4191120"/>
          </a:xfrm>
          <a:prstGeom prst="rect">
            <a:avLst/>
          </a:prstGeom>
          <a:noFill/>
          <a:ln w="0">
            <a:noFill/>
          </a:ln>
        </p:spPr>
        <p:txBody>
          <a:bodyPr anchor="t">
            <a:normAutofit fontScale="98000"/>
          </a:bodyPr>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iều methadone có thể cần được điều chỉnh – đặc biệt trong giai đoạn đầu của chương trình điều trị (lý do phổ biến nhất đối với việc bỏ uống thuốc là do liều methadone chưa được xác định đúng (liều thấp)</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Cuộc sống của khách hàng có nhiều thay đổi liên tục</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Các trở ngại trong tuân thủ điều trị cũng thay đổi</a:t>
            </a:r>
            <a:endParaRPr b="0" lang="en-US" sz="2000" spc="-1" strike="noStrike">
              <a:solidFill>
                <a:srgbClr val="000000"/>
              </a:solidFill>
              <a:latin typeface="Aria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Việc tuân thủ điều trị luôn bị ảnh hưởng bởi nhiều yếu tố</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Phương pháp tư vấn cần được giữ nguyên mặc dù nội dung tư vấn có thể thay đổi để hợp với hoàn cảnh của khách hà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ông việc đánh giá và hỗ trợ TTĐT methadone đòi hỏi tinh thần làm việc theo nhóm và sự giao tiếp có hiệu quả giữa các thành viên</a:t>
            </a:r>
            <a:endParaRPr b="0" lang="en-US" sz="2800" spc="-1" strike="noStrike">
              <a:solidFill>
                <a:srgbClr val="000000"/>
              </a:solidFill>
              <a:latin typeface="Arial"/>
            </a:endParaRPr>
          </a:p>
        </p:txBody>
      </p:sp>
      <p:sp>
        <p:nvSpPr>
          <p:cNvPr id="58"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c sĩ điều trị và TVV đều ghi lại những vấn đề liên quan đến tuân thủ điều trị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c sĩ và TTV đều nắm được các nội dung ghi chép này của nha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 đình thường lo lắng KH không tuân thủ điều trị</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ười hỗ trợ điều trị và nhân viên TCCĐ thường nắm tình trạng bệnh nhân tốt hơn nhân viên y tế vì thế ý kiến và sự giúp đỡ của họ rất quan trọng</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80520"/>
            <a:ext cx="777240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ục đích của tư vấn đánh giá sự tuân thủ ĐTDTMT của khách hàng</a:t>
            </a:r>
            <a:endParaRPr b="0" lang="en-US" sz="3600" spc="-1" strike="noStrike">
              <a:solidFill>
                <a:srgbClr val="000000"/>
              </a:solidFill>
              <a:latin typeface="Arial"/>
            </a:endParaRPr>
          </a:p>
        </p:txBody>
      </p:sp>
      <p:sp>
        <p:nvSpPr>
          <p:cNvPr id="60" name="PlaceHolder 2"/>
          <p:cNvSpPr>
            <a:spLocks noGrp="1"/>
          </p:cNvSpPr>
          <p:nvPr>
            <p:ph/>
          </p:nvPr>
        </p:nvSpPr>
        <p:spPr>
          <a:xfrm>
            <a:off x="228600" y="1523880"/>
            <a:ext cx="8763120" cy="457200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ảo luận cảm nhận của khách hàng về điều trị bằng methadon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ạo động cơ và khích lệ khách hàng duy trì điều trị, trong đó có cả sự hỗ trợ cho giai đoạn khó khăn hơn khi quá trình điều trị của khách hàng đã ổn định</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ảo luận tiếp về tác dụng phụ của thuốc và triệu chứng cai nhằm xác định thời gian thích hợp chuyển khách hàng đến bác sĩ điều trị để được tăng/giảm liều dùng</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ác định các trở ngại trong việc đến phòng khám và điều trị methadone mỗi ngày theo lịch hẹn và để được uống thuốc</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ảo luận lại các biện pháp giải quyết trở ngại đối với việc tuân thủ điều trị và thực hiện lịch hẹn</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Đánh giá lại nhu cầu hỗ trợ tâm lý và chuyển gửi đến cá dịch vụ khác nhằm đảm bảo các nhu cầu đó được giải quyết</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hi việc điều trị của khách hàng đã ở giai đoạn ổn định – hỗ trợ can thiệp thay đổi hành vi nhằm giúp khách hàng phóng tránh tái nghiện.</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ác động của 1 liều methadone bị bỏ nhỡ</a:t>
            </a:r>
            <a:r>
              <a:rPr b="1" lang="en-GB" sz="4000" spc="-1" strike="noStrike">
                <a:solidFill>
                  <a:srgbClr val="000000"/>
                </a:solidFill>
                <a:latin typeface="Arial"/>
              </a:rPr>
              <a:t> </a:t>
            </a:r>
            <a:endParaRPr b="0" lang="en-US" sz="4000" spc="-1" strike="noStrike">
              <a:solidFill>
                <a:srgbClr val="000000"/>
              </a:solidFill>
              <a:latin typeface="Arial"/>
            </a:endParaRPr>
          </a:p>
        </p:txBody>
      </p:sp>
      <p:pic>
        <p:nvPicPr>
          <p:cNvPr id="62" name="Picture 3" descr=""/>
          <p:cNvPicPr/>
          <p:nvPr/>
        </p:nvPicPr>
        <p:blipFill>
          <a:blip r:embed="rId1"/>
          <a:stretch/>
        </p:blipFill>
        <p:spPr>
          <a:xfrm>
            <a:off x="838080" y="1617840"/>
            <a:ext cx="7315200" cy="4360680"/>
          </a:xfrm>
          <a:prstGeom prst="rect">
            <a:avLst/>
          </a:prstGeom>
          <a:ln w="0">
            <a:noFill/>
          </a:ln>
        </p:spPr>
      </p:pic>
      <p:sp>
        <p:nvSpPr>
          <p:cNvPr id="63" name="Line 4"/>
          <p:cNvSpPr/>
          <p:nvPr/>
        </p:nvSpPr>
        <p:spPr>
          <a:xfrm>
            <a:off x="3276720" y="3733920"/>
            <a:ext cx="457200" cy="990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5"/>
          <p:cNvSpPr/>
          <p:nvPr/>
        </p:nvSpPr>
        <p:spPr>
          <a:xfrm>
            <a:off x="6400800" y="3505320"/>
            <a:ext cx="457200" cy="1066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6"/>
          <p:cNvSpPr/>
          <p:nvPr/>
        </p:nvSpPr>
        <p:spPr>
          <a:xfrm>
            <a:off x="3809880" y="4800600"/>
            <a:ext cx="38862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ịch đánh giá tuân thủ điều trị</a:t>
            </a:r>
            <a:endParaRPr b="0" lang="en-US" sz="4400" spc="-1" strike="noStrike">
              <a:solidFill>
                <a:srgbClr val="000000"/>
              </a:solidFill>
              <a:latin typeface="Arial"/>
            </a:endParaRPr>
          </a:p>
        </p:txBody>
      </p:sp>
      <p:sp>
        <p:nvSpPr>
          <p:cNvPr id="67" name="PlaceHolder 2"/>
          <p:cNvSpPr>
            <a:spLocks noGrp="1"/>
          </p:cNvSpPr>
          <p:nvPr>
            <p:ph/>
          </p:nvPr>
        </p:nvSpPr>
        <p:spPr>
          <a:xfrm>
            <a:off x="456840" y="1219320"/>
            <a:ext cx="8458200" cy="396216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áng thứ 1: tuần đầu tiên - 2 lần/tuần, tuần thứ 2 đến tuần thứ 4 – 1 lần/tuần.</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ừ tháng thứ 2 đến tháng thứ 6: 1 lần/tháng</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ừ tháng thứ 7 trở đi: tùy thuộc tình hình thực tế của bệnh nhân để tiến hành tư vấn nhưng ít nhất là 3 tháng/1 lần </a:t>
            </a: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Mỗi một tháng khách hàng đều phải trải qua việc đánh giá tâm lý và tư vấn về quá trình tuân thủ điều trị. Đây là phần đánh giá chi tiết về những gi diễn ra trong cuộc sống của khách hàng</a:t>
            </a:r>
            <a:endParaRPr b="0" lang="en-US" sz="24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Nếu khách hàng khó ổn định điều trị hoặc họ bắt đầu hoặc liên tục bỏ uống thuốc hoặc không thực hiện các lịch hẹn với bác sĩ điều trị - lịch tư vấn sẽ được thực hiện nhiều và thường xuyên hơn (do TVV quyết định</a:t>
            </a:r>
            <a:r>
              <a:rPr b="0" lang="en-A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ẫu dành cho tư vấn đánh giá quá trình tuân thủ điều trị</a:t>
            </a:r>
            <a:endParaRPr b="0" lang="en-US" sz="4000" spc="-1" strike="noStrike">
              <a:solidFill>
                <a:srgbClr val="000000"/>
              </a:solidFill>
              <a:latin typeface="Arial"/>
            </a:endParaRPr>
          </a:p>
        </p:txBody>
      </p:sp>
      <p:sp>
        <p:nvSpPr>
          <p:cNvPr id="69" name="PlaceHolder 2"/>
          <p:cNvSpPr>
            <a:spLocks noGrp="1"/>
          </p:cNvSpPr>
          <p:nvPr>
            <p:ph/>
          </p:nvPr>
        </p:nvSpPr>
        <p:spPr>
          <a:xfrm>
            <a:off x="1371600" y="2590560"/>
            <a:ext cx="6781680" cy="3687480"/>
          </a:xfrm>
          <a:prstGeom prst="rect">
            <a:avLst/>
          </a:prstGeom>
          <a:noFill/>
          <a:ln w="0">
            <a:noFill/>
          </a:ln>
        </p:spPr>
        <p:txBody>
          <a:bodyPr anchor="t">
            <a:normAutofit/>
          </a:bodyPr>
          <a:p>
            <a:pPr marL="609480" indent="-60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tuân thủ điều trị</a:t>
            </a:r>
            <a:endParaRPr b="0" lang="en-US" sz="2800" spc="-1" strike="noStrike">
              <a:solidFill>
                <a:srgbClr val="000000"/>
              </a:solidFill>
              <a:latin typeface="Arial"/>
            </a:endParaRPr>
          </a:p>
          <a:p>
            <a:pPr marL="609480" indent="-60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tòan diện về TTĐT và hỗ trợ tâm lý xã hội</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2:47:45Z</dcterms:created>
  <dc:creator>rachel</dc:creator>
  <dc:description/>
  <dc:language>en-US</dc:language>
  <cp:lastModifiedBy>Admin</cp:lastModifiedBy>
  <dcterms:modified xsi:type="dcterms:W3CDTF">2013-08-12T10:40:59Z</dcterms:modified>
  <cp:revision>36</cp:revision>
  <dc:subject/>
  <dc:title>On-going MMT Adherence Counseling</dc:title>
</cp:coreProperties>
</file>