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2"/>
          <p:cNvSpPr/>
          <p:nvPr/>
        </p:nvSpPr>
        <p:spPr>
          <a:xfrm>
            <a:off x="2849040" y="8718480"/>
            <a:ext cx="11599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6360" bIns="36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e 5-</a:t>
            </a:r>
            <a:fld id="{AD18BFB0-F735-4F2F-9FA0-BCF69FBCB96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4191120"/>
            <a:ext cx="594360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4191120"/>
            <a:ext cx="594360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68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28880" y="18284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2888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68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2888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592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2888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4592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68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2888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1132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9376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2888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1132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9376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68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2888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68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2888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68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2888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4592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68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680" y="5331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68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2888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592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2888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68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2888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4592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4592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68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2888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4592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2888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68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888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228600"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228600"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14680" indent="-228600"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14680" indent="-228600"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14680" indent="-228600"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09520" y="6523200"/>
            <a:ext cx="32241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184880" y="4084560"/>
            <a:ext cx="292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9810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Treatments for Opioid Dependence: 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Buprenorphine and Methadone </a:t>
            </a: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ic C. Strain, M.D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s Hopkins University School of Medicin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th Annual Conference on Substance Use and HIV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 Chi Minh City, Viet Nam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gust 3-5, 2017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517680" y="6475320"/>
            <a:ext cx="5070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02888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ottom 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ffective medication, and when linked to non-pharmacological treatment, can achieve a variety of positive broad treatment outcomes (not just illicit opioid use, but decrease in other drug use, pro-social behaviors can be achieved with comprehensive methadone treat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56520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Methado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577800" y="171756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02888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. Methad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I. Buprenorp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I. Final though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56520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Outline for this tal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577800" y="171756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02888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harmac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mu agonist opio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56520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Buprenorphi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577800" y="171756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67"/>
          <p:cNvSpPr/>
          <p:nvPr/>
        </p:nvSpPr>
        <p:spPr>
          <a:xfrm>
            <a:off x="514440" y="228600"/>
            <a:ext cx="942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fficacy: Full Agonist (Methadone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rtial Agonist (Buprenorphine), Antagonist (Naloxo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169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664200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02888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harmac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mu agonist opio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usual bell-shaped dose-response cur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56520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Buprenorphi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6"/>
          <p:cNvSpPr/>
          <p:nvPr/>
        </p:nvSpPr>
        <p:spPr>
          <a:xfrm>
            <a:off x="577800" y="171756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565200" y="9907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Buprenorphine Pharmacolog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3"/>
          <p:cNvSpPr/>
          <p:nvPr/>
        </p:nvSpPr>
        <p:spPr>
          <a:xfrm>
            <a:off x="584280" y="1582560"/>
            <a:ext cx="911844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4" descr="_x0013_MorphineBupCrop.tif                                            0007F39F_x000f_ECS-MacBook-Pro                C27C8CF9:"/>
          <p:cNvPicPr/>
          <p:nvPr/>
        </p:nvPicPr>
        <p:blipFill>
          <a:blip r:embed="rId1"/>
          <a:stretch/>
        </p:blipFill>
        <p:spPr>
          <a:xfrm>
            <a:off x="1905120" y="1676520"/>
            <a:ext cx="6441840" cy="48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02888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harmac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mu agonist opioid (physical dependence, analgesi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usual bell-shaped dose-response cur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d sublingual bioavail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 duration of 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-tolerance to other opioids (blockade efficac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56520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Buprenorphi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577800" y="171756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2888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ow it is used in the U.S.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(for addiction treat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ians (and now other providers) can write a prescription from their office (no need to attend a special clin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eed to have training to be allowed to write the prescri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 rigor in requiring use of non-pharmacological trea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56520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Buprenorphi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>
            <a:off x="577800" y="171756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2888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dvantag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ective (also well studi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-duration form (6 month rods), and one month injectable forms likely available in next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risk of overd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ardiac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56520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Buprenorphi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577800" y="171756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2888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isadvan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es physical depen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iling to agonist effects (partial agonist) – question of whether useful for people with higher levels of physical depen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ersion and misuse in U.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56520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Buprenorphi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577800" y="171756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2888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am avoiding calling this “Buprenorphine versus Methadone”, as these are both very good medications and we should not seem to put one against the 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2888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ottom 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an effective med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month injectable may be way to address diversion and misuse concerns (a current major issue in the U.S.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ms harder to link it to non-pharmacological treatment (busy physicians may not provide counseling needed – seen as a magic bullet by so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56520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Buprenorphi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6"/>
          <p:cNvSpPr/>
          <p:nvPr/>
        </p:nvSpPr>
        <p:spPr>
          <a:xfrm>
            <a:off x="577800" y="171756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28520" y="1904760"/>
            <a:ext cx="28954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. Methad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prenorp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II. Final though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56520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Outline for this tal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577800" y="171756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617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th medications useful to have in the toolbo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differences pharmacologically (full or partial agonism at mu receptor), which can impact safety and side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U.S., some differences in how can be used (regulatory circumstanc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 acting forms (buprenorphine) may open new avenues for trea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56520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Final though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577800" y="171756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17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28520" y="1904760"/>
            <a:ext cx="28954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. Methad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prenorp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I. Final though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56520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Outline for this tal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Line 6"/>
          <p:cNvSpPr/>
          <p:nvPr/>
        </p:nvSpPr>
        <p:spPr>
          <a:xfrm>
            <a:off x="577800" y="171756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28520" y="1904760"/>
            <a:ext cx="28954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. Methad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prenorp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I. Final though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56520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Outline for this tal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577800" y="171756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5143680" y="1905120"/>
            <a:ext cx="45655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. Pharmac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. How it is used in the U.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I. Advantages, disadvan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V. Bottom 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02888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.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Methad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prenorp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I. Final though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56520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Outline for this tal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577800" y="171756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02888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harmac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ll mu agonist opioid (physical dependence, analgesi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d oral bioavail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ively long duration of 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-tolerance to other opioids (blockade efficac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56520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Methado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577800" y="171756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02888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ow it is used in the U.S.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(for addiction treat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hadone clinics (“Opioid Treatment Programs”), open 6-7 days per week, staffed by nurses, counselors, physicians, other professionals and support person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ervised daily do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home dosing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urrent counseling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56520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Methado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Line 6"/>
          <p:cNvSpPr/>
          <p:nvPr/>
        </p:nvSpPr>
        <p:spPr>
          <a:xfrm>
            <a:off x="577800" y="171756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02888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dvantag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ective, effective, effective (well studied) – suppresses opioid withdrawal, blocks effects of other opioids, easy to use (oral dosing), mildly reinforcing (patients stay in treat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used as a contingency to shape other goals of treatment (as a take home dose) – a very effective reinfor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56520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Methado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577800" y="171756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02888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isadvan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of diversion, overd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es and perpetuates opioid physical depen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ab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of QTc prolongation for higher doses (especially for patients with other risk facto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ricted availability in U.S. – limited number of clin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56520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Methado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577800" y="171756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2T18:30:44Z</dcterms:created>
  <dc:creator>SVHATTC</dc:creator>
  <dc:description/>
  <cp:keywords/>
  <dc:language>en-US</dc:language>
  <cp:lastModifiedBy>nschitrung@yahoo.com</cp:lastModifiedBy>
  <cp:lastPrinted>2000-10-13T22:44:23Z</cp:lastPrinted>
  <dcterms:modified xsi:type="dcterms:W3CDTF">2017-08-03T14:13:24Z</dcterms:modified>
  <cp:revision>759</cp:revision>
  <dc:subject/>
  <dc:title>Pharmacodynamic Profile of Enadoline,  A Selective Kappa (k) Agonist,  in Humans</dc:title>
</cp:coreProperties>
</file>