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A17-110B-4648-B5FF-A259381D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BB5-4C08-4179-BFFA-707598CD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6D2-CC43-4B26-BBE2-6A3E91C5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8ED-A4A7-4FA9-9A42-E3E62955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7DE1-D2CB-4873-9F6A-1060A1CA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01CB-11D5-492E-A8CB-68988742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2672-7BD6-4DF9-980D-4611FE76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2018-0B4B-466F-9913-E0C47B9A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4B24-3BEB-4D5F-A99D-79B351BE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95D7-9230-4C2F-941F-08DA07E7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80AC-B9F1-48B0-BC2F-707A371F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C53-A24A-4E28-8153-B277BC82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EEC5-C959-4A59-8EC2-7E0BD851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2C25-8F48-474A-B3FD-7B293AB2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E59E-1802-47D7-A825-DBD29A31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4C9A-45A1-43E6-9D0D-FC8AC7C3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C8C2-3DB8-4EF8-A0C0-5EB96BA6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32464-FF6A-4AE3-8747-69AA1D9E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43AE7-68CB-4280-82A7-7A6C4AD8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F060F-3B99-4BB4-9D73-F9B596B7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3687-852B-4601-BE21-FA925DD9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67228-7836-4B07-B9B3-3FDA28FC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C8B-08FA-4C9A-B6A4-A14EE54A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62299-5835-4507-A1C2-FD1D8CB1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F0241-974F-4221-ADDB-32B9A51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2F7B-0B81-40B1-828A-A6C9AE7A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FA6F0-E0ED-402D-A233-200FCE4F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6703-6C55-4D1B-847E-42DEF8A5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DAF84-FC08-4F74-8A98-BEA16D92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6417C-62B1-46ED-B9D3-06721981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1907A-D3E7-45F2-AE71-85B23C9C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CC6E2-5443-4DAC-8232-5E274CCC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1E72A-91E5-414D-8B48-E42E7E2F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6AD-A907-47D3-A9AA-EC85FE7C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DD950-9707-4CFA-91ED-B9380054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4FFB9-5AAE-4D1D-BE34-05771964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72529-4790-4C5C-B255-C44C2407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20B3E-02F2-4F34-B142-4D17B061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08799-67FC-4E9C-8A0D-C588B992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35C85-3641-485F-BEA1-8D79B97C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EA258-1527-4430-AAA5-68DB02BF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1A63-2D3B-4D6D-AB5C-63EAAC68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712AA-BC62-4903-8D16-4DA99408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287C0-B83F-418E-81B4-74DCBE6C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3FEA-617D-41FD-AF54-99BBAC9E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7A5BE-7A50-4AC8-A4C3-1725614B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EBC91-6957-40E6-B2A8-4A371443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ADFA3-1943-403A-BFBA-CE6CB2C0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62286-2A11-4BA6-91C4-C90C4E4C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99554-505A-4338-86E9-682ABED5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4CF6D-91CD-41B9-8807-0895A4C9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8ADB4-7DDE-43BB-B585-46D947A7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3BFFF-E707-401A-954C-BFEF4B65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FB3E-EC93-49B3-8BB5-05C419D1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C905A-4C77-49BB-A5EE-C2E90715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5F3-2AFE-4BDB-AF11-526CA76C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47F9F-6F45-4779-988A-97719ECC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52A37-FA67-4A91-A6D6-8C9472DD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DB417-E018-47F4-BEA0-A60443B2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57351-6556-4C90-8BCC-98C39150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A7C17-0C49-4BDA-B27B-B77AC31D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E5549-3657-4D24-B285-FDCE06C5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FFED0-865A-471E-89E4-4C325EBC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D036C-BB19-47B0-8790-F290E824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2539E-C0CD-4094-8E2E-0902DDA9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56E1E-B663-40B3-83F4-70418575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AA3-8201-44CB-9411-418B5EC8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E0883-B8B8-4CA7-B7D3-1941344B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B8ECC-EC64-4034-8936-1B3EB41D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55FCE-AE41-47BE-A723-94043621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4B7-649F-44BD-849E-D5288BA3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F4D-3A77-4731-9A4F-BE223AF3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2399-2802-4E37-AB9E-DD4EAB40F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1828800" y="76320"/>
            <a:ext cx="6934320" cy="838080"/>
            <a:chOff x="1828800" y="76320"/>
            <a:chExt cx="6934320" cy="838080"/>
          </a:xfrm>
        </p:grpSpPr>
        <p:pic>
          <p:nvPicPr>
            <p:cNvPr id="42" name="Picture 6" descr=""/>
            <p:cNvPicPr/>
            <p:nvPr/>
          </p:nvPicPr>
          <p:blipFill>
            <a:blip r:embed="rId3"/>
            <a:stretch/>
          </p:blipFill>
          <p:spPr>
            <a:xfrm>
              <a:off x="1828800" y="76320"/>
              <a:ext cx="834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7" descr=""/>
            <p:cNvPicPr/>
            <p:nvPr/>
          </p:nvPicPr>
          <p:blipFill>
            <a:blip r:embed="rId4"/>
            <a:stretch/>
          </p:blipFill>
          <p:spPr>
            <a:xfrm>
              <a:off x="5542920" y="114120"/>
              <a:ext cx="892800" cy="6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8" descr=""/>
            <p:cNvPicPr/>
            <p:nvPr/>
          </p:nvPicPr>
          <p:blipFill>
            <a:blip r:embed="rId5"/>
            <a:stretch/>
          </p:blipFill>
          <p:spPr>
            <a:xfrm>
              <a:off x="4054320" y="135720"/>
              <a:ext cx="139320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"/>
            <p:cNvPicPr/>
            <p:nvPr/>
          </p:nvPicPr>
          <p:blipFill>
            <a:blip r:embed="rId6"/>
            <a:stretch/>
          </p:blipFill>
          <p:spPr>
            <a:xfrm>
              <a:off x="6669720" y="187200"/>
              <a:ext cx="2093400" cy="5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" descr=""/>
            <p:cNvPicPr/>
            <p:nvPr/>
          </p:nvPicPr>
          <p:blipFill>
            <a:blip r:embed="rId7"/>
            <a:stretch/>
          </p:blipFill>
          <p:spPr>
            <a:xfrm>
              <a:off x="3032280" y="91800"/>
              <a:ext cx="799560" cy="79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2" descr=""/>
          <p:cNvPicPr/>
          <p:nvPr/>
        </p:nvPicPr>
        <p:blipFill>
          <a:blip r:embed="rId8"/>
          <a:stretch/>
        </p:blipFill>
        <p:spPr>
          <a:xfrm>
            <a:off x="482760" y="152280"/>
            <a:ext cx="888840" cy="621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8" name="Rectangle 8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87480" y="6019920"/>
            <a:ext cx="6746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077320" y="6019920"/>
            <a:ext cx="103644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8A39-5295-4D05-92B6-465010CED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380880" y="228600"/>
            <a:ext cx="845820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F834-1A83-4B21-A829-49DD2EBAE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80880" y="228600"/>
            <a:ext cx="845820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D40E-89E5-44F7-BEF3-AA57E0BF8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380880" y="228600"/>
            <a:ext cx="845820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5960-A100-43B3-A258-5868A5A65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380880" y="228600"/>
            <a:ext cx="845820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7F73-C7B6-4C8B-BEB1-867B66A56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ách thức trong lồng ghép điều trị nghiện chất dạng thuốc phiện bằng Buprenorphine vào cơ sở điều trị HIV ngoại trú ở Hà Nộ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7192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Kinh nghiệm từ một nghiên cứu thử nghiệm lâm s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S. BS. Nguyễn Bích Diệ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GS.TS. Lê Minh Gi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ng tâm Chuyển giao công nghệ Điều trị nghiện chấ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òng chống HIV/AIDS (VHAT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ường Đại học Y Hà N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9200" y="533160"/>
            <a:ext cx="8247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ơ cấu nhóm cán bộ nghiên cứu tại cơ s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457200" y="2057400"/>
            <a:ext cx="83818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ám đốc/Điều phối nghiên cứ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ác s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t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 vấn viê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ược sỹ/cấp phát thuố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ỗ trợ kĩ thuật của cán bộ ĐH Y Hà Nộ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ực tiếp hỗ trợ khởi liều những bệnh nhân đầu tiên (3 - 5 bệnh nhân/cơ sở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ỗ trợ các trường hợp bệnh nhân kh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ỗ trợ qua điện tho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ảo luận ca bệnh định kỳ (1 </a:t>
            </a:r>
            <a:r>
              <a:rPr b="0" lang="mr-IN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 tháng/lầ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ổ chức họp tại cơ sở định kỳ (2 tuần/lầ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ào tạo cho cán bộ mới và đào tạo liên tục dựa trên nhu cầu thực tế khi triển kh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ào tạo củng cố kiến thức về thuốc và quy trình điều tr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ăng cường sự tham gia/hỗ trợ của người nhà trước và trong quá trình điều tr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ột số chiến lược tăng cường tuân thủ và hiệu quả điều tr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380880" y="23572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ÁCH THỨC TRONG TRIỂN KH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LỒNG GHÉP ĐIỀU TRỊ BUPRENORPHINE VÀ 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hách thức của điều trị Buprenorph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ốc mới -&gt; bệnh nhân chưa có nhiều thông tin và chưa tin tưởng vào hiệu qu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ởi liều khó khăn do cần có hội chứng cai và thuốc không được mang về nh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ốc ngậm dưới lưỡi -&gt; thời gian ngậm thuốc lâu, một số bệnh nhân không thích vị thuố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ệnh nhân bỏ điều trị do dùng heroin không thấy ph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ông có quy trình hỗ trợ hiệu quả đối với các bệnh đồng diễn, đặc biệt là vấn đề rối loạn tâm thầ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ông được điều trị lâu dài (tại thời điểm hiện tạ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ông có hệ thống chuyển gửi điều trị Buprenorphine (khi bệnh nhân cần đi x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ách thức khi lồng ghép với điều trị A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457200" y="1604880"/>
            <a:ext cx="838188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ừ phía cơ sở/cán bộ y t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án bộ kiêm nhiệm nhiều công việc, có thể không th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ờng xuyên có mặt và có nhiều thời gian hỗ trợ bệnh nh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Ít được đào tạo và ít kinh nghiệm điều trị nghiệ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òn nhiều định kiến với người nghiệ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ông có kho bảo quản thuốc buprenorphine đủ tiêu chuẩ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ông đủ nhân sự để giám sát quá trình ngậm thuố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ông có chương trình/hệ thống đào tạo bài bản do không được hỗ trợ của PAC/VA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ó khăn trong áp dụng các can thiệp hành 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ông có quy trình làm việc vào cuối tuần, ngày l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ách thức khi lồng ghép với điều trị A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457200" y="1752480"/>
            <a:ext cx="83818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ừ phía bệnh nhâ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âm lý e ngại khi điều trị tại OPC (môi trường ít bệnh nhân nghiệ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uy cơ lộ thông tin về tình trạng nghiện và/hoặc 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oảng cách tới phòng khám xa, khó khăn trong di chuyể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ay đổi mô hình quản lý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ơ sở điều trị ngoại trú 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38040" y="160812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ông văn số 9293/BYT-AIDS ngày 27/11/2015 của Bộ Y tế về kiện toàn cơ sở điều trị và thực hiện khám chữa bệnh bảo hiểm y tế cho người nhiễm HIV/AIDS: chuyển đổi quản lý cơ sở điều trị ngoại trú HIV sang các đơn vị khám chữa bệnh có chức năng chi trả bảo hiểm y t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ông văn số 87/AIDS-ĐTr, ngày 21/2/2017 của Cục phòng chống HIV/AIDS về Hoàn thành kiện toàn cơ sở điều trị và thực hiện khám bệnh, chữa bệnh HIV/AIDS qua bảo hiểm y tế đối với các thành phố trực thuộc Trung ươ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y đổi nhân sự: BS cần có chứng chỉ hành nghề, không có vị trí tư vấn viê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ăng khối lượng công việc của bác sỹ và cán bộ cấp phát thuố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ự chồng chéo trong việc quản lý chuyên môn và nhân sự nghiên cứu khi chuyển đổi hình thức quản lý cơ sở O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ự trao đổi thông tin, phối hợp điều trị giữa các cán b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ay đổi mô hình quản lý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ơ sở điều trị ngoại trú 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Content Placeholder 6" descr="dog-with-brown-paper-bag-thankyou.png"/>
          <p:cNvPicPr/>
          <p:nvPr/>
        </p:nvPicPr>
        <p:blipFill>
          <a:blip r:embed="rId1"/>
          <a:stretch/>
        </p:blipFill>
        <p:spPr>
          <a:xfrm>
            <a:off x="1676520" y="914400"/>
            <a:ext cx="5751360" cy="5156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"/>
          <p:cNvPicPr/>
          <p:nvPr/>
        </p:nvPicPr>
        <p:blipFill>
          <a:blip r:embed="rId2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623880"/>
            <a:ext cx="838188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ĐẶT VẤN Đ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120" y="170028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Nghiệ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chíc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 túy chất dạng thuốc phiện (NCMT) và nhiễm HI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 đường chính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lây nhiễm HIV tại Việt Nam</a:t>
            </a:r>
            <a:r>
              <a:rPr b="0" lang="vi-VN" sz="1600" spc="-1" strike="noStrike" baseline="30000">
                <a:solidFill>
                  <a:srgbClr val="000000"/>
                </a:solidFill>
                <a:latin typeface="Arial"/>
              </a:rPr>
              <a:t>1,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ảm khả năng tiếp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cận các dịch vụ HIV</a:t>
            </a:r>
            <a:r>
              <a:rPr b="0" lang="vi-VN" sz="1600" spc="-1" strike="noStrike" baseline="30000">
                <a:solidFill>
                  <a:srgbClr val="000000"/>
                </a:solidFill>
                <a:latin typeface="Arial"/>
              </a:rPr>
              <a:t>3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ác động xấu đến tham gia và duy trì điều trị HIV</a:t>
            </a:r>
            <a:r>
              <a:rPr b="0" lang="vi-VN" sz="16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ợi ích của lồng ghép điều trị nghiện chất dạng thuốc phiện cho bệnh nhân HIV/AID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ă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ức độ tham gia điều tr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ủa bệnh nhân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ảm sử dụng chất dạng thuốc phiện ở bệnh nhâ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ảm hành vi nguy cơ do TCM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giảm tỉ lệ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ây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nhiễm 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Điều trị thay thế bằng Methadone tại Việt Nam từ năm 2008 ngày càng mở rộng, như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ách thức trong tuân thủ điều trị (Yêu cầu uống thuốc hàng ngà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ố cơ sở điều trị hạn chế do đầu tư xây dựng cơ sở khá tốn ké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ỳ thị, đối tượng nghiện lớn tuổi, giá cả, cơ chế chi trả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-8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hu cầu đa dạng hóa các mô hình điều trị nghiện chất dạng thuốc phiệ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1600200" y="6119640"/>
            <a:ext cx="67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Nguyễn et al  ADDICTION 2008; 2.Strathdee et al  LANCET 2010; 3. Garder et al CLIN.INF.DIS 2011; 4. Lucas et al J.AIDS 2001; 5. Wood et al JAMA 2008; 6. Friedmann et al J.SAT 2001; 7. Deering et al ADDIC.BEH 2011; 8. Lin et al J.SUM 2011; 9. Bich Diep Nguyen et al Journal of Substance Abuse Treatment 2016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9840" y="456840"/>
            <a:ext cx="833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ỤC TIÊU NGHIÊN CỨ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599840"/>
            <a:ext cx="83818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ục tiêu chung: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So sán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ệu quả điều trị nghiện và hỗ trợ điều trị HIV của hai thuốc điều trị nghiện chất dạng thuốc phiện – điều trị Suboxone (BUP/NX) tại cơ sở điều trị HIV ngoại trú và điều trị bằng Methadone tại cơ sở điều trị Methadone – trên nhóm bệnh nhân HIV nghiện chất dạng thuốc phiện đang điều trị tại cơ sở điều trị HIV ngoại tr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ục tiêu cụ thể 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ánh giá hiệu quả của hai mô hình đối với mức độ tham gia, tuân thủ điều trị và tải lượng vi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ục tiêu cụ thể 2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ánh giá hiệu quả của hai mô hình đối với việc sử dụng chất dạng thuốc phiệ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ục tiêu cụ thể 3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ánh giá kinh nghiệm triển khai điều trị BUP/NX tại cơ sở điều trị HIV ngoại trú nhằm tạo cơ sở cho việc nhân rộng mô hình điều trị trên toàn quố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58360"/>
            <a:ext cx="82771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ƯƠNG PHÁP NGHIÊN CỨ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676520"/>
            <a:ext cx="85341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ết kế nghiên cứ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ghiên cứu thử nghiệm lâm sàng ngẫu nhiên có đối chứng, kết hợp định lượng &amp; định tín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Địa điểm nghiên cứ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4 cơ sở điều trị HIV ngoại trú tại Hà Nội (Hoàng Mai, Đống Đa, Nam Từ Liêm và Long Biê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ời gian nghiên cứ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3/2015 đến hết tháng 9/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i đoạn chuẩn bị: từ 3/2015 – 9/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i đoạn thu nhận: 9/2015 – 10/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i đoạn kết thúc theo dõi: 10/2017 – 10/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i đoạn phân tích và viết báo cáo: 2018 </a:t>
            </a:r>
            <a:r>
              <a:rPr b="0" lang="mr-IN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6858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ơ đồ nghiên cứ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533520" y="1905120"/>
            <a:ext cx="8076600" cy="3276000"/>
            <a:chOff x="533520" y="1905120"/>
            <a:chExt cx="8076600" cy="3276000"/>
          </a:xfrm>
        </p:grpSpPr>
        <p:sp>
          <p:nvSpPr>
            <p:cNvPr id="273" name="Rectangle 6"/>
            <p:cNvSpPr/>
            <p:nvPr/>
          </p:nvSpPr>
          <p:spPr>
            <a:xfrm>
              <a:off x="533520" y="2805120"/>
              <a:ext cx="1121040" cy="140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ập huấn cơ sở, cán bộ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5"/>
            <p:cNvSpPr/>
            <p:nvPr/>
          </p:nvSpPr>
          <p:spPr>
            <a:xfrm>
              <a:off x="6269760" y="1905120"/>
              <a:ext cx="2340360" cy="32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Kết quả chính (12 tháng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) Giảm tải lượng virut HIV (Mục tiêu 1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) Đối tượng được điều trị ARV (Mục tiêu 1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) Duy trì điều trị HIV (Mục tiêu 1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) Sử dụng heroin (Mục tiêu 2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) Đánh giá việc triển khai mô hình điều trị (Mục tiêu 3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8"/>
            <p:cNvSpPr/>
            <p:nvPr/>
          </p:nvSpPr>
          <p:spPr>
            <a:xfrm>
              <a:off x="5019840" y="1922760"/>
              <a:ext cx="905400" cy="11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UP/N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n=225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90"/>
            <p:cNvSpPr/>
            <p:nvPr/>
          </p:nvSpPr>
          <p:spPr>
            <a:xfrm>
              <a:off x="1974960" y="2765880"/>
              <a:ext cx="1155240" cy="149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àng lọc, tuyển chọn đối tượ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AutoShape 39"/>
            <p:cNvCxnSpPr/>
            <p:nvPr/>
          </p:nvCxnSpPr>
          <p:spPr>
            <a:xfrm>
              <a:off x="1667880" y="3528360"/>
              <a:ext cx="321120" cy="2160"/>
            </a:xfrm>
            <a:prstGeom prst="bentConnector3">
              <a:avLst>
                <a:gd name="adj1" fmla="val 49943"/>
              </a:avLst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8" name="Rectangle 11"/>
            <p:cNvSpPr/>
            <p:nvPr/>
          </p:nvSpPr>
          <p:spPr>
            <a:xfrm>
              <a:off x="5019840" y="3713400"/>
              <a:ext cx="905400" cy="146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huyển gửi điều trị MM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n=225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2"/>
            <p:cNvSpPr/>
            <p:nvPr/>
          </p:nvSpPr>
          <p:spPr>
            <a:xfrm>
              <a:off x="3385080" y="3144240"/>
              <a:ext cx="1261440" cy="79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hân bổ ngẫu nhiê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AutoShape 127"/>
            <p:cNvCxnSpPr/>
            <p:nvPr/>
          </p:nvCxnSpPr>
          <p:spPr>
            <a:xfrm>
              <a:off x="3130200" y="3557520"/>
              <a:ext cx="269640" cy="108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1" name="AutoShape 132"/>
            <p:cNvCxnSpPr/>
            <p:nvPr/>
          </p:nvCxnSpPr>
          <p:spPr>
            <a:xfrm>
              <a:off x="5925240" y="2464200"/>
              <a:ext cx="358560" cy="108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2" name="AutoShape 15"/>
            <p:cNvCxnSpPr/>
            <p:nvPr/>
          </p:nvCxnSpPr>
          <p:spPr>
            <a:xfrm flipV="1">
              <a:off x="4646520" y="2464560"/>
              <a:ext cx="374760" cy="109332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3" name="AutoShape 16"/>
            <p:cNvCxnSpPr/>
            <p:nvPr/>
          </p:nvCxnSpPr>
          <p:spPr>
            <a:xfrm>
              <a:off x="4646520" y="3557880"/>
              <a:ext cx="374760" cy="94392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4" name="AutoShape 17"/>
            <p:cNvCxnSpPr/>
            <p:nvPr/>
          </p:nvCxnSpPr>
          <p:spPr>
            <a:xfrm>
              <a:off x="5911200" y="4414320"/>
              <a:ext cx="358920" cy="108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</p:grpSp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3886200" y="6281640"/>
            <a:ext cx="11336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iêu chuẩn lựa chọ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419040" y="1676520"/>
            <a:ext cx="83059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ừ 18 tuổi trở lê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hiễm 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ối loạn sử dụng các chất dạng thuốc phiện mức độ trung bình đến nặng theo DSM-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ết quả xét nghiệm nước tiểu tìm chất dương tín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g muốn nhận điều trị nghiện chất dạng thuốc phiệ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ẵn sàng sử dụng các biện pháp tránh thai, nếu là nữ giớ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iêu chuẩn loại tr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4308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68000" indent="-46800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 men gan AST hoặc ALT&gt; giới hạn trên 5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Đang mang thai hoặc cho con b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 bệnh nặng hoặc các vấn đề liên quan đến thần kinh trong 30 ngày vừa qua có thể ảnh hưởng tới sự an toàn của việc tham gia nghiên cứ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Đang điều trị methadone trong vòng 30 trước thời điểm tham gia nghiên cứ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ền sử dị ứng hoặc mẫn cảm với buprenorphine hoặc nalox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457200" y="1981080"/>
          <a:ext cx="8229600" cy="3578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ơ s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số BN tham gia nghiên cứ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ố BN phân bổ vào điều trị B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ố BN đã kết thúc nghiên cứ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ố BN đang điều trị B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àng M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ống Đ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ừ Liê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Biê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s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ình hình tuyển chọn và duy trì bệnh nhân bệnh nhân</a:t>
            </a:r>
            <a:br>
              <a:rPr sz="26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Tính đến hết 7/2017)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1447920" y="236232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KINH NGHIỆM TRIỂN KH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MÔ HÌNH ĐIỀU TRỊ LỒNG GHÉ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g Nguyen</dc:creator>
  <dc:description/>
  <dc:language>en-US</dc:language>
  <cp:lastModifiedBy>DCOM</cp:lastModifiedBy>
  <dcterms:modified xsi:type="dcterms:W3CDTF">2017-08-02T02:56:45Z</dcterms:modified>
  <cp:revision>1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