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4AC-FDB8-4D81-9416-45F8BC42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8E0-8990-4C3A-9471-3238B434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FED-A366-4278-912A-131133F8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BD9-B835-403E-9B2A-7334500D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C316-881B-4728-BDDC-2C7CB877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6F0F-7088-462A-B46D-5101FA74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214F-5439-4EDE-817F-78B72690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C8AB-115D-4AC2-B09F-A6DF209E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519B-93A6-4F58-B487-0740F1BA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4B98-0F59-443D-86CB-5EE7B461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C5FD-41DA-4F7F-BF18-62650EF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08D-ED3B-4991-A6D6-ACDCB05A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E947-BE1E-457D-B175-5346348C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3A79-7FCE-4A37-92D0-01F54C9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4EEA-C8E4-4EE1-AC6C-3F387C89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289A-ED8C-4912-89BB-9DCFEF99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080F-F627-4F8B-80B3-6B1F84BF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7F2C6-64B4-4668-A501-551B4E05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4CB29-5A5C-4C84-BB7F-014C6AB9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BD5D-13DF-487F-94C4-051DBDEE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8E42-9DF5-470D-AE9E-6A49DF37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1491-7172-4809-8133-0C54878A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9F6-314F-4ADE-850F-27BDEB3F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0851-B387-40D5-84BB-4F73B835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75BA0-D7B7-4C97-AECB-370A5E44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45C2-DB59-450D-81D7-E135F215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CB77-6FE2-4287-9930-1424AE08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B29F-932B-48BD-98BF-F37EE259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49F0-1AAF-41BA-AB83-C4E1C570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93FD8-10FD-474D-AE89-E34884A3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7481F-B185-48A3-809B-F38A3B69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3386-21C3-4389-9857-6254BD92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BA1A9-412B-4C7F-9D9D-4DDEDE6C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35E-DC0C-40FF-B5DE-A17A4239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E0A5-5204-442E-B7BE-645A5BB5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B3535-B7E5-4DEB-97EA-C4CEEC11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51A3D-DBA4-4CEE-8D07-7036C700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30AB-19CA-4035-9BB2-13A9591A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1B9E-F757-42D3-AB54-F896A474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8B2B0-D7D6-48A2-9F1A-9C321CE7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CF68-4DDB-4543-AA56-A1EAEF04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D33E5-79C5-4C6D-A083-94EC8661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681A5-93F4-4B66-A32F-6F7F202A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8238D-645A-4B73-B776-7D564755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B94-03CE-4C19-8388-A5992BFB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08875-2513-47BE-A414-83DCB64B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BA17E-A45E-4B4C-A2A7-EBF19C4A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0B7C8-F71A-463F-94F8-CCA389EB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C1F0D-3A6B-4A71-BCF2-CF28E593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1199B-61E8-4AAB-AF68-0FC7BA24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7815A-C43F-49CE-BB66-A53A5303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4CC50-58D6-4000-AE2A-60C74215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B1B9E-12E7-4B7D-9EE8-6D6BDC0D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C2C9C-CD70-47B7-9629-F251C201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57C11-496E-4EA0-9935-B2C5C72B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8DB-3E4E-42B6-9DBB-3DE3CDF1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F0FA-E09E-42FF-8D7E-17FF3D3E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133A7-3732-4D63-8090-CF994782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604D7-0361-4523-83F6-C5D48FBC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C17C6-3EFB-454C-A112-5B3DBD61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91E2-A4C2-4BDE-BD8E-94D154F6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132BF-7974-483B-AA95-25D84E7E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B2238-F336-4034-ACB9-C47560D8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F4F64-E60A-422F-956D-B0BBE446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1396A-1C24-4315-870A-11D141FD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3E600-4AF4-4358-BA44-461897F0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76C-DE3E-4435-80E7-ACE77EFC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A29A5-0989-4F60-9693-CC0B0A31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45FBF-81D6-4221-83F1-2E3A66FE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1995-0312-41A7-897C-3B6FC8AE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1EF-BF48-4179-BCF5-C47CB3AB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835-11B2-476D-A899-EA8D048F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E6E6-BC82-4255-B6C0-42064D790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1828800" y="76320"/>
            <a:ext cx="6934320" cy="838080"/>
            <a:chOff x="1828800" y="76320"/>
            <a:chExt cx="6934320" cy="838080"/>
          </a:xfrm>
        </p:grpSpPr>
        <p:pic>
          <p:nvPicPr>
            <p:cNvPr id="42" name="Picture 6" descr=""/>
            <p:cNvPicPr/>
            <p:nvPr/>
          </p:nvPicPr>
          <p:blipFill>
            <a:blip r:embed="rId3"/>
            <a:stretch/>
          </p:blipFill>
          <p:spPr>
            <a:xfrm>
              <a:off x="1828800" y="76320"/>
              <a:ext cx="834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7" descr=""/>
            <p:cNvPicPr/>
            <p:nvPr/>
          </p:nvPicPr>
          <p:blipFill>
            <a:blip r:embed="rId4"/>
            <a:stretch/>
          </p:blipFill>
          <p:spPr>
            <a:xfrm>
              <a:off x="5542920" y="114120"/>
              <a:ext cx="89280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8" descr=""/>
            <p:cNvPicPr/>
            <p:nvPr/>
          </p:nvPicPr>
          <p:blipFill>
            <a:blip r:embed="rId5"/>
            <a:stretch/>
          </p:blipFill>
          <p:spPr>
            <a:xfrm>
              <a:off x="4054320" y="135720"/>
              <a:ext cx="139320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"/>
            <p:cNvPicPr/>
            <p:nvPr/>
          </p:nvPicPr>
          <p:blipFill>
            <a:blip r:embed="rId6"/>
            <a:stretch/>
          </p:blipFill>
          <p:spPr>
            <a:xfrm>
              <a:off x="6669720" y="187200"/>
              <a:ext cx="209340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7"/>
            <a:stretch/>
          </p:blipFill>
          <p:spPr>
            <a:xfrm>
              <a:off x="3032280" y="91800"/>
              <a:ext cx="79956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2" descr=""/>
          <p:cNvPicPr/>
          <p:nvPr/>
        </p:nvPicPr>
        <p:blipFill>
          <a:blip r:embed="rId8"/>
          <a:stretch/>
        </p:blipFill>
        <p:spPr>
          <a:xfrm>
            <a:off x="482760" y="152280"/>
            <a:ext cx="888840" cy="621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8" name="Rectangle 8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87480" y="6019920"/>
            <a:ext cx="6746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077320" y="6019920"/>
            <a:ext cx="103644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196E-9089-4BB0-AA17-7C2A4F8B5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F1AC-64F7-476A-8F5A-0E88FB72A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27E8-D272-44EA-A363-A9461579D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3D02-A498-41C4-9665-0D5073743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BF52-D83E-4431-85BA-26471C02C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allenges in integrating Buprenorphine addiction treatment in HIV out-patient clinics in Han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7192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Lessons learnt from a clinical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uyen Bich Diep, MD,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Prof. Le Minh G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nam HIV Addiction Technology Transfer Center (VHAT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oi Medical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9200" y="533160"/>
            <a:ext cx="8247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ff allocation at research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457200" y="2057400"/>
            <a:ext cx="83818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/ Study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macists/ dispen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Assistances from H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upport for new inductions (3 to 5 patients/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upport  for complicated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consultations via 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case consultation sessions (every 1-2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staffs meeting at sites (every 2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for new staffs and provide continuous trainings based on the need of the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esh training on medication and treatment proced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involvement/ support of family members before and during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s to improve treatment adherence and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80880" y="23572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HALLENGES IN INTEGRATION BUPRENORPHINE TREATMENT INTO HIV TREATMENT AND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llenges in Buprenorphine treat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880" y="1599840"/>
            <a:ext cx="83822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edication -&gt; patients do not have sufficient information and trust in treatment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ies in medication induction due to required withdrawal syndrome and take home dosing are not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cation is administrated and dissolved under the tongu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 longer time to dissolve, some patients do not like the taste of the m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likely to dropout because of not feeling high on her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efficient intervention procedures for co-morbidities, especially mental health dis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have long-term treatment option (in pres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referral system for Buprenorphine treatment (when patients need to travel outside their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4157640" y="633096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allenges in integrating with ARV trea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457200" y="1604880"/>
            <a:ext cx="838188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 the perspective of medical sta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 responsibilities, cannot provide fulltime attendance and lack of time resource to support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training and lack of experience in addiction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gments on drug u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qualified buprenorphine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fficient personnel to monitor the medication administration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ystematic training program/ training schedule supported by PAC/VA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ies in implementing behavioral interven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of after- hour (weekend, public holiday) working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allenges in integrating with ARV trea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752480"/>
            <a:ext cx="838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m patient persp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hesitate to OPC settings (less drug us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s of drug use and/or HIV status disclo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distance to clinics, difficulties in trav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HIV out-patient clinic administrativ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38040" y="160812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 Dispatch No.9293/BYT-AIDS dated 27/11/2015 by Ministry of Health in HIV/AIDS treatment and care clinic set up and health insurance coverage for HIV/AIDS patients:  moving HIV treatment and care clinics toward health insurance cove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 Dispatch No. 87/AIDS-DTr dated 21/2/2017 by Vietnam AIDS Administration and Control on setting up treatment clinics with capacity of HIV/AIDS treatment and care covered by health insurance in central cities and provi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allocation: Doctors with license, no vacancy for counsel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workload for doctors and dosing sta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s in clinical monitoring and research administration during changing OPC administrative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exchange, clinical staff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HIV out-patient clinic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ministrativ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Content Placeholder 6" descr="dog-with-brown-paper-bag-thankyou.png"/>
          <p:cNvPicPr/>
          <p:nvPr/>
        </p:nvPicPr>
        <p:blipFill>
          <a:blip r:embed="rId1"/>
          <a:stretch/>
        </p:blipFill>
        <p:spPr>
          <a:xfrm>
            <a:off x="1676520" y="914400"/>
            <a:ext cx="5751360" cy="5156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"/>
          <p:cNvPicPr/>
          <p:nvPr/>
        </p:nvPicPr>
        <p:blipFill>
          <a:blip r:embed="rId2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23880"/>
            <a:ext cx="830592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700" spc="-1" strike="noStrike">
                <a:solidFill>
                  <a:srgbClr val="000000"/>
                </a:solidFill>
                <a:latin typeface="Arial"/>
              </a:rPr>
              <a:t>Injecting opioids and HIV infe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in HIV transmission route in Vietnam</a:t>
            </a:r>
            <a:r>
              <a:rPr b="0" lang="vi-VN" sz="1700" spc="-1" strike="noStrike" baseline="30000">
                <a:solidFill>
                  <a:srgbClr val="000000"/>
                </a:solidFill>
                <a:latin typeface="Arial"/>
              </a:rPr>
              <a:t>1,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duce the ability to access HIV servces</a:t>
            </a:r>
            <a:r>
              <a:rPr b="0" lang="vi-VN" sz="1700" spc="-1" strike="noStrike" baseline="30000">
                <a:solidFill>
                  <a:srgbClr val="000000"/>
                </a:solidFill>
                <a:latin typeface="Arial"/>
              </a:rPr>
              <a:t>3-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gative impact on enrollment in and adherence to HIV treatment</a:t>
            </a:r>
            <a:r>
              <a:rPr b="0" lang="vi-VN" sz="17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nefits of integrating opiate addiction treatment for HIV/AIDS patients 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rease enrollment in treatment of AIDS patie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duce opioid use in patie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duce risk behaviors related to injection drugs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duce HIV transmi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thadone maintenance treatment have been implemented and scaled up in Vietnam since 2008, howeve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llenges in treatment adherence (daily dosing, no take home dos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mited numbers of MMT clinics due to expensive facility constr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igma, older patients, treatment fee, payment mechanism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6-8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mand for diversification of opiate addiction treatment mode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1371600" y="6303960"/>
            <a:ext cx="67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Nguyễn et al  ADDICTION 2008; 2.Strathdee et al  LANCET 2010; 3. Garder et al CLIN.INF.DIS 2011; 4. Lucas et al J.AIDS 2001; 5. Wood et al JAMA 2008; 6. Friedmann et al J.SAT 2001; 7. Deering et al ADDIC.BEH 2011; 8. Lin et al J.SUM 2011; 9. Bich Diep Nguyen et al Journal of Substance Abuse Treatment 201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9840" y="456840"/>
            <a:ext cx="833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599840"/>
            <a:ext cx="84582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all objective: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To compare the effectiveness of two medication assisted opioid addiction treatment models </a:t>
            </a:r>
            <a:r>
              <a:rPr b="0" lang="mr-IN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HIV clinic-based BUP/NX and MMT referral </a:t>
            </a:r>
            <a:r>
              <a:rPr b="0" lang="mr-IN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on addiction and HIV treatment outcomes in HIV infected patients with opioid depend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ific objectiv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ssess effect of the two models on HIV  treatment engagement, adherence and viral load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ific objective 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sess effect of the two models on opioid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ific objective 3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ssess BUP/NX implementation experience to inform national scale-up of clinic based BUP/N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58360"/>
            <a:ext cx="82771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2880" y="1676520"/>
            <a:ext cx="8645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y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ed controlled trial, mixed-method (quantitative and qual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 HIV out-patient clinics in Hanoi (Hoang Mai, Dong Da, Nam Tu Liem and Long B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015 – 9/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process: 3/2015 – 9/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process: 9/2015 – 10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process: 10/2017 – 10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alysis and report writing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2018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udy Sch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33520" y="1676520"/>
            <a:ext cx="8381880" cy="4341240"/>
            <a:chOff x="533520" y="1676520"/>
            <a:chExt cx="8381880" cy="4341240"/>
          </a:xfrm>
        </p:grpSpPr>
        <p:sp>
          <p:nvSpPr>
            <p:cNvPr id="273" name="Rectangle 6"/>
            <p:cNvSpPr/>
            <p:nvPr/>
          </p:nvSpPr>
          <p:spPr>
            <a:xfrm>
              <a:off x="533520" y="2804760"/>
              <a:ext cx="1110960" cy="140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vider and staff 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5"/>
            <p:cNvSpPr/>
            <p:nvPr/>
          </p:nvSpPr>
          <p:spPr>
            <a:xfrm>
              <a:off x="6218640" y="1676520"/>
              <a:ext cx="2696760" cy="434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Calibri"/>
                </a:rPr>
                <a:t>Primary Outcome(12 month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IV Viral Suppression (Specific objecitve 1)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ARV receipt (Specific objecitve 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etention in HIV care (Specific objecitve 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eroin Use (Specific objecitve 2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Evaluation of treatment model’s implementation</a:t>
              </a:r>
              <a:r>
                <a:rPr b="0" lang="en-A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(Specific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objecitve</a:t>
              </a:r>
              <a:r>
                <a:rPr b="0" lang="en-A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4979520" y="1922400"/>
              <a:ext cx="897120" cy="11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UP/N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n=225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90"/>
            <p:cNvSpPr/>
            <p:nvPr/>
          </p:nvSpPr>
          <p:spPr>
            <a:xfrm>
              <a:off x="1892160" y="2818440"/>
              <a:ext cx="1220760" cy="149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Subject screening, recrui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AutoShape 39"/>
            <p:cNvCxnSpPr/>
            <p:nvPr/>
          </p:nvCxnSpPr>
          <p:spPr>
            <a:xfrm>
              <a:off x="1657800" y="3528000"/>
              <a:ext cx="317880" cy="216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8" name="Rectangle 11"/>
            <p:cNvSpPr/>
            <p:nvPr/>
          </p:nvSpPr>
          <p:spPr>
            <a:xfrm>
              <a:off x="4951440" y="3713040"/>
              <a:ext cx="925560" cy="146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eferral for M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n=22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3359880" y="3143880"/>
              <a:ext cx="1249920" cy="79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andomiz-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AutoShape 127"/>
            <p:cNvCxnSpPr/>
            <p:nvPr/>
          </p:nvCxnSpPr>
          <p:spPr>
            <a:xfrm>
              <a:off x="3107160" y="3557160"/>
              <a:ext cx="26712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132"/>
            <p:cNvCxnSpPr/>
            <p:nvPr/>
          </p:nvCxnSpPr>
          <p:spPr>
            <a:xfrm>
              <a:off x="5876640" y="2463840"/>
              <a:ext cx="35532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2" name="AutoShape 15"/>
            <p:cNvCxnSpPr/>
            <p:nvPr/>
          </p:nvCxnSpPr>
          <p:spPr>
            <a:xfrm flipV="1">
              <a:off x="4609440" y="2464200"/>
              <a:ext cx="371160" cy="109332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3" name="AutoShape 16"/>
            <p:cNvCxnSpPr/>
            <p:nvPr/>
          </p:nvCxnSpPr>
          <p:spPr>
            <a:xfrm>
              <a:off x="4609440" y="3557520"/>
              <a:ext cx="371160" cy="94392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4" name="AutoShape 17"/>
            <p:cNvCxnSpPr/>
            <p:nvPr/>
          </p:nvCxnSpPr>
          <p:spPr>
            <a:xfrm>
              <a:off x="5862600" y="4413960"/>
              <a:ext cx="35604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</p:grp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3886200" y="6281640"/>
            <a:ext cx="1133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419040" y="1681200"/>
            <a:ext cx="830592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at least 18 years ol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 posit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moderate or severe DSM-5 opioid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 urine test for drug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ed in receiving treatment for opioid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 to practice effective method of birth control, if fem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clus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4308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 or ALT &gt; 5x upper limit of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pregnant or breastf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medical or psychiatric illness in past 30 day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might influence  participant safety in the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methadone maintenance treatment within 3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hypersensitivity to buprenorphine or nalox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457200" y="1981080"/>
          <a:ext cx="8229600" cy="3861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46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 number of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 number of patients randomized in BUP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umber of patients dischar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umber of patients currently under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ang M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ng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9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u L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ng B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ient recruitment and maintain in treatment</a:t>
            </a:r>
            <a:br>
              <a:rPr sz="26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As of end of July, 2017)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152280" y="23623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LESSONS LEARNT FROM IMPLEMENTING AN INTEGRATION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g Nguyen</dc:creator>
  <dc:description/>
  <dc:language>en-US</dc:language>
  <cp:lastModifiedBy>DCOM</cp:lastModifiedBy>
  <dcterms:modified xsi:type="dcterms:W3CDTF">2017-08-02T02:56:11Z</dcterms:modified>
  <cp:revision>1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