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396684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-36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396684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FFEE-DFD0-4D10-8021-A24619C48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AB3D-06B5-4B94-BC0E-441F292513F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at does it take to get people headed in a different dire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C455-A6E9-41F0-819A-41C5CA850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work for Analyzing the Adoption of InnovationsExamples of attributes that influence the adoption of innovations include (1) environment (policies, market structure, incentives, network structure); (2) organization (structure, resources, capabilities, professional network structure); (3) innovation (quality of evidence, financial attributes, modes of delivery); and (4) implementation (incentives, management processes, use of peer norm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8AEE-767D-40CB-AD4A-0DF4CC6F64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Laur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BD36-5957-479F-B5CD-1D23A8C55F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to pract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A841-813A-4C9D-8FCA-F887B52567D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94C9-E7B7-4488-AF47-85EF41725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C908-E03D-4BE6-9081-B7924823E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we have an implementation gap, where we have effective interventions, but if attention isn’t paid to how they’re implemented, then those interventions do not result in positive outcomes for pat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1550-93D7-497A-B10A-B25EB2206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EAC-EE8F-4965-BFBA-90BD2679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F86-E508-4887-A447-6522DA64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51D-1E5C-471A-BE70-31E30296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4E9-4741-49C6-A5A5-6302630D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3CAD-39A3-49B2-AFB9-8012C3B4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53FD-662F-4202-AF06-ED165992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3123-8A36-4B8B-9F61-D179902F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1159-9580-4E72-BF22-26BFD18B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F20A-C0C2-4BC7-B889-3719BD97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4810-C3DF-463F-AF16-C6860207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E870-4641-457E-A74C-A1B137D6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00D-7456-4585-A3E2-1A456F5B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71BC-E8DC-4509-93EB-C945236E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0957-DCD5-4ED2-A55F-984EFB12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CD4C-44C8-4EC4-BDC4-DD3F6BC2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99A2-C391-49B0-B27D-F61C4373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98F7-9605-48FC-889B-F63D736A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6FBB-9840-4DBA-900F-BF3FC5C6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0BC95-2751-4B17-8966-F95914B7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9BBF3-D5FF-42A2-8A3E-47ED9468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F2B59-B4AD-46A7-8739-0AD8D34F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49CF0-2F92-4CEA-980F-473576AD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0F5-884E-4E74-9746-09231F38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9ED5E-C556-479F-A219-79B195C6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58892-1B27-4476-BBC1-330393DE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BDE74-55DF-4821-9C85-05A491D6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A22E7-BE40-4F97-A540-D0BD88D8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96E18-3BD7-45E5-8711-0CF10409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E3566-9494-42FD-BDE4-308A8D1C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85A42-7AE8-4680-BDE0-A307D0AB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B6CD9-2835-4E49-B719-ADE2DCF6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8E499-A12E-47DA-84AA-4E668F52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E498C-7923-4908-A89B-DB736BEC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4A5-F736-4A5D-82EC-3B13CDBD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BE263-1206-4493-B421-07633521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87814-C238-4281-8723-FE229B08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00D1F-74F6-46F6-9AD2-FEDCB0BB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0B675-102E-471E-985D-70BE1688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3822C-6F07-44A1-AA36-0C766348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32F8F-DD59-403F-97FC-7E6B85F8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1373-FB71-4274-BBC9-929DB918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CE07D-2BE3-4216-9B45-091884FA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76B94-4675-456A-B1DC-69296EA1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1A7-C8F0-48AE-BB9C-B26227F1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ADC-4697-4751-AE1C-B15AAF18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1C0-5FCF-4DDA-84B1-F8283368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0A3-812A-43FD-951E-8EF68A28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129-E85C-4986-9959-584A6350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CEB8-BBFD-4768-A2DF-EC81FA0D8E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75BB-5BF9-4937-98D2-0725D9A828A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NudeNO.1color gray.jpg"/>
          <p:cNvPicPr/>
          <p:nvPr/>
        </p:nvPicPr>
        <p:blipFill>
          <a:blip r:embed="rId2"/>
          <a:stretch/>
        </p:blipFill>
        <p:spPr>
          <a:xfrm>
            <a:off x="536400" y="1450800"/>
            <a:ext cx="8607600" cy="540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SAMHSAlogo_grey.jpg"/>
          <p:cNvPicPr/>
          <p:nvPr/>
        </p:nvPicPr>
        <p:blipFill>
          <a:blip r:embed="rId3"/>
          <a:stretch/>
        </p:blipFill>
        <p:spPr>
          <a:xfrm>
            <a:off x="6858000" y="6084720"/>
            <a:ext cx="2092320" cy="64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ORZ.2color PMS.jpg"/>
          <p:cNvPicPr/>
          <p:nvPr/>
        </p:nvPicPr>
        <p:blipFill>
          <a:blip r:embed="rId4"/>
          <a:stretch/>
        </p:blipFill>
        <p:spPr>
          <a:xfrm>
            <a:off x="762120" y="457200"/>
            <a:ext cx="6476760" cy="1011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attc-colorbar.jpg"/>
          <p:cNvPicPr/>
          <p:nvPr/>
        </p:nvPicPr>
        <p:blipFill>
          <a:blip r:embed="rId5">
            <a:lum bright="2000"/>
          </a:blip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7457-C6CC-4249-8C61-10B06684CD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0" y="6324480"/>
            <a:ext cx="9144000" cy="609840"/>
          </a:xfrm>
          <a:prstGeom prst="rect">
            <a:avLst/>
          </a:prstGeom>
          <a:solidFill>
            <a:srgbClr val="0030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8" descr="HORZ.1color blue.jpg"/>
          <p:cNvPicPr/>
          <p:nvPr/>
        </p:nvPicPr>
        <p:blipFill>
          <a:blip r:embed="rId2"/>
          <a:stretch/>
        </p:blipFill>
        <p:spPr>
          <a:xfrm>
            <a:off x="152280" y="76320"/>
            <a:ext cx="4384800" cy="685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SAMHSA_logo_white-transparentbg.gif"/>
          <p:cNvPicPr/>
          <p:nvPr/>
        </p:nvPicPr>
        <p:blipFill>
          <a:blip r:embed="rId3"/>
          <a:stretch/>
        </p:blipFill>
        <p:spPr>
          <a:xfrm>
            <a:off x="7315200" y="6324480"/>
            <a:ext cx="1752480" cy="54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attc-colorbar.jpg"/>
          <p:cNvPicPr/>
          <p:nvPr/>
        </p:nvPicPr>
        <p:blipFill>
          <a:blip r:embed="rId4"/>
          <a:stretch/>
        </p:blipFill>
        <p:spPr>
          <a:xfrm>
            <a:off x="0" y="838080"/>
            <a:ext cx="9144000" cy="76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9432-DC3C-42BB-A24D-89104F65A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kromL@umkc.edu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058"/>
                </a:solidFill>
                <a:latin typeface="Calibri"/>
                <a:ea typeface="Arial"/>
              </a:rPr>
              <a:t>Addiction Technology Transfer Center (ATTC)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2590920" y="5105520"/>
            <a:ext cx="45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58"/>
                </a:solidFill>
                <a:latin typeface="Calibri"/>
                <a:ea typeface="Arial"/>
              </a:rPr>
              <a:t>Laurie Krom, 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58"/>
                </a:solidFill>
                <a:latin typeface="Calibri"/>
                <a:ea typeface="Arial"/>
              </a:rPr>
              <a:t>Director, ATTC Network Off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5181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So what does it tak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"/>
          <p:cNvSpPr/>
          <p:nvPr/>
        </p:nvSpPr>
        <p:spPr>
          <a:xfrm>
            <a:off x="0" y="687240"/>
            <a:ext cx="9144000" cy="53208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Placeholder 2"/>
          <p:cNvSpPr/>
          <p:nvPr/>
        </p:nvSpPr>
        <p:spPr>
          <a:xfrm>
            <a:off x="0" y="69228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From: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Implementation ScienceA Potential Catalyst for Delivery System Refor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Placeholder 2"/>
          <p:cNvSpPr/>
          <p:nvPr/>
        </p:nvSpPr>
        <p:spPr>
          <a:xfrm>
            <a:off x="0" y="1011240"/>
            <a:ext cx="9144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0" bIns="63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MA. 2016;315(4):339-340. doi:10.1001/jama.2015.179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traight Connector 5"/>
          <p:cNvSpPr/>
          <p:nvPr/>
        </p:nvSpPr>
        <p:spPr>
          <a:xfrm>
            <a:off x="0" y="666720"/>
            <a:ext cx="9144000" cy="0"/>
          </a:xfrm>
          <a:prstGeom prst="line">
            <a:avLst/>
          </a:prstGeom>
          <a:ln w="38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18" descr=""/>
          <p:cNvPicPr/>
          <p:nvPr/>
        </p:nvPicPr>
        <p:blipFill>
          <a:blip r:embed="rId1"/>
          <a:stretch/>
        </p:blipFill>
        <p:spPr>
          <a:xfrm>
            <a:off x="254160" y="127080"/>
            <a:ext cx="2641320" cy="419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Cover"/>
          <p:cNvPicPr/>
          <p:nvPr/>
        </p:nvPicPr>
        <p:blipFill>
          <a:blip r:embed="rId2"/>
          <a:stretch/>
        </p:blipFill>
        <p:spPr>
          <a:xfrm>
            <a:off x="838080" y="1273320"/>
            <a:ext cx="7086600" cy="5457600"/>
          </a:xfrm>
          <a:prstGeom prst="rect">
            <a:avLst/>
          </a:prstGeom>
          <a:ln w="0">
            <a:noFill/>
          </a:ln>
        </p:spPr>
      </p:pic>
      <p:sp>
        <p:nvSpPr>
          <p:cNvPr id="229" name="Footer Placeholder 4"/>
          <p:cNvSpPr/>
          <p:nvPr/>
        </p:nvSpPr>
        <p:spPr>
          <a:xfrm>
            <a:off x="6291360" y="6500880"/>
            <a:ext cx="3200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99999"/>
                </a:solidFill>
                <a:latin typeface="Arial"/>
                <a:ea typeface="MS PGothic"/>
              </a:rPr>
              <a:t>Copyright © 2017 American Medical Association. All rights reserv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Date Placeholder 3"/>
          <p:cNvSpPr/>
          <p:nvPr/>
        </p:nvSpPr>
        <p:spPr>
          <a:xfrm>
            <a:off x="0" y="6648480"/>
            <a:ext cx="25401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63360" anchor="ctr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99999"/>
                </a:solidFill>
                <a:latin typeface="Arial"/>
                <a:ea typeface="MS PGothic"/>
              </a:rPr>
              <a:t>Date of download:  1/8/201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Image result for i-parihs framework"/>
          <p:cNvPicPr/>
          <p:nvPr/>
        </p:nvPicPr>
        <p:blipFill>
          <a:blip r:embed="rId1"/>
          <a:stretch/>
        </p:blipFill>
        <p:spPr>
          <a:xfrm>
            <a:off x="2286000" y="1881360"/>
            <a:ext cx="4572000" cy="43131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58"/>
                </a:solidFill>
                <a:latin typeface="Calibri"/>
              </a:rPr>
              <a:t>Promoting Action on Research Implementation in Health Services </a:t>
            </a:r>
            <a:r>
              <a:rPr b="0" lang="en-US" sz="2800" spc="-1" strike="noStrike">
                <a:solidFill>
                  <a:srgbClr val="003058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3058"/>
                </a:solidFill>
                <a:latin typeface="Calibri"/>
              </a:rPr>
              <a:t>i-PARIHS) Framewor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058"/>
                </a:solidFill>
                <a:latin typeface="Calibri"/>
              </a:rPr>
              <a:t>Fu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18320" cy="3962520"/>
          </a:xfrm>
          <a:prstGeom prst="rect">
            <a:avLst/>
          </a:prstGeom>
          <a:ln w="0">
            <a:noFill/>
          </a:ln>
        </p:spPr>
      </p:pic>
      <p:sp>
        <p:nvSpPr>
          <p:cNvPr id="235" name="Text Placeholder 2"/>
          <p:cNvSpPr/>
          <p:nvPr/>
        </p:nvSpPr>
        <p:spPr>
          <a:xfrm>
            <a:off x="0" y="5353200"/>
            <a:ext cx="9144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From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Convergence of Implementation Science, Precision Medicine, and the Learning Health Care System A New Model for Biomedical Research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JAMA. 2016;315(18):1941-1942. doi:10.1001/jama.2016.386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058"/>
                </a:solidFill>
                <a:latin typeface="Calibri"/>
              </a:rPr>
              <a:t>ATTCnetwork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6765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ree, downloadable resourc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urricul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actshe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l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Recorded 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ore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058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urie Krom, 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MKC School of Nursing &amp; Health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kromL@umkc.e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(816) 235.69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A4BE-AE65-46CC-B38B-3E529FE33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04920" y="1143000"/>
            <a:ext cx="86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4400"/>
                </a:solidFill>
                <a:latin typeface="Calibri"/>
                <a:ea typeface="Arial"/>
              </a:rPr>
              <a:t>Established in 1993 by SAMHSA, the </a:t>
            </a:r>
            <a:r>
              <a:rPr b="1" i="1" lang="en-US" sz="2800" spc="-1" strike="noStrike">
                <a:solidFill>
                  <a:srgbClr val="804400"/>
                </a:solidFill>
                <a:latin typeface="Calibri"/>
                <a:ea typeface="Arial"/>
              </a:rPr>
              <a:t>current</a:t>
            </a:r>
            <a:r>
              <a:rPr b="1" lang="en-US" sz="2800" spc="-1" strike="noStrike">
                <a:solidFill>
                  <a:srgbClr val="804400"/>
                </a:solidFill>
                <a:latin typeface="Calibri"/>
                <a:ea typeface="Arial"/>
              </a:rPr>
              <a:t> ATTC Network is comprised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1 Network Coordinating Off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10 Domestic Regional Ce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4 National Focus Area Cen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2 National Centers of Excell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3 International Centers (PEPFAR fund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46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2 in Vietnam</a:t>
            </a: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46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1 in Thai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530F-EDC6-486C-BAB1-C62DB8EDC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04920" y="1143000"/>
            <a:ext cx="86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4400"/>
                </a:solidFill>
                <a:latin typeface="Calibri"/>
                <a:ea typeface="Arial"/>
              </a:rPr>
              <a:t>Beginning in October 2017, the ATTC Network will be comprised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1 Network Coordinating Off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10 Domestic Regional Ce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5 International Centers (PEPFAR fund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46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2 in Vietnam</a:t>
            </a: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46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1 in Thai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46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1 in Ukra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46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1 in South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67f"/>
                </a:solidFill>
                <a:latin typeface="Calibri"/>
              </a:rPr>
              <a:t>ATTC Mi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6330600" y="38862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Southern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Coas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457200" y="1143000"/>
            <a:ext cx="822960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The ATTC Network's mission is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044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7f"/>
                </a:solidFill>
                <a:latin typeface="Calibri"/>
                <a:ea typeface="Arial"/>
              </a:rPr>
              <a:t>Accelerate the adoption and implementation of evidence‐based and promising addiction treatment and recovery-oriented practices and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044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044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7f"/>
                </a:solidFill>
                <a:latin typeface="Calibri"/>
                <a:ea typeface="Arial"/>
              </a:rPr>
              <a:t>Heighten the awareness, knowledge, and skills of the workforce that addresses the needs of people with substance use and/or other behavioral health disorder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044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044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7f"/>
                </a:solidFill>
                <a:latin typeface="Calibri"/>
                <a:ea typeface="Arial"/>
              </a:rPr>
              <a:t>Foster regional and national alliances among culturally diverse practitioners, researchers, policy makers, funders, and the recovery commun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0922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67f"/>
                </a:solidFill>
                <a:latin typeface="Calibri"/>
                <a:ea typeface="Arial"/>
              </a:rPr>
              <a:t>How does the Network Accomplish the Miss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84240" y="1919160"/>
            <a:ext cx="905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ATTC Network uses a comprehensive array of </a:t>
            </a:r>
            <a:r>
              <a:rPr b="1" lang="en-US" sz="2800" spc="-1" strike="noStrike">
                <a:solidFill>
                  <a:srgbClr val="00467f"/>
                </a:solidFill>
                <a:latin typeface="Calibri"/>
                <a:ea typeface="Arial"/>
              </a:rPr>
              <a:t>technology transfer</a:t>
            </a:r>
            <a:r>
              <a:rPr b="1" lang="en-US" sz="2800" spc="-1" strike="noStrike">
                <a:solidFill>
                  <a:srgbClr val="fbb24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ategies to accelerate the diffusion of innov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6" descr="finaltechtransfergraphic.png"/>
          <p:cNvPicPr/>
          <p:nvPr/>
        </p:nvPicPr>
        <p:blipFill>
          <a:blip r:embed="rId1"/>
          <a:srcRect l="0" t="18250" r="0" b="8759"/>
          <a:stretch/>
        </p:blipFill>
        <p:spPr>
          <a:xfrm>
            <a:off x="-228600" y="3009960"/>
            <a:ext cx="9974160" cy="312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6" name="Title 1"/>
          <p:cNvSpPr/>
          <p:nvPr/>
        </p:nvSpPr>
        <p:spPr>
          <a:xfrm>
            <a:off x="4572000" y="0"/>
            <a:ext cx="4572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67f"/>
                </a:solidFill>
                <a:latin typeface="Calibri"/>
              </a:rPr>
              <a:t>ATTC Mi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058"/>
                </a:solidFill>
                <a:latin typeface="Calibri"/>
              </a:rPr>
              <a:t>What is the science behind technology transf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914400" y="1066680"/>
            <a:ext cx="7048440" cy="5464440"/>
            <a:chOff x="914400" y="1066680"/>
            <a:chExt cx="7048440" cy="5464440"/>
          </a:xfrm>
        </p:grpSpPr>
        <p:pic>
          <p:nvPicPr>
            <p:cNvPr id="199" name="Picture 3" descr=""/>
            <p:cNvPicPr/>
            <p:nvPr/>
          </p:nvPicPr>
          <p:blipFill>
            <a:blip r:embed="rId1"/>
            <a:stretch/>
          </p:blipFill>
          <p:spPr>
            <a:xfrm>
              <a:off x="1180800" y="1295280"/>
              <a:ext cx="6782040" cy="523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4"/>
            <p:cNvSpPr/>
            <p:nvPr/>
          </p:nvSpPr>
          <p:spPr>
            <a:xfrm>
              <a:off x="914400" y="1066680"/>
              <a:ext cx="53316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09480" y="2971800"/>
            <a:ext cx="2210040" cy="12193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28980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3352680" y="2971800"/>
            <a:ext cx="2210040" cy="12193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ffici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5658840" y="34243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172200" y="2971800"/>
            <a:ext cx="2209680" cy="12193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tainab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2133720" y="594360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http://sisep.fpg.unc.edu/learning-zone/science-of-implementatio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058"/>
                </a:solidFill>
                <a:latin typeface="Calibri"/>
              </a:rPr>
              <a:t>How to Improve 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609480" y="2971800"/>
            <a:ext cx="2210040" cy="12193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058"/>
                </a:solidFill>
                <a:latin typeface="Calibri"/>
              </a:rPr>
              <a:t>How to Improve 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ight Arrow 1"/>
          <p:cNvSpPr/>
          <p:nvPr/>
        </p:nvSpPr>
        <p:spPr>
          <a:xfrm>
            <a:off x="2925720" y="3311640"/>
            <a:ext cx="685800" cy="5331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19160" y="2209320"/>
            <a:ext cx="5195880" cy="41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58"/>
                </a:solidFill>
                <a:latin typeface="Calibri"/>
              </a:rPr>
              <a:t>Sources of Evidence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3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58"/>
                </a:solidFill>
                <a:latin typeface="Calibri"/>
              </a:rPr>
              <a:t>The Cochrane Collaboration (standard sett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3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58"/>
                </a:solidFill>
                <a:latin typeface="Calibri"/>
              </a:rPr>
              <a:t>National Registry of Evidence-based Programs &amp; Practices (SAMHSA rating &amp; classification syste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3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58"/>
                </a:solidFill>
                <a:latin typeface="Calibri"/>
              </a:rPr>
              <a:t>AHRQ Evidence-based Practice Cen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3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58"/>
                </a:solidFill>
                <a:latin typeface="Calibri"/>
              </a:rPr>
              <a:t>US Preventive Services Task Force (clinic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3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58"/>
                </a:solidFill>
                <a:latin typeface="Calibri"/>
              </a:rPr>
              <a:t>The Community Preventive Services Task Force (community “guides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3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7162920" y="5029200"/>
            <a:ext cx="116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ctor,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09480" y="2367000"/>
            <a:ext cx="2210040" cy="12193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2898000" y="2824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352680" y="2367000"/>
            <a:ext cx="2210040" cy="12193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Ineffectiv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Insuffic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5658840" y="28209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172200" y="2367000"/>
            <a:ext cx="2209680" cy="12193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nsist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ustainab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058"/>
                </a:solidFill>
                <a:latin typeface="Calibri"/>
              </a:rPr>
              <a:t>But … The Implementation G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685880" y="368460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http://sisep.fpg.unc.edu/learning-zone/science-of-implementatio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725400" y="4114800"/>
            <a:ext cx="7693200" cy="212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16:21:18Z</dcterms:created>
  <dc:creator>Hobbs, Erin</dc:creator>
  <dc:description/>
  <dc:language>en-US</dc:language>
  <cp:lastModifiedBy>DCOM</cp:lastModifiedBy>
  <cp:lastPrinted>2014-01-07T21:11:58Z</cp:lastPrinted>
  <dcterms:modified xsi:type="dcterms:W3CDTF">2017-08-01T00:45:17Z</dcterms:modified>
  <cp:revision>171</cp:revision>
  <dc:subject/>
  <dc:title>PowerPoint Presentation</dc:title>
</cp:coreProperties>
</file>