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E42B-6362-46AF-935B-7BD796DE6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F2E5-3AC9-49C1-A239-8213F5F4A1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 does it take to get people headed in a different dire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839A-156A-45B7-A63A-5ADACB5DC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 for Analyzing the Adoption of InnovationsExamples of attributes that influence the adoption of innovations include (1) environment (policies, market structure, incentives, network structure); (2) organization (structure, resources, capabilities, professional network structure); (3) innovation (quality of evidence, financial attributes, modes of delivery); and (4) implementation (incentives, management processes, use of peer norm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83AB-28F8-4CA1-AA72-35EE625766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Laur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613C-5367-47B7-9AA3-9E5943BEDF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to pract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D59F-E7B7-41F9-B29F-E500600182F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238C-B2B5-47E3-AF2C-37BAD0253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FD2B-F129-4A28-80E9-06C03875D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we have an implementation gap, where we have effective interventions, but if attention isn’t paid to how they’re implemented, then those interventions do not result in positive outcomes for pat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4ACE-661E-4C6D-A908-57C70AD3D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659-C980-4EAD-9896-335A23E8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78D-2443-4983-A95E-649A876C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D4B-DD4A-4EA7-B6BC-8CBAB891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976-CF2A-403F-AD3C-0BD1E433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AB5D-FAAD-4227-A3B2-137AAE67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9897-9253-4C17-A353-496AF814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D5F2-BAA7-47E6-AD79-061D8493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8457-017E-405F-83FF-F3476C2A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CE35-2793-4DB4-ABA5-395349A4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C7FB-5F0F-45BF-8B6A-0A5A9D1F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F1C0-62C8-4FB0-A2BD-B5A7A334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AB0-5A98-4DF9-9365-0FF52B9D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E254-DD81-4A45-B229-7AC51C1C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D958-BF3E-4BFE-802C-D994DC5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3572-E951-4BBC-B4E6-FF1456F6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54C9-DCA7-4070-A6A9-0DBBA2CD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8802-DFED-4EC3-8B19-58DA5435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2C60F-CDAB-4DF7-9F02-BCF8193F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5E11-3D4B-4100-8F5C-F1DE4CCD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2CFD-A7EC-4493-A84E-F0DDB92C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8AEF-3638-450A-99DF-2A8F9E8B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D372F-D47C-479E-959E-4891764E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4A0-D1AA-4BC9-A1FA-ADA78538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68F18-6AD9-45E3-813A-DF15E993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214D-C201-4C86-91A7-34113A5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A868-8723-4D0B-A420-82C2B607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FC45-6C27-4F8D-8B15-DB20B14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ED42-A41F-489B-9697-5028F1BC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F11A-2BC9-44E4-B448-44F024C7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2029-F6FD-47A6-B52E-BA60B3D9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F51C7-96F9-4E2E-AC61-327922E5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AF37-62A9-4021-A64D-79712C9F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A4E2-5027-4D10-AC3D-F5962362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53F-63F4-4491-9AA3-8549CB36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AD25-37A4-4EBF-AF53-1281D913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A331-1820-43E6-B582-BF9DE936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160DC-B552-4947-BB08-5DFF09E2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1D253-3EBB-4559-98DC-60657E2F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C5F91-D406-4D18-A019-A5E7FFCA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3771-E5D6-4E70-94FB-4C1CED6D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CDBF-CAB4-45DB-BF75-4A56D0B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3DA80-E925-4BDE-A1F7-FB768FA3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D4A3-B152-4955-AB85-21B42849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73B-8A27-4303-AC89-D53BF076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86C-0443-4F37-B596-19C14683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57E-313B-43A4-A6D5-A2632AC1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C38-E4B3-4AEF-9D06-19B10A03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B5B-D679-4B2F-B69C-62A50862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4D7-6649-4328-8C50-B2AFE06DA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9D64-18E2-405B-8E3B-B7E1FFC6AB9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NudeNO.1color gray.jpg"/>
          <p:cNvPicPr/>
          <p:nvPr/>
        </p:nvPicPr>
        <p:blipFill>
          <a:blip r:embed="rId2"/>
          <a:stretch/>
        </p:blipFill>
        <p:spPr>
          <a:xfrm>
            <a:off x="536400" y="1450800"/>
            <a:ext cx="8607600" cy="540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SAMHSAlogo_grey.jpg"/>
          <p:cNvPicPr/>
          <p:nvPr/>
        </p:nvPicPr>
        <p:blipFill>
          <a:blip r:embed="rId3"/>
          <a:stretch/>
        </p:blipFill>
        <p:spPr>
          <a:xfrm>
            <a:off x="6858000" y="6084720"/>
            <a:ext cx="2092320" cy="64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ORZ.2color PMS.jpg"/>
          <p:cNvPicPr/>
          <p:nvPr/>
        </p:nvPicPr>
        <p:blipFill>
          <a:blip r:embed="rId4"/>
          <a:stretch/>
        </p:blipFill>
        <p:spPr>
          <a:xfrm>
            <a:off x="762120" y="457200"/>
            <a:ext cx="6476760" cy="101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attc-colorbar.jpg"/>
          <p:cNvPicPr/>
          <p:nvPr/>
        </p:nvPicPr>
        <p:blipFill>
          <a:blip r:embed="rId5">
            <a:lum bright="2000"/>
          </a:blip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899D-4FA8-4F27-96BB-9EB978F43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0" y="6324480"/>
            <a:ext cx="9144000" cy="609840"/>
          </a:xfrm>
          <a:prstGeom prst="rect">
            <a:avLst/>
          </a:prstGeom>
          <a:solidFill>
            <a:srgbClr val="003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" descr="HORZ.1color blue.jpg"/>
          <p:cNvPicPr/>
          <p:nvPr/>
        </p:nvPicPr>
        <p:blipFill>
          <a:blip r:embed="rId2"/>
          <a:stretch/>
        </p:blipFill>
        <p:spPr>
          <a:xfrm>
            <a:off x="152280" y="76320"/>
            <a:ext cx="438480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SAMHSA_logo_white-transparentbg.gif"/>
          <p:cNvPicPr/>
          <p:nvPr/>
        </p:nvPicPr>
        <p:blipFill>
          <a:blip r:embed="rId3"/>
          <a:stretch/>
        </p:blipFill>
        <p:spPr>
          <a:xfrm>
            <a:off x="7315200" y="6324480"/>
            <a:ext cx="1752480" cy="54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attc-colorbar.jpg"/>
          <p:cNvPicPr/>
          <p:nvPr/>
        </p:nvPicPr>
        <p:blipFill>
          <a:blip r:embed="rId4"/>
          <a:stretch/>
        </p:blipFill>
        <p:spPr>
          <a:xfrm>
            <a:off x="0" y="838080"/>
            <a:ext cx="9144000" cy="76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9A2A-8BDC-4FC8-9642-B2A9B608A4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kromL@umkc.edu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058"/>
                </a:solidFill>
                <a:latin typeface="Calibri"/>
                <a:ea typeface="Arial"/>
              </a:rPr>
              <a:t>Mạng lưới Trung tâm Chuyển Giao Công Nghệ Điều trị Nghiện Chất (ATTC Networ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590920" y="5105520"/>
            <a:ext cx="4572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58"/>
                </a:solidFill>
                <a:latin typeface="Calibri"/>
                <a:ea typeface="Arial"/>
              </a:rPr>
              <a:t>ThS. Laurie K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  <a:ea typeface="Arial"/>
              </a:rPr>
              <a:t>Giám Đốc Văn Phòng Điều Phố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  <a:ea typeface="Arial"/>
              </a:rPr>
              <a:t>Mạng lưới AT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181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Vậy phải làm như thế nào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0" y="687240"/>
            <a:ext cx="9144000" cy="53208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Placeholder 2"/>
          <p:cNvSpPr/>
          <p:nvPr/>
        </p:nvSpPr>
        <p:spPr>
          <a:xfrm>
            <a:off x="0" y="69228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guồn: Thực hiện chương trình theo khoa học: Một chất xúc tác tiền năng giúp cải tiến hệ thống phân phối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Placeholder 2"/>
          <p:cNvSpPr/>
          <p:nvPr/>
        </p:nvSpPr>
        <p:spPr>
          <a:xfrm>
            <a:off x="0" y="101124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MA. 2016;315(4):339-340. doi:10.1001/jama.2015.179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traight Connector 5"/>
          <p:cNvSpPr/>
          <p:nvPr/>
        </p:nvSpPr>
        <p:spPr>
          <a:xfrm>
            <a:off x="0" y="666720"/>
            <a:ext cx="9144000" cy="0"/>
          </a:xfrm>
          <a:prstGeom prst="line">
            <a:avLst/>
          </a:prstGeom>
          <a:ln w="38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8" descr=""/>
          <p:cNvPicPr/>
          <p:nvPr/>
        </p:nvPicPr>
        <p:blipFill>
          <a:blip r:embed="rId1"/>
          <a:stretch/>
        </p:blipFill>
        <p:spPr>
          <a:xfrm>
            <a:off x="254160" y="127080"/>
            <a:ext cx="2641320" cy="419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Cover"/>
          <p:cNvPicPr/>
          <p:nvPr/>
        </p:nvPicPr>
        <p:blipFill>
          <a:blip r:embed="rId2"/>
          <a:stretch/>
        </p:blipFill>
        <p:spPr>
          <a:xfrm>
            <a:off x="838080" y="1273320"/>
            <a:ext cx="7086600" cy="54576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4"/>
          <p:cNvSpPr/>
          <p:nvPr/>
        </p:nvSpPr>
        <p:spPr>
          <a:xfrm>
            <a:off x="6291360" y="6500880"/>
            <a:ext cx="3200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Copyright © 2017 American Medical Association. All rights reserv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Date Placeholder 3"/>
          <p:cNvSpPr/>
          <p:nvPr/>
        </p:nvSpPr>
        <p:spPr>
          <a:xfrm>
            <a:off x="0" y="6648480"/>
            <a:ext cx="25401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63360" anchor="ctr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Date of download:  1/8/201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"/>
          <p:cNvSpPr/>
          <p:nvPr/>
        </p:nvSpPr>
        <p:spPr>
          <a:xfrm>
            <a:off x="2949480" y="1859040"/>
            <a:ext cx="2895840" cy="368280"/>
          </a:xfrm>
          <a:prstGeom prst="rect">
            <a:avLst/>
          </a:prstGeom>
          <a:solidFill>
            <a:srgbClr val="eaf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ôi trường bên ngoà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2855880" y="2589120"/>
            <a:ext cx="3146400" cy="368280"/>
          </a:xfrm>
          <a:prstGeom prst="rect">
            <a:avLst/>
          </a:prstGeom>
          <a:solidFill>
            <a:srgbClr val="eaf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Đặc tính của tổ chứ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281560" y="3311640"/>
            <a:ext cx="2236680" cy="642600"/>
          </a:xfrm>
          <a:prstGeom prst="rect">
            <a:avLst/>
          </a:prstGeom>
          <a:solidFill>
            <a:srgbClr val="eaf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á trình thực hiệ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990720" y="3335400"/>
            <a:ext cx="2495520" cy="642600"/>
          </a:xfrm>
          <a:prstGeom prst="rect">
            <a:avLst/>
          </a:prstGeom>
          <a:solidFill>
            <a:srgbClr val="eaf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Đặc tính của sự đổi mớ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2629080" y="5538960"/>
            <a:ext cx="3504960" cy="1191240"/>
          </a:xfrm>
          <a:prstGeom prst="rect">
            <a:avLst/>
          </a:prstGeom>
          <a:solidFill>
            <a:srgbClr val="eaf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ác dụng lên hiệu suất hoạt độ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ất lượng dịch vụ chăm só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ết quả của bệnh nhâ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 phí dịch v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2066760" y="4390920"/>
            <a:ext cx="4332600" cy="642600"/>
          </a:xfrm>
          <a:prstGeom prst="rect">
            <a:avLst/>
          </a:prstGeom>
          <a:solidFill>
            <a:srgbClr val="fed7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ếp nhận đổi mới trong hệ thống phân phối dịch v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58"/>
                </a:solidFill>
                <a:latin typeface="Calibri"/>
              </a:rPr>
              <a:t>Promoting Action on Research Implementation in Health Services </a:t>
            </a:r>
            <a:r>
              <a:rPr b="0" lang="en-US" sz="2800" spc="-1" strike="noStrike">
                <a:solidFill>
                  <a:srgbClr val="003058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3058"/>
                </a:solidFill>
                <a:latin typeface="Calibri"/>
              </a:rPr>
              <a:t>i-PARIHS) Framewor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Diagram 1" descr=""/>
          <p:cNvPicPr/>
          <p:nvPr/>
        </p:nvPicPr>
        <p:blipFill>
          <a:blip r:embed="rId1"/>
          <a:stretch/>
        </p:blipFill>
        <p:spPr>
          <a:xfrm>
            <a:off x="1523880" y="1755720"/>
            <a:ext cx="6096240" cy="40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058"/>
                </a:solidFill>
                <a:latin typeface="Calibri"/>
              </a:rPr>
              <a:t>Tương la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18320" cy="3962520"/>
          </a:xfrm>
          <a:prstGeom prst="rect">
            <a:avLst/>
          </a:prstGeom>
          <a:ln w="0">
            <a:noFill/>
          </a:ln>
        </p:spPr>
      </p:pic>
      <p:sp>
        <p:nvSpPr>
          <p:cNvPr id="250" name="Text Placeholder 2"/>
          <p:cNvSpPr/>
          <p:nvPr/>
        </p:nvSpPr>
        <p:spPr>
          <a:xfrm>
            <a:off x="0" y="5353200"/>
            <a:ext cx="9144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gence of Implementation Science, Precision Medicine, and the Learning Health Care System A New Model for Biomedical Researc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MA. 2016;315(18):1941-1942. doi:10.1001/jama.2016.386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058"/>
                </a:solidFill>
                <a:latin typeface="Calibri"/>
              </a:rPr>
              <a:t>ATTCnetwork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676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ải miễn phí các tài nguyên tài liệ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hương trình đào tạ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ờ thông 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lide trình chiế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Khóa học/Sự kiện trực tuyến lưu tr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Và hơn thế nữa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058"/>
                </a:solidFill>
                <a:latin typeface="Calibri"/>
              </a:rPr>
              <a:t>Liên h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S. Laurie K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ám đốc chương trì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Đại học Missouri – Kansas CityUMK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ường Điều dưỡng và Nghiên cứu sức khỏ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romL@umkc.e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ĐT: (816) 235.69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FECD-FC2B-4183-A357-B3BD09290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04920" y="114300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4400"/>
                </a:solidFill>
                <a:latin typeface="Calibri"/>
                <a:ea typeface="Arial"/>
              </a:rPr>
              <a:t>Thành lập vào năm 1993 bởi SAMHSA, Mạng lưới ATTC </a:t>
            </a:r>
            <a:r>
              <a:rPr b="1" i="1" lang="en-US" sz="2800" spc="-1" strike="noStrike">
                <a:solidFill>
                  <a:srgbClr val="804400"/>
                </a:solidFill>
                <a:latin typeface="Calibri"/>
                <a:ea typeface="Arial"/>
              </a:rPr>
              <a:t>hiện tại</a:t>
            </a:r>
            <a:r>
              <a:rPr b="1" lang="en-US" sz="2800" spc="-1" strike="noStrike">
                <a:solidFill>
                  <a:srgbClr val="804400"/>
                </a:solidFill>
                <a:latin typeface="Calibri"/>
                <a:ea typeface="Arial"/>
              </a:rPr>
              <a:t> bao gồ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Văn phòng điều phố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0 Trung tâm theo khu vực địa lý tại Hoa K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4 Trung tâm tập trung theo lãnh vự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2 Trung tâm Xuất sắ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3 Trung tâm Quốc tế (do PEPFAR tài trợ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2 tại Việt Nam</a:t>
            </a: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tại Thái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98A9-B4F2-413B-B7A2-DCD59E22B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04920" y="114300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4400"/>
                </a:solidFill>
                <a:latin typeface="Calibri"/>
                <a:ea typeface="Arial"/>
              </a:rPr>
              <a:t>Bắt đầu từ Tháng 10/2017, Mạng lưới ATTC sẽ bao gồ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Văn phòng điều phố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0 Trung tâm theo khu vực địa lý tại Hoa K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5 Trung tâm quốc tế (do PEPFAR tài trợ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2 tại Việt Nam</a:t>
            </a: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tại Thái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tại Ukra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tại Nam Ph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67f"/>
                </a:solidFill>
                <a:latin typeface="Calibri"/>
              </a:rPr>
              <a:t>Sứ mệnh của AT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6330600" y="38862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Southern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Coa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57200" y="1143000"/>
            <a:ext cx="822960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Sứ mệnh của mạng lưới ATTC là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044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7f"/>
                </a:solidFill>
                <a:latin typeface="Calibri"/>
                <a:ea typeface="Arial"/>
              </a:rPr>
              <a:t>Thúc đẩy tiếp nhận, thực hiện các mô hình và dịch vụ điều trị nghiện và hồi phục dựa trên bằng chứng, mang kết quả khả qua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044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044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7f"/>
                </a:solidFill>
                <a:latin typeface="Calibri"/>
                <a:ea typeface="Arial"/>
              </a:rPr>
              <a:t>Nâng cao nhận thức, kiến thức và kỹ năng của đội ngũ nhân sự nhằm xác định nhu cầu của nhóm người gặp vấn đề sử dụng chất và/hoặc các rối loạn sức khỏe hành vi khác; v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044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044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7f"/>
                </a:solidFill>
                <a:latin typeface="Calibri"/>
                <a:ea typeface="Arial"/>
              </a:rPr>
              <a:t>Tạo dựng sự kết nối giữa những nhà nghiên cứu, nhân viên y tế, các nhà hoạch định chính sách, nhà tài trợ và cộng đồng người phục hồ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0922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67f"/>
                </a:solidFill>
                <a:latin typeface="Calibri"/>
                <a:ea typeface="Arial"/>
              </a:rPr>
              <a:t>Cách thức hoàn thành sứ mệnh của mạng lướ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84240" y="1765440"/>
            <a:ext cx="905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ạng lưới ATTC sử dụng một quy trình </a:t>
            </a:r>
            <a:r>
              <a:rPr b="1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chuyển giao công ngh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àn diện nhằm thúc đẩy sự lan rộng của các ý tưởng đổi mớ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6" descr="finaltechtransfergraphic.png"/>
          <p:cNvPicPr/>
          <p:nvPr/>
        </p:nvPicPr>
        <p:blipFill>
          <a:blip r:embed="rId1"/>
          <a:srcRect l="0" t="18250" r="0" b="8759"/>
          <a:stretch/>
        </p:blipFill>
        <p:spPr>
          <a:xfrm>
            <a:off x="-228600" y="3009960"/>
            <a:ext cx="9974160" cy="312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6" name="Title 1"/>
          <p:cNvSpPr/>
          <p:nvPr/>
        </p:nvSpPr>
        <p:spPr>
          <a:xfrm>
            <a:off x="4572000" y="0"/>
            <a:ext cx="4572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67f"/>
                </a:solidFill>
                <a:latin typeface="Calibri"/>
              </a:rPr>
              <a:t>Sứ mệnh của AT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2895480" y="3505320"/>
            <a:ext cx="2514600" cy="368280"/>
          </a:xfrm>
          <a:prstGeom prst="rect">
            <a:avLst/>
          </a:prstGeom>
          <a:solidFill>
            <a:srgbClr val="ccd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Chuyển giao công ngh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5105520" y="5257800"/>
            <a:ext cx="761760" cy="261360"/>
          </a:xfrm>
          <a:prstGeom prst="rect">
            <a:avLst/>
          </a:prstGeom>
          <a:solidFill>
            <a:srgbClr val="004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iếp nhậ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5867280" y="4932360"/>
            <a:ext cx="1600200" cy="398880"/>
          </a:xfrm>
          <a:prstGeom prst="rect">
            <a:avLst/>
          </a:prstGeom>
          <a:solidFill>
            <a:srgbClr val="004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iến hàn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1181160" y="4938840"/>
            <a:ext cx="1371600" cy="398880"/>
          </a:xfrm>
          <a:prstGeom prst="rect">
            <a:avLst/>
          </a:prstGeom>
          <a:solidFill>
            <a:srgbClr val="004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hát triể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2552760" y="5295960"/>
            <a:ext cx="990720" cy="261360"/>
          </a:xfrm>
          <a:prstGeom prst="rect">
            <a:avLst/>
          </a:prstGeom>
          <a:solidFill>
            <a:srgbClr val="004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ruyền đạt lạ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3543480" y="4952880"/>
            <a:ext cx="1562040" cy="398880"/>
          </a:xfrm>
          <a:prstGeom prst="rect">
            <a:avLst/>
          </a:prstGeom>
          <a:solidFill>
            <a:srgbClr val="4c7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hổ biế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058"/>
                </a:solidFill>
                <a:latin typeface="Calibri"/>
              </a:rPr>
              <a:t>Yếu tố then chốt đằng sau Sự Chuyển Giao Công Nghệ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 5"/>
          <p:cNvGrpSpPr/>
          <p:nvPr/>
        </p:nvGrpSpPr>
        <p:grpSpPr>
          <a:xfrm>
            <a:off x="914400" y="1066680"/>
            <a:ext cx="7048440" cy="5464440"/>
            <a:chOff x="914400" y="1066680"/>
            <a:chExt cx="7048440" cy="546444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1180800" y="1295280"/>
              <a:ext cx="6782040" cy="523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4"/>
            <p:cNvSpPr/>
            <p:nvPr/>
          </p:nvSpPr>
          <p:spPr>
            <a:xfrm>
              <a:off x="914400" y="1066680"/>
              <a:ext cx="5331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TextBox 1"/>
          <p:cNvSpPr/>
          <p:nvPr/>
        </p:nvSpPr>
        <p:spPr>
          <a:xfrm>
            <a:off x="914400" y="129528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á trình thay đổ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1181160" y="4714920"/>
            <a:ext cx="339084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ốt lắm, nhưng tôi nghĩ chúng ta cần cụ thể hơn một chút ở chỗ nà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5715000" y="1981080"/>
            <a:ext cx="129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à rồi kỳ tích xuất hiệ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609480" y="2971800"/>
            <a:ext cx="221004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ệp hiệu qu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28980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352680" y="2971800"/>
            <a:ext cx="221004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ực hiện hiệu quả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à đầy đ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5658840" y="34243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172200" y="2971800"/>
            <a:ext cx="220968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ết quả tố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ất quá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ền vữ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2133720" y="594360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m khảo: http://sisep.fpg.unc.edu/learning-zone/science-of-implementatio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058"/>
                </a:solidFill>
                <a:latin typeface="Calibri"/>
              </a:rPr>
              <a:t>Làm cách nào để cải thiện dịch vụ chăm só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2971800"/>
            <a:ext cx="221004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ệp hiệu qu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058"/>
                </a:solidFill>
                <a:latin typeface="Calibri"/>
              </a:rPr>
              <a:t>Làm cách nào để cải thiện dịch vụ chăm só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ight Arrow 1"/>
          <p:cNvSpPr/>
          <p:nvPr/>
        </p:nvSpPr>
        <p:spPr>
          <a:xfrm>
            <a:off x="2925720" y="3311640"/>
            <a:ext cx="68580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719160" y="2209320"/>
            <a:ext cx="519588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</a:rPr>
              <a:t>Cơ quan đánh giá Bằng chứ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</a:rPr>
              <a:t>Hợp tác Cochrane (đơn vị thiết lập tiêu chuẩ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</a:rPr>
              <a:t>Cơ quan đăng ký quốc gia về các chương trình và mô hình dựa trên bằng (hệ thống phân loại và xếp loại SAMH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3058"/>
                </a:solidFill>
                <a:latin typeface="Calibri"/>
                <a:ea typeface="Calibri"/>
              </a:rPr>
              <a:t>Các Trung tâm Nghiên cứu Mô hình dựa trên bằng chứng, thuộc Cơ quan Nghiên cứu và Quản lý Chất lượng chăm sóc sức khỏe (AHQ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</a:rPr>
              <a:t>Lực lượng đặc nhiệm Dịch vụ dự phòng Hoa Kỳ (Lâm sà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</a:rPr>
              <a:t>Lực lượng đặc nhiệm Dịch vụ dự phòng cho cộng đồng (do cộng đồng làm chủ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7010280" y="586728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ctor,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09480" y="2367000"/>
            <a:ext cx="221004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ệp hiệu qu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898000" y="2824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352680" y="2367000"/>
            <a:ext cx="221004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ực hiện khô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đầy đủ hoặ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ém hiệu qu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5658840" y="28209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172200" y="2367000"/>
            <a:ext cx="220968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ết quả kém, khô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ất quán, khô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ền vữ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058"/>
                </a:solidFill>
                <a:latin typeface="Calibri"/>
              </a:rPr>
              <a:t>Nhưng … Kẽ hở trong quá trình thực hiệ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685880" y="368460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o khảo: http://sisep.fpg.unc.edu/learning-zone/science-of-implementatio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725400" y="4114800"/>
            <a:ext cx="7693200" cy="212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6:21:18Z</dcterms:created>
  <dc:creator>Hobbs, Erin</dc:creator>
  <dc:description/>
  <dc:language>en-US</dc:language>
  <cp:lastModifiedBy>DCOM</cp:lastModifiedBy>
  <cp:lastPrinted>2014-01-07T21:11:58Z</cp:lastPrinted>
  <dcterms:modified xsi:type="dcterms:W3CDTF">2017-08-01T04:31:17Z</dcterms:modified>
  <cp:revision>180</cp:revision>
  <dc:subject/>
  <dc:title>PowerPoint Presentation</dc:title>
</cp:coreProperties>
</file>